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C6F-4D22-4D51-88F1-A9939D6E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4FE-9584-4737-9CEC-13430E3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6CD-F603-428B-A6D1-49B872DB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C73-84E8-422E-AA33-45A95CE0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E312-07D7-4EC4-97C1-5E99D5A3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0A1B-3111-45C6-BCA6-97E0C703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6741-F11E-4CED-8C7F-C9ED9A91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E803-1B33-43E0-86C5-00AD929F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BF78-1EF0-44A7-B565-B2C164D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F99-8833-4A0C-9F95-4AEB14F3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49F9-1C8C-4C92-B37B-E47ADDB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BE2-BFD2-4D12-874B-9323DB8D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9380-1809-4F7D-AA0B-2ECC53E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33E0-CF27-491A-8BA0-E5B5AE16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75FE-F023-49EA-938E-43E67D2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1553-B699-4381-A9F5-64417905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C523-4796-4797-8108-7778E313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3EC-EC1E-4CC5-8A74-CE7537CF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A30-13C4-44E5-B0DF-4CF8B577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B6D-70DE-4CE7-A5A7-85AEA72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27D-C820-4A5B-AA0F-F12D7B2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B2A-14F6-4A65-8BF6-1A66E3C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E2B-3BC4-460B-BDCA-A894D2A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4D0-759C-4128-9E7A-2F00EC0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801C-4907-484F-B4F3-570BA05E61C1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0EF4-5294-4E15-B595-D00BF5299FF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8DAD-6006-49CD-8B4B-3D9BE080FE5C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C9A6-A79B-40AC-A472-FA05E06A3757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590920"/>
            <a:ext cx="7924680" cy="520200"/>
          </a:xfrm>
          <a:prstGeom prst="rect">
            <a:avLst/>
          </a:prstGeom>
          <a:solidFill>
            <a:srgbClr val="f2e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Times New Roman"/>
              </a:rPr>
              <a:t>VALUTAZIONE RISCHIO LESIONE DA PRESSIONE sec. </a:t>
            </a:r>
            <a:r>
              <a:rPr b="1" lang="en-GB" sz="1400" spc="-1" strike="noStrike">
                <a:solidFill>
                  <a:srgbClr val="000080"/>
                </a:solidFill>
                <a:latin typeface="Verdana"/>
                <a:ea typeface="Times New Roman"/>
              </a:rPr>
              <a:t>Norton Plus–SCHED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50532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Effettuata da…………………….…..……………………. In data 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800600"/>
            <a:ext cx="2514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80"/>
                </a:solidFill>
                <a:latin typeface="Verdana"/>
              </a:rPr>
              <a:t>Applicare etichetta barec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80"/>
                </a:solidFill>
                <a:latin typeface="Verdana"/>
              </a:rPr>
              <a:t>                                    </a:t>
            </a:r>
            <a:r>
              <a:rPr b="1" lang="it-IT" sz="1400" spc="-1" strike="noStrike">
                <a:solidFill>
                  <a:srgbClr val="000080"/>
                </a:solidFill>
                <a:latin typeface="Verdana"/>
              </a:rPr>
              <a:t>LETTO N°………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95288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80"/>
                </a:solidFill>
                <a:latin typeface="Verdana"/>
              </a:rPr>
              <a:t>Data di ricovero……………………………..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80"/>
                </a:solidFill>
                <a:latin typeface="Verdana"/>
              </a:rPr>
              <a:t>Data di trasferimento in questa 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80"/>
                </a:solidFill>
                <a:latin typeface="Verdana"/>
              </a:rPr>
              <a:t>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9880"/>
            <a:ext cx="81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Descrizione della situazione clinic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 Unicode MS"/>
                <a:ea typeface="Arial Unicode MS"/>
              </a:rPr>
              <a:t>……………………………………………………………………………………………………………………</a:t>
            </a:r>
            <a:r>
              <a:rPr b="1" lang="en-US" sz="1400" spc="-1" strike="noStrike">
                <a:solidFill>
                  <a:srgbClr val="000080"/>
                </a:solidFill>
                <a:latin typeface="Arial Unicode MS"/>
                <a:ea typeface="Arial Unicode MS"/>
              </a:rPr>
              <a:t>..………………………………………………………………………………………………………………………..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295640" cy="11210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57200" y="380880"/>
            <a:ext cx="8457840" cy="2057400"/>
            <a:chOff x="457200" y="380880"/>
            <a:chExt cx="8457840" cy="2057400"/>
          </a:xfrm>
        </p:grpSpPr>
        <p:grpSp>
          <p:nvGrpSpPr>
            <p:cNvPr id="106" name=""/>
            <p:cNvGrpSpPr/>
            <p:nvPr/>
          </p:nvGrpSpPr>
          <p:grpSpPr>
            <a:xfrm>
              <a:off x="462600" y="384840"/>
              <a:ext cx="8446320" cy="2049480"/>
              <a:chOff x="462600" y="384840"/>
              <a:chExt cx="8446320" cy="20494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462600" y="384840"/>
                <a:ext cx="1564560" cy="2049480"/>
                <a:chOff x="462600" y="384840"/>
                <a:chExt cx="1564560" cy="20494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13720" y="384840"/>
                  <a:ext cx="1461600" cy="20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2600" y="384840"/>
                  <a:ext cx="1564560" cy="204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027520" y="384840"/>
                <a:ext cx="6881400" cy="2049480"/>
                <a:chOff x="2027520" y="384840"/>
                <a:chExt cx="6881400" cy="20494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2079360" y="385920"/>
                  <a:ext cx="6777360" cy="1971360"/>
                  <a:chOff x="2079360" y="385920"/>
                  <a:chExt cx="6777360" cy="197136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079360" y="385920"/>
                    <a:ext cx="6777360" cy="35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079360" y="862560"/>
                    <a:ext cx="6777360" cy="74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rebuchet MS"/>
                        <a:ea typeface="Times New Roman"/>
                      </a:rPr>
                      <a:t>Azienda Ospedaliera “G.Salvini” di Garbagnate M.s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079360" y="1518480"/>
                    <a:ext cx="677736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rebuchet MS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Verdana"/>
                        <a:ea typeface="Arial Unicode MS"/>
                      </a:rPr>
                      <a:t>P.O……………………………….….. U.O……………………………………………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"/>
                <p:cNvSpPr/>
                <p:nvPr/>
              </p:nvSpPr>
              <p:spPr>
                <a:xfrm>
                  <a:off x="2027520" y="384840"/>
                  <a:ext cx="6881400" cy="204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457200" y="380880"/>
              <a:ext cx="84578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3708-0550-4518-9015-EEEE61260B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DB3240-69D6-45CD-9F26-66E49A946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5" name=""/>
          <p:cNvGrpSpPr/>
          <p:nvPr/>
        </p:nvGrpSpPr>
        <p:grpSpPr>
          <a:xfrm>
            <a:off x="304920" y="228600"/>
            <a:ext cx="8533800" cy="6171840"/>
            <a:chOff x="304920" y="228600"/>
            <a:chExt cx="8533800" cy="6171840"/>
          </a:xfrm>
        </p:grpSpPr>
        <p:grpSp>
          <p:nvGrpSpPr>
            <p:cNvPr id="2396" name=""/>
            <p:cNvGrpSpPr/>
            <p:nvPr/>
          </p:nvGrpSpPr>
          <p:grpSpPr>
            <a:xfrm>
              <a:off x="309960" y="234000"/>
              <a:ext cx="8523000" cy="6159960"/>
              <a:chOff x="309960" y="234000"/>
              <a:chExt cx="8523000" cy="6159960"/>
            </a:xfrm>
          </p:grpSpPr>
          <p:grpSp>
            <p:nvGrpSpPr>
              <p:cNvPr id="2397" name=""/>
              <p:cNvGrpSpPr/>
              <p:nvPr/>
            </p:nvGrpSpPr>
            <p:grpSpPr>
              <a:xfrm>
                <a:off x="309960" y="234000"/>
                <a:ext cx="603360" cy="6159960"/>
                <a:chOff x="309960" y="234000"/>
                <a:chExt cx="603360" cy="615996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358560" y="234000"/>
                  <a:ext cx="505080" cy="61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II-I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09960" y="234000"/>
                  <a:ext cx="603360" cy="615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0" name=""/>
              <p:cNvGrpSpPr/>
              <p:nvPr/>
            </p:nvGrpSpPr>
            <p:grpSpPr>
              <a:xfrm>
                <a:off x="913680" y="234000"/>
                <a:ext cx="1235160" cy="818280"/>
                <a:chOff x="913680" y="234000"/>
                <a:chExt cx="1235160" cy="818280"/>
              </a:xfrm>
            </p:grpSpPr>
            <p:sp>
              <p:nvSpPr>
                <p:cNvPr id="2401" name=""/>
                <p:cNvSpPr/>
                <p:nvPr/>
              </p:nvSpPr>
              <p:spPr>
                <a:xfrm>
                  <a:off x="962280" y="234000"/>
                  <a:ext cx="113724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scara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*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913680" y="234000"/>
                  <a:ext cx="123516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3" name=""/>
              <p:cNvGrpSpPr/>
              <p:nvPr/>
            </p:nvGrpSpPr>
            <p:grpSpPr>
              <a:xfrm>
                <a:off x="2149200" y="234000"/>
                <a:ext cx="729720" cy="818280"/>
                <a:chOff x="2149200" y="234000"/>
                <a:chExt cx="729720" cy="81828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2198520" y="234000"/>
                  <a:ext cx="63108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2149200" y="234000"/>
                  <a:ext cx="72972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2879640" y="234000"/>
                <a:ext cx="1108800" cy="818280"/>
                <a:chOff x="2879640" y="234000"/>
                <a:chExt cx="1108800" cy="81828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2928240" y="234000"/>
                  <a:ext cx="101052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2879640" y="234000"/>
                  <a:ext cx="110880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9" name=""/>
              <p:cNvGrpSpPr/>
              <p:nvPr/>
            </p:nvGrpSpPr>
            <p:grpSpPr>
              <a:xfrm>
                <a:off x="3988800" y="234000"/>
                <a:ext cx="2751480" cy="818280"/>
                <a:chOff x="3988800" y="234000"/>
                <a:chExt cx="2751480" cy="81828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4037400" y="234000"/>
                  <a:ext cx="265356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ormgel + 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3988800" y="234000"/>
                  <a:ext cx="275148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6741000" y="234000"/>
                <a:ext cx="777240" cy="818280"/>
                <a:chOff x="6741000" y="234000"/>
                <a:chExt cx="777240" cy="81828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6790320" y="234000"/>
                  <a:ext cx="6786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2/24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6741000" y="234000"/>
                  <a:ext cx="77724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7518600" y="234000"/>
                <a:ext cx="1314360" cy="818280"/>
                <a:chOff x="7518600" y="234000"/>
                <a:chExt cx="1314360" cy="81828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7567200" y="234000"/>
                  <a:ext cx="121608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7518600" y="234000"/>
                  <a:ext cx="131436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913680" y="1052640"/>
                <a:ext cx="1235160" cy="818280"/>
                <a:chOff x="913680" y="1052640"/>
                <a:chExt cx="1235160" cy="81828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962280" y="1052640"/>
                  <a:ext cx="113724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morragica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*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913680" y="1052640"/>
                  <a:ext cx="123516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2149200" y="1052640"/>
                <a:ext cx="729720" cy="818280"/>
                <a:chOff x="2149200" y="1052640"/>
                <a:chExt cx="729720" cy="81828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2198520" y="1052640"/>
                  <a:ext cx="63108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149200" y="1052640"/>
                  <a:ext cx="72972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2879640" y="1052640"/>
                <a:ext cx="1108800" cy="818280"/>
                <a:chOff x="2879640" y="1052640"/>
                <a:chExt cx="1108800" cy="81828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2928240" y="1052640"/>
                  <a:ext cx="101052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879640" y="1052640"/>
                  <a:ext cx="110880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3988800" y="1052640"/>
                <a:ext cx="2751480" cy="818280"/>
                <a:chOff x="3988800" y="1052640"/>
                <a:chExt cx="2751480" cy="81828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4037400" y="1052640"/>
                  <a:ext cx="265356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elgisorb + Garza sterile + 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3988800" y="1052640"/>
                  <a:ext cx="275148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6741000" y="1052640"/>
                <a:ext cx="777240" cy="818280"/>
                <a:chOff x="6741000" y="1052640"/>
                <a:chExt cx="777240" cy="818280"/>
              </a:xfrm>
            </p:grpSpPr>
            <p:sp>
              <p:nvSpPr>
                <p:cNvPr id="2431" name=""/>
                <p:cNvSpPr/>
                <p:nvPr/>
              </p:nvSpPr>
              <p:spPr>
                <a:xfrm>
                  <a:off x="6790320" y="1052640"/>
                  <a:ext cx="6786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8/24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6741000" y="1052640"/>
                  <a:ext cx="77724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7518600" y="1052640"/>
                <a:ext cx="1314360" cy="818280"/>
                <a:chOff x="7518600" y="1052640"/>
                <a:chExt cx="1314360" cy="81828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7567200" y="1052640"/>
                  <a:ext cx="121608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7518600" y="1052640"/>
                  <a:ext cx="131436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913680" y="1871640"/>
                <a:ext cx="1235160" cy="961200"/>
                <a:chOff x="913680" y="1871640"/>
                <a:chExt cx="1235160" cy="96120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962280" y="1871640"/>
                  <a:ext cx="1137240" cy="9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ecrotica/slough o essudativa, o ricca di fibri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913680" y="1871640"/>
                  <a:ext cx="123516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2149200" y="1871640"/>
                <a:ext cx="729720" cy="961200"/>
                <a:chOff x="2149200" y="1871640"/>
                <a:chExt cx="729720" cy="96120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2198520" y="1871640"/>
                  <a:ext cx="631080" cy="9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2149200" y="1871640"/>
                  <a:ext cx="72972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2" name=""/>
              <p:cNvGrpSpPr/>
              <p:nvPr/>
            </p:nvGrpSpPr>
            <p:grpSpPr>
              <a:xfrm>
                <a:off x="2879640" y="1871640"/>
                <a:ext cx="1108800" cy="961200"/>
                <a:chOff x="2879640" y="1871640"/>
                <a:chExt cx="1108800" cy="96120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2928240" y="1871640"/>
                  <a:ext cx="1010520" cy="9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879640" y="1871640"/>
                  <a:ext cx="11088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3988800" y="1871640"/>
                <a:ext cx="2751480" cy="961200"/>
                <a:chOff x="3988800" y="1871640"/>
                <a:chExt cx="2751480" cy="96120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4037400" y="1871640"/>
                  <a:ext cx="2653560" cy="9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nadine + Aquacel + 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988800" y="1871640"/>
                  <a:ext cx="275148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6741000" y="1871640"/>
                <a:ext cx="777240" cy="961200"/>
                <a:chOff x="6741000" y="1871640"/>
                <a:chExt cx="777240" cy="96120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6790320" y="1871640"/>
                  <a:ext cx="678600" cy="9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2/24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741000" y="1871640"/>
                  <a:ext cx="77724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7518600" y="1871640"/>
                <a:ext cx="1314360" cy="961200"/>
                <a:chOff x="7518600" y="1871640"/>
                <a:chExt cx="1314360" cy="96120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7567200" y="1871640"/>
                  <a:ext cx="1216080" cy="9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7518600" y="1871640"/>
                  <a:ext cx="131436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913680" y="2833560"/>
                <a:ext cx="1235160" cy="960840"/>
                <a:chOff x="913680" y="2833560"/>
                <a:chExt cx="1235160" cy="96084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962280" y="2833560"/>
                  <a:ext cx="113724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ecrotica/slough o essudativa o  infetta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*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913680" y="2833560"/>
                  <a:ext cx="123516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2149200" y="2833560"/>
                <a:ext cx="729720" cy="960840"/>
                <a:chOff x="2149200" y="2833560"/>
                <a:chExt cx="729720" cy="96084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2198520" y="2833560"/>
                  <a:ext cx="63108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149200" y="2833560"/>
                  <a:ext cx="72972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0" name=""/>
              <p:cNvGrpSpPr/>
              <p:nvPr/>
            </p:nvGrpSpPr>
            <p:grpSpPr>
              <a:xfrm>
                <a:off x="2879640" y="2833560"/>
                <a:ext cx="1108800" cy="960840"/>
                <a:chOff x="2879640" y="2833560"/>
                <a:chExt cx="1108800" cy="96084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2928240" y="2833560"/>
                  <a:ext cx="101052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2879640" y="2833560"/>
                  <a:ext cx="110880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3988800" y="2833560"/>
                <a:ext cx="2751480" cy="960840"/>
                <a:chOff x="3988800" y="2833560"/>
                <a:chExt cx="2751480" cy="96084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4037400" y="2833560"/>
                  <a:ext cx="265356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lvercell/Acquacell Ag/Mepilex Ag/Acticoat + 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3988800" y="2833560"/>
                  <a:ext cx="275148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6741000" y="2833560"/>
                <a:ext cx="777240" cy="960840"/>
                <a:chOff x="6741000" y="2833560"/>
                <a:chExt cx="777240" cy="96084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6790320" y="2833560"/>
                  <a:ext cx="67860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2/48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741000" y="2833560"/>
                  <a:ext cx="77724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7518600" y="2833560"/>
                <a:ext cx="1314360" cy="960840"/>
                <a:chOff x="7518600" y="2833560"/>
                <a:chExt cx="1314360" cy="96084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7567200" y="2833560"/>
                  <a:ext cx="121608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518600" y="2833560"/>
                  <a:ext cx="131436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913680" y="3794760"/>
                <a:ext cx="1235160" cy="818640"/>
                <a:chOff x="913680" y="3794760"/>
                <a:chExt cx="1235160" cy="81864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962280" y="3794760"/>
                  <a:ext cx="113724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Granuleggiante con essuda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913680" y="3794760"/>
                  <a:ext cx="123516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2149200" y="3794760"/>
                <a:ext cx="729720" cy="818640"/>
                <a:chOff x="2149200" y="3794760"/>
                <a:chExt cx="729720" cy="81864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2198520" y="3794760"/>
                  <a:ext cx="63108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2149200" y="3794760"/>
                  <a:ext cx="72972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2879640" y="3794760"/>
                <a:ext cx="1108800" cy="818640"/>
                <a:chOff x="2879640" y="3794760"/>
                <a:chExt cx="1108800" cy="81864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2928240" y="3794760"/>
                  <a:ext cx="101052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</a:t>
                  </a:r>
                  <a:r>
                    <a:rPr b="0" lang="en-US" sz="10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°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2879640" y="3794760"/>
                  <a:ext cx="110880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3988800" y="3794760"/>
                <a:ext cx="2751480" cy="818640"/>
                <a:chOff x="3988800" y="3794760"/>
                <a:chExt cx="2751480" cy="81864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4037400" y="3794760"/>
                  <a:ext cx="265356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Atrauman+Aquacel+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3988800" y="3794760"/>
                  <a:ext cx="275148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6741000" y="3794760"/>
                <a:ext cx="777240" cy="818640"/>
                <a:chOff x="6741000" y="3794760"/>
                <a:chExt cx="777240" cy="81864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6790320" y="3794760"/>
                  <a:ext cx="67860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24/72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741000" y="3794760"/>
                  <a:ext cx="77724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7518600" y="3794760"/>
                <a:ext cx="1314360" cy="818640"/>
                <a:chOff x="7518600" y="3794760"/>
                <a:chExt cx="1314360" cy="81864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7567200" y="3794760"/>
                  <a:ext cx="121608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7518600" y="3794760"/>
                  <a:ext cx="131436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913680" y="4614120"/>
                <a:ext cx="1235160" cy="818280"/>
                <a:chOff x="913680" y="4614120"/>
                <a:chExt cx="1235160" cy="8182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962280" y="4614120"/>
                  <a:ext cx="113724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Granuleggia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913680" y="4614120"/>
                  <a:ext cx="123516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2149200" y="4614120"/>
                <a:ext cx="729720" cy="818280"/>
                <a:chOff x="2149200" y="4614120"/>
                <a:chExt cx="729720" cy="81828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2198520" y="4614120"/>
                  <a:ext cx="63108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2149200" y="4614120"/>
                  <a:ext cx="72972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2879640" y="4614120"/>
                <a:ext cx="1108800" cy="818280"/>
                <a:chOff x="2879640" y="4614120"/>
                <a:chExt cx="1108800" cy="81828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2928240" y="4614120"/>
                  <a:ext cx="101052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2879640" y="4614120"/>
                  <a:ext cx="110880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3988800" y="4614120"/>
                <a:ext cx="2751480" cy="818280"/>
                <a:chOff x="3988800" y="4614120"/>
                <a:chExt cx="2751480" cy="81828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4037400" y="4614120"/>
                  <a:ext cx="265356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epilex Ag + 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3988800" y="4614120"/>
                  <a:ext cx="275148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6741000" y="4614120"/>
                <a:ext cx="777240" cy="818280"/>
                <a:chOff x="6741000" y="4614120"/>
                <a:chExt cx="777240" cy="81828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6790320" y="4614120"/>
                  <a:ext cx="6786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7g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741000" y="4614120"/>
                  <a:ext cx="77724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7518600" y="4614120"/>
                <a:ext cx="1314360" cy="818280"/>
                <a:chOff x="7518600" y="4614120"/>
                <a:chExt cx="1314360" cy="81828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7567200" y="4614120"/>
                  <a:ext cx="121608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7518600" y="4614120"/>
                  <a:ext cx="131436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913680" y="5433120"/>
                <a:ext cx="1235160" cy="960840"/>
                <a:chOff x="913680" y="5433120"/>
                <a:chExt cx="1235160" cy="96084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962280" y="5433120"/>
                  <a:ext cx="113724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avitaria con abbondante essuda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913680" y="5433120"/>
                  <a:ext cx="123516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2149200" y="5433120"/>
                <a:ext cx="729720" cy="960840"/>
                <a:chOff x="2149200" y="5433120"/>
                <a:chExt cx="729720" cy="96084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2198520" y="5433120"/>
                  <a:ext cx="63108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2149200" y="5433120"/>
                  <a:ext cx="72972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2879640" y="5433120"/>
                <a:ext cx="1108800" cy="960840"/>
                <a:chOff x="2879640" y="5433120"/>
                <a:chExt cx="1108800" cy="960840"/>
              </a:xfrm>
            </p:grpSpPr>
            <p:sp>
              <p:nvSpPr>
                <p:cNvPr id="2515" name=""/>
                <p:cNvSpPr/>
                <p:nvPr/>
              </p:nvSpPr>
              <p:spPr>
                <a:xfrm>
                  <a:off x="2928240" y="5433120"/>
                  <a:ext cx="101052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2879640" y="5433120"/>
                  <a:ext cx="110880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3988800" y="5433120"/>
                <a:ext cx="2751480" cy="960840"/>
                <a:chOff x="3988800" y="5433120"/>
                <a:chExt cx="2751480" cy="96084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4037400" y="5433120"/>
                  <a:ext cx="265356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elgisorb cavità/Silvercel/Acquacel Ag + 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3988800" y="5433120"/>
                  <a:ext cx="275148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0" name=""/>
              <p:cNvGrpSpPr/>
              <p:nvPr/>
            </p:nvGrpSpPr>
            <p:grpSpPr>
              <a:xfrm>
                <a:off x="6741000" y="5433120"/>
                <a:ext cx="777240" cy="960840"/>
                <a:chOff x="6741000" y="5433120"/>
                <a:chExt cx="777240" cy="960840"/>
              </a:xfrm>
            </p:grpSpPr>
            <p:sp>
              <p:nvSpPr>
                <p:cNvPr id="2521" name=""/>
                <p:cNvSpPr/>
                <p:nvPr/>
              </p:nvSpPr>
              <p:spPr>
                <a:xfrm>
                  <a:off x="6790320" y="5433120"/>
                  <a:ext cx="67860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a gg alterni a 3-4 g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741000" y="5433120"/>
                  <a:ext cx="77724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7518600" y="5433120"/>
                <a:ext cx="1314360" cy="960840"/>
                <a:chOff x="7518600" y="5433120"/>
                <a:chExt cx="1314360" cy="96084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7567200" y="5433120"/>
                  <a:ext cx="121608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518600" y="5433120"/>
                  <a:ext cx="1314360" cy="96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6" name=""/>
            <p:cNvSpPr/>
            <p:nvPr/>
          </p:nvSpPr>
          <p:spPr>
            <a:xfrm>
              <a:off x="304920" y="228600"/>
              <a:ext cx="8533800" cy="6171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6A8-ED5D-425F-BFB6-772719E36C1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7E02D8-C501-4A9B-97FA-E95B080B91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7" name=""/>
          <p:cNvGrpSpPr/>
          <p:nvPr/>
        </p:nvGrpSpPr>
        <p:grpSpPr>
          <a:xfrm>
            <a:off x="2286000" y="1092240"/>
            <a:ext cx="5257440" cy="4674960"/>
            <a:chOff x="2286000" y="1092240"/>
            <a:chExt cx="5257440" cy="4674960"/>
          </a:xfrm>
        </p:grpSpPr>
        <p:grpSp>
          <p:nvGrpSpPr>
            <p:cNvPr id="2528" name=""/>
            <p:cNvGrpSpPr/>
            <p:nvPr/>
          </p:nvGrpSpPr>
          <p:grpSpPr>
            <a:xfrm>
              <a:off x="2293200" y="1096920"/>
              <a:ext cx="5241960" cy="4665600"/>
              <a:chOff x="2293200" y="1096920"/>
              <a:chExt cx="5241960" cy="4665600"/>
            </a:xfrm>
          </p:grpSpPr>
          <p:grpSp>
            <p:nvGrpSpPr>
              <p:cNvPr id="2529" name=""/>
              <p:cNvGrpSpPr/>
              <p:nvPr/>
            </p:nvGrpSpPr>
            <p:grpSpPr>
              <a:xfrm>
                <a:off x="2293200" y="1096920"/>
                <a:ext cx="5241960" cy="609480"/>
                <a:chOff x="2293200" y="1096920"/>
                <a:chExt cx="5241960" cy="60948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2293200" y="1096920"/>
                  <a:ext cx="5241960" cy="6094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1" name=""/>
                <p:cNvGrpSpPr/>
                <p:nvPr/>
              </p:nvGrpSpPr>
              <p:grpSpPr>
                <a:xfrm>
                  <a:off x="2293200" y="1096920"/>
                  <a:ext cx="5241600" cy="609480"/>
                  <a:chOff x="2293200" y="1096920"/>
                  <a:chExt cx="5241600" cy="609480"/>
                </a:xfrm>
              </p:grpSpPr>
              <p:sp>
                <p:nvSpPr>
                  <p:cNvPr id="2532" name=""/>
                  <p:cNvSpPr/>
                  <p:nvPr/>
                </p:nvSpPr>
                <p:spPr>
                  <a:xfrm>
                    <a:off x="2363040" y="1096920"/>
                    <a:ext cx="5100840" cy="6094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LEGENDA: Descrizione cute perilesional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2293200" y="1096920"/>
                    <a:ext cx="52416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34" name=""/>
              <p:cNvGrpSpPr/>
              <p:nvPr/>
            </p:nvGrpSpPr>
            <p:grpSpPr>
              <a:xfrm>
                <a:off x="2293200" y="1706400"/>
                <a:ext cx="3108600" cy="579600"/>
                <a:chOff x="2293200" y="1706400"/>
                <a:chExt cx="3108600" cy="57960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2363040" y="1706400"/>
                  <a:ext cx="29682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ritemato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2293200" y="1706400"/>
                  <a:ext cx="31086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5402160" y="1706400"/>
                <a:ext cx="2133000" cy="579600"/>
                <a:chOff x="5402160" y="1706400"/>
                <a:chExt cx="2133000" cy="57960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5472720" y="1706400"/>
                  <a:ext cx="19915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5402160" y="1706400"/>
                  <a:ext cx="21330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0" name=""/>
              <p:cNvGrpSpPr/>
              <p:nvPr/>
            </p:nvGrpSpPr>
            <p:grpSpPr>
              <a:xfrm>
                <a:off x="2293200" y="2286000"/>
                <a:ext cx="3108600" cy="579240"/>
                <a:chOff x="2293200" y="2286000"/>
                <a:chExt cx="3108600" cy="579240"/>
              </a:xfrm>
            </p:grpSpPr>
            <p:sp>
              <p:nvSpPr>
                <p:cNvPr id="2541" name=""/>
                <p:cNvSpPr/>
                <p:nvPr/>
              </p:nvSpPr>
              <p:spPr>
                <a:xfrm>
                  <a:off x="2363040" y="2286000"/>
                  <a:ext cx="29682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nteg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2293200" y="2286000"/>
                  <a:ext cx="310860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3" name=""/>
              <p:cNvGrpSpPr/>
              <p:nvPr/>
            </p:nvGrpSpPr>
            <p:grpSpPr>
              <a:xfrm>
                <a:off x="5402160" y="2286000"/>
                <a:ext cx="2133000" cy="579240"/>
                <a:chOff x="5402160" y="2286000"/>
                <a:chExt cx="2133000" cy="57924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5472720" y="2286000"/>
                  <a:ext cx="19915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5402160" y="2286000"/>
                  <a:ext cx="213300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2293200" y="2865240"/>
                <a:ext cx="3108600" cy="579600"/>
                <a:chOff x="2293200" y="2865240"/>
                <a:chExt cx="3108600" cy="57960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2363040" y="2865240"/>
                  <a:ext cx="29682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ec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2293200" y="2865240"/>
                  <a:ext cx="31086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5402160" y="2865240"/>
                <a:ext cx="2133000" cy="579600"/>
                <a:chOff x="5402160" y="2865240"/>
                <a:chExt cx="2133000" cy="57960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5472720" y="2865240"/>
                  <a:ext cx="19915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5402160" y="2865240"/>
                  <a:ext cx="21330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2" name=""/>
              <p:cNvGrpSpPr/>
              <p:nvPr/>
            </p:nvGrpSpPr>
            <p:grpSpPr>
              <a:xfrm>
                <a:off x="2293200" y="3444840"/>
                <a:ext cx="3108600" cy="579600"/>
                <a:chOff x="2293200" y="3444840"/>
                <a:chExt cx="3108600" cy="579600"/>
              </a:xfrm>
            </p:grpSpPr>
            <p:sp>
              <p:nvSpPr>
                <p:cNvPr id="2553" name=""/>
                <p:cNvSpPr/>
                <p:nvPr/>
              </p:nvSpPr>
              <p:spPr>
                <a:xfrm>
                  <a:off x="2363040" y="3444840"/>
                  <a:ext cx="29682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acer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2293200" y="3444840"/>
                  <a:ext cx="31086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5" name=""/>
              <p:cNvGrpSpPr/>
              <p:nvPr/>
            </p:nvGrpSpPr>
            <p:grpSpPr>
              <a:xfrm>
                <a:off x="5402160" y="3444840"/>
                <a:ext cx="2133000" cy="579600"/>
                <a:chOff x="5402160" y="3444840"/>
                <a:chExt cx="2133000" cy="57960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5472720" y="3444840"/>
                  <a:ext cx="19915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5402160" y="3444840"/>
                  <a:ext cx="21330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8" name=""/>
              <p:cNvGrpSpPr/>
              <p:nvPr/>
            </p:nvGrpSpPr>
            <p:grpSpPr>
              <a:xfrm>
                <a:off x="2293200" y="4024440"/>
                <a:ext cx="3108600" cy="579240"/>
                <a:chOff x="2293200" y="4024440"/>
                <a:chExt cx="3108600" cy="57924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2363040" y="4024440"/>
                  <a:ext cx="29682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demato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2293200" y="4024440"/>
                  <a:ext cx="310860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5402160" y="4024440"/>
                <a:ext cx="2133000" cy="579240"/>
                <a:chOff x="5402160" y="4024440"/>
                <a:chExt cx="2133000" cy="57924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5472720" y="4024440"/>
                  <a:ext cx="19915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5402160" y="4024440"/>
                  <a:ext cx="213300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2293200" y="4603680"/>
                <a:ext cx="3108600" cy="579600"/>
                <a:chOff x="2293200" y="4603680"/>
                <a:chExt cx="3108600" cy="57960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2363040" y="4603680"/>
                  <a:ext cx="29682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pere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2293200" y="4603680"/>
                  <a:ext cx="31086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5402160" y="4603680"/>
                <a:ext cx="2133000" cy="579600"/>
                <a:chOff x="5402160" y="4603680"/>
                <a:chExt cx="2133000" cy="57960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5472720" y="4603680"/>
                  <a:ext cx="19915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5402160" y="4603680"/>
                  <a:ext cx="21330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2293200" y="5183280"/>
                <a:ext cx="3108600" cy="579240"/>
                <a:chOff x="2293200" y="5183280"/>
                <a:chExt cx="3108600" cy="57924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2363040" y="5183280"/>
                  <a:ext cx="29682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esquam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2293200" y="5183280"/>
                  <a:ext cx="310860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5402160" y="5183280"/>
                <a:ext cx="2133000" cy="579240"/>
                <a:chOff x="5402160" y="5183280"/>
                <a:chExt cx="2133000" cy="57924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472720" y="5183280"/>
                  <a:ext cx="19915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5402160" y="5183280"/>
                  <a:ext cx="213300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6" name=""/>
            <p:cNvSpPr/>
            <p:nvPr/>
          </p:nvSpPr>
          <p:spPr>
            <a:xfrm>
              <a:off x="2286000" y="1092240"/>
              <a:ext cx="5257440" cy="4674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1F22-81F5-400C-B4BD-15D4D1535A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421D569-96EE-4AC8-A283-B55E5C4C2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7" name=""/>
          <p:cNvGrpSpPr/>
          <p:nvPr/>
        </p:nvGrpSpPr>
        <p:grpSpPr>
          <a:xfrm>
            <a:off x="533520" y="457200"/>
            <a:ext cx="8229240" cy="2463840"/>
            <a:chOff x="533520" y="457200"/>
            <a:chExt cx="8229240" cy="2463840"/>
          </a:xfrm>
        </p:grpSpPr>
        <p:grpSp>
          <p:nvGrpSpPr>
            <p:cNvPr id="2578" name=""/>
            <p:cNvGrpSpPr/>
            <p:nvPr/>
          </p:nvGrpSpPr>
          <p:grpSpPr>
            <a:xfrm>
              <a:off x="538200" y="461160"/>
              <a:ext cx="8219160" cy="2454840"/>
              <a:chOff x="538200" y="461160"/>
              <a:chExt cx="8219160" cy="2454840"/>
            </a:xfrm>
          </p:grpSpPr>
          <p:grpSp>
            <p:nvGrpSpPr>
              <p:cNvPr id="2579" name=""/>
              <p:cNvGrpSpPr/>
              <p:nvPr/>
            </p:nvGrpSpPr>
            <p:grpSpPr>
              <a:xfrm>
                <a:off x="538200" y="461160"/>
                <a:ext cx="3313800" cy="641880"/>
                <a:chOff x="538200" y="461160"/>
                <a:chExt cx="3313800" cy="64188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583560" y="461160"/>
                  <a:ext cx="3222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DATA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538200" y="461160"/>
                  <a:ext cx="331380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3852360" y="461160"/>
                <a:ext cx="4905000" cy="641880"/>
                <a:chOff x="3852360" y="461160"/>
                <a:chExt cx="4905000" cy="64188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3897720" y="461160"/>
                  <a:ext cx="48142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FIRMA INFERMIERE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3852360" y="461160"/>
                  <a:ext cx="490500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538200" y="1103040"/>
                <a:ext cx="1969560" cy="641880"/>
                <a:chOff x="538200" y="1103040"/>
                <a:chExt cx="1969560" cy="641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38200" y="1103040"/>
                  <a:ext cx="196956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7" name=""/>
                <p:cNvGrpSpPr/>
                <p:nvPr/>
              </p:nvGrpSpPr>
              <p:grpSpPr>
                <a:xfrm>
                  <a:off x="538200" y="1103040"/>
                  <a:ext cx="1969200" cy="641880"/>
                  <a:chOff x="538200" y="1103040"/>
                  <a:chExt cx="1969200" cy="641880"/>
                </a:xfrm>
              </p:grpSpPr>
              <p:sp>
                <p:nvSpPr>
                  <p:cNvPr id="2588" name=""/>
                  <p:cNvSpPr/>
                  <p:nvPr/>
                </p:nvSpPr>
                <p:spPr>
                  <a:xfrm>
                    <a:off x="583560" y="1103040"/>
                    <a:ext cx="187812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Sed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538200" y="1103040"/>
                    <a:ext cx="196920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0" name=""/>
              <p:cNvGrpSpPr/>
              <p:nvPr/>
            </p:nvGrpSpPr>
            <p:grpSpPr>
              <a:xfrm>
                <a:off x="2508120" y="1103040"/>
                <a:ext cx="1343520" cy="641880"/>
                <a:chOff x="2508120" y="1103040"/>
                <a:chExt cx="1343520" cy="64188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2508120" y="1103040"/>
                  <a:ext cx="134352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2" name=""/>
                <p:cNvGrpSpPr/>
                <p:nvPr/>
              </p:nvGrpSpPr>
              <p:grpSpPr>
                <a:xfrm>
                  <a:off x="2508120" y="1103040"/>
                  <a:ext cx="1343160" cy="641880"/>
                  <a:chOff x="2508120" y="1103040"/>
                  <a:chExt cx="1343160" cy="641880"/>
                </a:xfrm>
              </p:grpSpPr>
              <p:sp>
                <p:nvSpPr>
                  <p:cNvPr id="2593" name=""/>
                  <p:cNvSpPr/>
                  <p:nvPr/>
                </p:nvSpPr>
                <p:spPr>
                  <a:xfrm>
                    <a:off x="2553480" y="1103040"/>
                    <a:ext cx="125208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Stadi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2508120" y="1103040"/>
                    <a:ext cx="134316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5" name=""/>
              <p:cNvGrpSpPr/>
              <p:nvPr/>
            </p:nvGrpSpPr>
            <p:grpSpPr>
              <a:xfrm>
                <a:off x="3852360" y="1103040"/>
                <a:ext cx="1382400" cy="641880"/>
                <a:chOff x="3852360" y="1103040"/>
                <a:chExt cx="1382400" cy="641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3852360" y="1103040"/>
                  <a:ext cx="138240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7" name=""/>
                <p:cNvGrpSpPr/>
                <p:nvPr/>
              </p:nvGrpSpPr>
              <p:grpSpPr>
                <a:xfrm>
                  <a:off x="3852360" y="1103040"/>
                  <a:ext cx="1382040" cy="641880"/>
                  <a:chOff x="3852360" y="1103040"/>
                  <a:chExt cx="1382040" cy="641880"/>
                </a:xfrm>
              </p:grpSpPr>
              <p:sp>
                <p:nvSpPr>
                  <p:cNvPr id="2598" name=""/>
                  <p:cNvSpPr/>
                  <p:nvPr/>
                </p:nvSpPr>
                <p:spPr>
                  <a:xfrm>
                    <a:off x="3897720" y="1103040"/>
                    <a:ext cx="129132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Dimensione o Ampiezz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3852360" y="1103040"/>
                    <a:ext cx="138204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0" name=""/>
              <p:cNvGrpSpPr/>
              <p:nvPr/>
            </p:nvGrpSpPr>
            <p:grpSpPr>
              <a:xfrm>
                <a:off x="5235120" y="1103040"/>
                <a:ext cx="1499760" cy="641880"/>
                <a:chOff x="5235120" y="1103040"/>
                <a:chExt cx="1499760" cy="64188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5235120" y="1103040"/>
                  <a:ext cx="149976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2" name=""/>
                <p:cNvGrpSpPr/>
                <p:nvPr/>
              </p:nvGrpSpPr>
              <p:grpSpPr>
                <a:xfrm>
                  <a:off x="5235120" y="1103040"/>
                  <a:ext cx="1499400" cy="641880"/>
                  <a:chOff x="5235120" y="1103040"/>
                  <a:chExt cx="1499400" cy="641880"/>
                </a:xfrm>
              </p:grpSpPr>
              <p:sp>
                <p:nvSpPr>
                  <p:cNvPr id="2603" name=""/>
                  <p:cNvSpPr/>
                  <p:nvPr/>
                </p:nvSpPr>
                <p:spPr>
                  <a:xfrm>
                    <a:off x="5280480" y="1103040"/>
                    <a:ext cx="140832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Profondità e/o sottominatur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5235120" y="1103040"/>
                    <a:ext cx="149940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5" name=""/>
              <p:cNvGrpSpPr/>
              <p:nvPr/>
            </p:nvGrpSpPr>
            <p:grpSpPr>
              <a:xfrm>
                <a:off x="6735600" y="1103040"/>
                <a:ext cx="677880" cy="641880"/>
                <a:chOff x="6735600" y="1103040"/>
                <a:chExt cx="677880" cy="64188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6735600" y="1103040"/>
                  <a:ext cx="67788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7" name=""/>
                <p:cNvGrpSpPr/>
                <p:nvPr/>
              </p:nvGrpSpPr>
              <p:grpSpPr>
                <a:xfrm>
                  <a:off x="6735600" y="1103040"/>
                  <a:ext cx="677520" cy="641880"/>
                  <a:chOff x="6735600" y="1103040"/>
                  <a:chExt cx="677520" cy="641880"/>
                </a:xfrm>
              </p:grpSpPr>
              <p:sp>
                <p:nvSpPr>
                  <p:cNvPr id="2608" name=""/>
                  <p:cNvSpPr/>
                  <p:nvPr/>
                </p:nvSpPr>
                <p:spPr>
                  <a:xfrm>
                    <a:off x="6780960" y="1103040"/>
                    <a:ext cx="58680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Modell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6735600" y="1103040"/>
                    <a:ext cx="67752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0" name=""/>
              <p:cNvGrpSpPr/>
              <p:nvPr/>
            </p:nvGrpSpPr>
            <p:grpSpPr>
              <a:xfrm>
                <a:off x="7413840" y="1103040"/>
                <a:ext cx="1343520" cy="641880"/>
                <a:chOff x="7413840" y="1103040"/>
                <a:chExt cx="1343520" cy="64188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7413840" y="1103040"/>
                  <a:ext cx="134352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2" name=""/>
                <p:cNvGrpSpPr/>
                <p:nvPr/>
              </p:nvGrpSpPr>
              <p:grpSpPr>
                <a:xfrm>
                  <a:off x="7413840" y="1103040"/>
                  <a:ext cx="1343160" cy="641880"/>
                  <a:chOff x="7413840" y="1103040"/>
                  <a:chExt cx="1343160" cy="641880"/>
                </a:xfrm>
              </p:grpSpPr>
              <p:sp>
                <p:nvSpPr>
                  <p:cNvPr id="2613" name=""/>
                  <p:cNvSpPr/>
                  <p:nvPr/>
                </p:nvSpPr>
                <p:spPr>
                  <a:xfrm>
                    <a:off x="7459560" y="1103040"/>
                    <a:ext cx="125208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Cute perilesiona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7413840" y="1103040"/>
                    <a:ext cx="134316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5" name=""/>
              <p:cNvGrpSpPr/>
              <p:nvPr/>
            </p:nvGrpSpPr>
            <p:grpSpPr>
              <a:xfrm>
                <a:off x="538200" y="1744920"/>
                <a:ext cx="1969560" cy="585360"/>
                <a:chOff x="538200" y="1744920"/>
                <a:chExt cx="1969560" cy="5853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83560" y="1744920"/>
                  <a:ext cx="18784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Occip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538200" y="1744920"/>
                  <a:ext cx="19695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2508120" y="1744920"/>
                <a:ext cx="335160" cy="585360"/>
                <a:chOff x="2508120" y="1744920"/>
                <a:chExt cx="335160" cy="5853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2553480" y="174492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2508120" y="174492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2844000" y="1744920"/>
                <a:ext cx="335520" cy="585360"/>
                <a:chOff x="2844000" y="1744920"/>
                <a:chExt cx="335520" cy="5853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2889720" y="174492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2844000" y="174492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3180240" y="1744920"/>
                <a:ext cx="335160" cy="585360"/>
                <a:chOff x="3180240" y="1744920"/>
                <a:chExt cx="335160" cy="5853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3225600" y="174492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3180240" y="174492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7" name=""/>
              <p:cNvGrpSpPr/>
              <p:nvPr/>
            </p:nvGrpSpPr>
            <p:grpSpPr>
              <a:xfrm>
                <a:off x="3516120" y="1744920"/>
                <a:ext cx="335520" cy="585360"/>
                <a:chOff x="3516120" y="1744920"/>
                <a:chExt cx="335520" cy="585360"/>
              </a:xfrm>
            </p:grpSpPr>
            <p:sp>
              <p:nvSpPr>
                <p:cNvPr id="2628" name=""/>
                <p:cNvSpPr/>
                <p:nvPr/>
              </p:nvSpPr>
              <p:spPr>
                <a:xfrm>
                  <a:off x="3561840" y="174492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3516120" y="174492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0" name=""/>
              <p:cNvGrpSpPr/>
              <p:nvPr/>
            </p:nvGrpSpPr>
            <p:grpSpPr>
              <a:xfrm>
                <a:off x="3852360" y="1744920"/>
                <a:ext cx="1382400" cy="585360"/>
                <a:chOff x="3852360" y="1744920"/>
                <a:chExt cx="1382400" cy="585360"/>
              </a:xfrm>
            </p:grpSpPr>
            <p:sp>
              <p:nvSpPr>
                <p:cNvPr id="2631" name=""/>
                <p:cNvSpPr/>
                <p:nvPr/>
              </p:nvSpPr>
              <p:spPr>
                <a:xfrm>
                  <a:off x="3897720" y="1744920"/>
                  <a:ext cx="12916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3852360" y="1744920"/>
                  <a:ext cx="138240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3" name=""/>
              <p:cNvGrpSpPr/>
              <p:nvPr/>
            </p:nvGrpSpPr>
            <p:grpSpPr>
              <a:xfrm>
                <a:off x="5235120" y="1744920"/>
                <a:ext cx="1499760" cy="585360"/>
                <a:chOff x="5235120" y="1744920"/>
                <a:chExt cx="1499760" cy="585360"/>
              </a:xfrm>
            </p:grpSpPr>
            <p:sp>
              <p:nvSpPr>
                <p:cNvPr id="2634" name=""/>
                <p:cNvSpPr/>
                <p:nvPr/>
              </p:nvSpPr>
              <p:spPr>
                <a:xfrm>
                  <a:off x="5280480" y="1744920"/>
                  <a:ext cx="14086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5235120" y="1744920"/>
                  <a:ext cx="1499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6" name=""/>
              <p:cNvGrpSpPr/>
              <p:nvPr/>
            </p:nvGrpSpPr>
            <p:grpSpPr>
              <a:xfrm>
                <a:off x="6735600" y="1744920"/>
                <a:ext cx="677880" cy="585360"/>
                <a:chOff x="6735600" y="1744920"/>
                <a:chExt cx="677880" cy="58536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6780960" y="1744920"/>
                  <a:ext cx="58716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735600" y="1744920"/>
                  <a:ext cx="67788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9" name=""/>
              <p:cNvGrpSpPr/>
              <p:nvPr/>
            </p:nvGrpSpPr>
            <p:grpSpPr>
              <a:xfrm>
                <a:off x="7413840" y="1744920"/>
                <a:ext cx="335520" cy="585360"/>
                <a:chOff x="7413840" y="1744920"/>
                <a:chExt cx="335520" cy="58536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7459560" y="174492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7413840" y="174492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2" name=""/>
              <p:cNvGrpSpPr/>
              <p:nvPr/>
            </p:nvGrpSpPr>
            <p:grpSpPr>
              <a:xfrm>
                <a:off x="7750080" y="1744920"/>
                <a:ext cx="335160" cy="585360"/>
                <a:chOff x="7750080" y="1744920"/>
                <a:chExt cx="335160" cy="585360"/>
              </a:xfrm>
            </p:grpSpPr>
            <p:sp>
              <p:nvSpPr>
                <p:cNvPr id="2643" name=""/>
                <p:cNvSpPr/>
                <p:nvPr/>
              </p:nvSpPr>
              <p:spPr>
                <a:xfrm>
                  <a:off x="7795440" y="174492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7750080" y="174492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5" name=""/>
              <p:cNvGrpSpPr/>
              <p:nvPr/>
            </p:nvGrpSpPr>
            <p:grpSpPr>
              <a:xfrm>
                <a:off x="8085960" y="1744920"/>
                <a:ext cx="335520" cy="585360"/>
                <a:chOff x="8085960" y="1744920"/>
                <a:chExt cx="335520" cy="58536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8131680" y="174492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8085960" y="174492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8" name=""/>
              <p:cNvGrpSpPr/>
              <p:nvPr/>
            </p:nvGrpSpPr>
            <p:grpSpPr>
              <a:xfrm>
                <a:off x="8422200" y="1744920"/>
                <a:ext cx="335160" cy="585360"/>
                <a:chOff x="8422200" y="1744920"/>
                <a:chExt cx="335160" cy="58536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8467560" y="174492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8422200" y="174492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1" name=""/>
              <p:cNvGrpSpPr/>
              <p:nvPr/>
            </p:nvGrpSpPr>
            <p:grpSpPr>
              <a:xfrm>
                <a:off x="538200" y="2330640"/>
                <a:ext cx="1969560" cy="585360"/>
                <a:chOff x="538200" y="2330640"/>
                <a:chExt cx="1969560" cy="58536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583560" y="2330640"/>
                  <a:ext cx="18784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Scapola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538200" y="2330640"/>
                  <a:ext cx="19695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4" name=""/>
              <p:cNvGrpSpPr/>
              <p:nvPr/>
            </p:nvGrpSpPr>
            <p:grpSpPr>
              <a:xfrm>
                <a:off x="2508120" y="2330640"/>
                <a:ext cx="335160" cy="585360"/>
                <a:chOff x="2508120" y="2330640"/>
                <a:chExt cx="335160" cy="585360"/>
              </a:xfrm>
            </p:grpSpPr>
            <p:sp>
              <p:nvSpPr>
                <p:cNvPr id="2655" name=""/>
                <p:cNvSpPr/>
                <p:nvPr/>
              </p:nvSpPr>
              <p:spPr>
                <a:xfrm>
                  <a:off x="2553480" y="233064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2508120" y="233064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7" name=""/>
              <p:cNvGrpSpPr/>
              <p:nvPr/>
            </p:nvGrpSpPr>
            <p:grpSpPr>
              <a:xfrm>
                <a:off x="2844000" y="2330640"/>
                <a:ext cx="335520" cy="585360"/>
                <a:chOff x="2844000" y="2330640"/>
                <a:chExt cx="335520" cy="58536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2889720" y="233064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2844000" y="233064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0" name=""/>
              <p:cNvGrpSpPr/>
              <p:nvPr/>
            </p:nvGrpSpPr>
            <p:grpSpPr>
              <a:xfrm>
                <a:off x="3180240" y="2330640"/>
                <a:ext cx="335160" cy="585360"/>
                <a:chOff x="3180240" y="2330640"/>
                <a:chExt cx="335160" cy="585360"/>
              </a:xfrm>
            </p:grpSpPr>
            <p:sp>
              <p:nvSpPr>
                <p:cNvPr id="2661" name=""/>
                <p:cNvSpPr/>
                <p:nvPr/>
              </p:nvSpPr>
              <p:spPr>
                <a:xfrm>
                  <a:off x="3225600" y="233064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3180240" y="233064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3" name=""/>
              <p:cNvGrpSpPr/>
              <p:nvPr/>
            </p:nvGrpSpPr>
            <p:grpSpPr>
              <a:xfrm>
                <a:off x="3516120" y="2330640"/>
                <a:ext cx="335520" cy="585360"/>
                <a:chOff x="3516120" y="2330640"/>
                <a:chExt cx="335520" cy="585360"/>
              </a:xfrm>
            </p:grpSpPr>
            <p:sp>
              <p:nvSpPr>
                <p:cNvPr id="2664" name=""/>
                <p:cNvSpPr/>
                <p:nvPr/>
              </p:nvSpPr>
              <p:spPr>
                <a:xfrm>
                  <a:off x="3561840" y="233064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3516120" y="233064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3852360" y="2330640"/>
                <a:ext cx="1382400" cy="585360"/>
                <a:chOff x="3852360" y="2330640"/>
                <a:chExt cx="1382400" cy="58536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3897720" y="2330640"/>
                  <a:ext cx="12916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3852360" y="2330640"/>
                  <a:ext cx="138240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9" name=""/>
              <p:cNvGrpSpPr/>
              <p:nvPr/>
            </p:nvGrpSpPr>
            <p:grpSpPr>
              <a:xfrm>
                <a:off x="5235120" y="2330640"/>
                <a:ext cx="1499760" cy="585360"/>
                <a:chOff x="5235120" y="2330640"/>
                <a:chExt cx="1499760" cy="585360"/>
              </a:xfrm>
            </p:grpSpPr>
            <p:sp>
              <p:nvSpPr>
                <p:cNvPr id="2670" name=""/>
                <p:cNvSpPr/>
                <p:nvPr/>
              </p:nvSpPr>
              <p:spPr>
                <a:xfrm>
                  <a:off x="5280480" y="2330640"/>
                  <a:ext cx="14086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5235120" y="2330640"/>
                  <a:ext cx="1499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2" name=""/>
              <p:cNvGrpSpPr/>
              <p:nvPr/>
            </p:nvGrpSpPr>
            <p:grpSpPr>
              <a:xfrm>
                <a:off x="6735600" y="2330640"/>
                <a:ext cx="677880" cy="585360"/>
                <a:chOff x="6735600" y="2330640"/>
                <a:chExt cx="677880" cy="585360"/>
              </a:xfrm>
            </p:grpSpPr>
            <p:sp>
              <p:nvSpPr>
                <p:cNvPr id="2673" name=""/>
                <p:cNvSpPr/>
                <p:nvPr/>
              </p:nvSpPr>
              <p:spPr>
                <a:xfrm>
                  <a:off x="6780960" y="2330640"/>
                  <a:ext cx="58716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5600" y="2330640"/>
                  <a:ext cx="67788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5" name=""/>
              <p:cNvGrpSpPr/>
              <p:nvPr/>
            </p:nvGrpSpPr>
            <p:grpSpPr>
              <a:xfrm>
                <a:off x="7413840" y="2330640"/>
                <a:ext cx="335520" cy="585360"/>
                <a:chOff x="7413840" y="2330640"/>
                <a:chExt cx="335520" cy="58536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7459560" y="233064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7413840" y="233064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8" name=""/>
              <p:cNvGrpSpPr/>
              <p:nvPr/>
            </p:nvGrpSpPr>
            <p:grpSpPr>
              <a:xfrm>
                <a:off x="7750080" y="2330640"/>
                <a:ext cx="335160" cy="585360"/>
                <a:chOff x="7750080" y="2330640"/>
                <a:chExt cx="335160" cy="58536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7795440" y="233064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7750080" y="233064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8085960" y="2330640"/>
                <a:ext cx="335520" cy="585360"/>
                <a:chOff x="8085960" y="2330640"/>
                <a:chExt cx="335520" cy="58536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8131680" y="2330640"/>
                  <a:ext cx="244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8085960" y="2330640"/>
                  <a:ext cx="335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8422200" y="2330640"/>
                <a:ext cx="335160" cy="585360"/>
                <a:chOff x="8422200" y="2330640"/>
                <a:chExt cx="335160" cy="58536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8467560" y="2330640"/>
                  <a:ext cx="244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8422200" y="2330640"/>
                  <a:ext cx="3351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7" name=""/>
            <p:cNvSpPr/>
            <p:nvPr/>
          </p:nvSpPr>
          <p:spPr>
            <a:xfrm>
              <a:off x="533520" y="457200"/>
              <a:ext cx="8229240" cy="2463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533520" y="2971800"/>
            <a:ext cx="8229240" cy="2903400"/>
            <a:chOff x="533520" y="2971800"/>
            <a:chExt cx="8229240" cy="2903400"/>
          </a:xfrm>
        </p:grpSpPr>
        <p:grpSp>
          <p:nvGrpSpPr>
            <p:cNvPr id="2689" name=""/>
            <p:cNvGrpSpPr/>
            <p:nvPr/>
          </p:nvGrpSpPr>
          <p:grpSpPr>
            <a:xfrm>
              <a:off x="538200" y="2975760"/>
              <a:ext cx="8219160" cy="2894400"/>
              <a:chOff x="538200" y="2975760"/>
              <a:chExt cx="8219160" cy="2894400"/>
            </a:xfrm>
          </p:grpSpPr>
          <p:grpSp>
            <p:nvGrpSpPr>
              <p:cNvPr id="2690" name=""/>
              <p:cNvGrpSpPr/>
              <p:nvPr/>
            </p:nvGrpSpPr>
            <p:grpSpPr>
              <a:xfrm>
                <a:off x="538200" y="2975760"/>
                <a:ext cx="1969560" cy="578880"/>
                <a:chOff x="538200" y="2975760"/>
                <a:chExt cx="1969560" cy="57888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83560" y="2975760"/>
                  <a:ext cx="18784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Scapola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538200" y="2975760"/>
                  <a:ext cx="19695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2508120" y="2975760"/>
                <a:ext cx="335160" cy="578880"/>
                <a:chOff x="2508120" y="2975760"/>
                <a:chExt cx="335160" cy="57888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2553480" y="297576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2508120" y="297576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2844000" y="2975760"/>
                <a:ext cx="335520" cy="578880"/>
                <a:chOff x="2844000" y="2975760"/>
                <a:chExt cx="335520" cy="57888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2889720" y="297576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2844000" y="297576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3180240" y="2975760"/>
                <a:ext cx="335160" cy="578880"/>
                <a:chOff x="3180240" y="2975760"/>
                <a:chExt cx="335160" cy="57888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3225600" y="297576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3180240" y="297576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2" name=""/>
              <p:cNvGrpSpPr/>
              <p:nvPr/>
            </p:nvGrpSpPr>
            <p:grpSpPr>
              <a:xfrm>
                <a:off x="3516120" y="2975760"/>
                <a:ext cx="335520" cy="578880"/>
                <a:chOff x="3516120" y="2975760"/>
                <a:chExt cx="335520" cy="57888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3561840" y="297576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3516120" y="297576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5" name=""/>
              <p:cNvGrpSpPr/>
              <p:nvPr/>
            </p:nvGrpSpPr>
            <p:grpSpPr>
              <a:xfrm>
                <a:off x="3852360" y="2975760"/>
                <a:ext cx="1382400" cy="578880"/>
                <a:chOff x="3852360" y="2975760"/>
                <a:chExt cx="1382400" cy="578880"/>
              </a:xfrm>
            </p:grpSpPr>
            <p:sp>
              <p:nvSpPr>
                <p:cNvPr id="2706" name=""/>
                <p:cNvSpPr/>
                <p:nvPr/>
              </p:nvSpPr>
              <p:spPr>
                <a:xfrm>
                  <a:off x="3897720" y="2975760"/>
                  <a:ext cx="1291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3852360" y="2975760"/>
                  <a:ext cx="138240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5235120" y="2975760"/>
                <a:ext cx="1499760" cy="578880"/>
                <a:chOff x="5235120" y="2975760"/>
                <a:chExt cx="1499760" cy="5788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5280480" y="2975760"/>
                  <a:ext cx="1408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5235120" y="2975760"/>
                  <a:ext cx="14997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6735600" y="2975760"/>
                <a:ext cx="677880" cy="578880"/>
                <a:chOff x="6735600" y="2975760"/>
                <a:chExt cx="677880" cy="578880"/>
              </a:xfrm>
            </p:grpSpPr>
            <p:sp>
              <p:nvSpPr>
                <p:cNvPr id="2712" name=""/>
                <p:cNvSpPr/>
                <p:nvPr/>
              </p:nvSpPr>
              <p:spPr>
                <a:xfrm>
                  <a:off x="6780960" y="2975760"/>
                  <a:ext cx="58716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5600" y="2975760"/>
                  <a:ext cx="67788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4" name=""/>
              <p:cNvGrpSpPr/>
              <p:nvPr/>
            </p:nvGrpSpPr>
            <p:grpSpPr>
              <a:xfrm>
                <a:off x="7413840" y="2975760"/>
                <a:ext cx="335520" cy="578880"/>
                <a:chOff x="7413840" y="2975760"/>
                <a:chExt cx="335520" cy="578880"/>
              </a:xfrm>
            </p:grpSpPr>
            <p:sp>
              <p:nvSpPr>
                <p:cNvPr id="2715" name=""/>
                <p:cNvSpPr/>
                <p:nvPr/>
              </p:nvSpPr>
              <p:spPr>
                <a:xfrm>
                  <a:off x="7459560" y="297576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7413840" y="297576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7750080" y="2975760"/>
                <a:ext cx="335160" cy="578880"/>
                <a:chOff x="7750080" y="2975760"/>
                <a:chExt cx="335160" cy="57888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7795440" y="297576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7750080" y="297576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8085960" y="2975760"/>
                <a:ext cx="335520" cy="578880"/>
                <a:chOff x="8085960" y="2975760"/>
                <a:chExt cx="335520" cy="57888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8131680" y="297576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8085960" y="297576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8422200" y="2975760"/>
                <a:ext cx="335160" cy="578880"/>
                <a:chOff x="8422200" y="2975760"/>
                <a:chExt cx="335160" cy="57888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8467560" y="297576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8422200" y="297576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538200" y="3554640"/>
                <a:ext cx="1969560" cy="578880"/>
                <a:chOff x="538200" y="3554640"/>
                <a:chExt cx="1969560" cy="57888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583560" y="3554640"/>
                  <a:ext cx="18784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Proc.Spin. Ve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538200" y="3554640"/>
                  <a:ext cx="19695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9" name=""/>
              <p:cNvGrpSpPr/>
              <p:nvPr/>
            </p:nvGrpSpPr>
            <p:grpSpPr>
              <a:xfrm>
                <a:off x="2508120" y="3554640"/>
                <a:ext cx="335160" cy="578880"/>
                <a:chOff x="2508120" y="3554640"/>
                <a:chExt cx="335160" cy="57888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2553480" y="355464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2508120" y="355464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2844000" y="3554640"/>
                <a:ext cx="335520" cy="578880"/>
                <a:chOff x="2844000" y="3554640"/>
                <a:chExt cx="335520" cy="57888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2889720" y="355464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2844000" y="355464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3180240" y="3554640"/>
                <a:ext cx="335160" cy="578880"/>
                <a:chOff x="3180240" y="3554640"/>
                <a:chExt cx="335160" cy="578880"/>
              </a:xfrm>
            </p:grpSpPr>
            <p:sp>
              <p:nvSpPr>
                <p:cNvPr id="2736" name=""/>
                <p:cNvSpPr/>
                <p:nvPr/>
              </p:nvSpPr>
              <p:spPr>
                <a:xfrm>
                  <a:off x="3225600" y="355464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3180240" y="355464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8" name=""/>
              <p:cNvGrpSpPr/>
              <p:nvPr/>
            </p:nvGrpSpPr>
            <p:grpSpPr>
              <a:xfrm>
                <a:off x="3516120" y="3554640"/>
                <a:ext cx="335520" cy="578880"/>
                <a:chOff x="3516120" y="3554640"/>
                <a:chExt cx="335520" cy="57888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3561840" y="355464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3516120" y="355464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3852360" y="3554640"/>
                <a:ext cx="1382400" cy="578880"/>
                <a:chOff x="3852360" y="3554640"/>
                <a:chExt cx="1382400" cy="57888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3897720" y="3554640"/>
                  <a:ext cx="1291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3852360" y="3554640"/>
                  <a:ext cx="138240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5235120" y="3554640"/>
                <a:ext cx="1499760" cy="578880"/>
                <a:chOff x="5235120" y="3554640"/>
                <a:chExt cx="1499760" cy="57888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5280480" y="3554640"/>
                  <a:ext cx="1408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5235120" y="3554640"/>
                  <a:ext cx="14997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6735600" y="3554640"/>
                <a:ext cx="677880" cy="578880"/>
                <a:chOff x="6735600" y="3554640"/>
                <a:chExt cx="677880" cy="57888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6780960" y="3554640"/>
                  <a:ext cx="58716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735600" y="3554640"/>
                  <a:ext cx="67788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0" name=""/>
              <p:cNvGrpSpPr/>
              <p:nvPr/>
            </p:nvGrpSpPr>
            <p:grpSpPr>
              <a:xfrm>
                <a:off x="7413840" y="3554640"/>
                <a:ext cx="335520" cy="578880"/>
                <a:chOff x="7413840" y="3554640"/>
                <a:chExt cx="335520" cy="578880"/>
              </a:xfrm>
            </p:grpSpPr>
            <p:sp>
              <p:nvSpPr>
                <p:cNvPr id="2751" name=""/>
                <p:cNvSpPr/>
                <p:nvPr/>
              </p:nvSpPr>
              <p:spPr>
                <a:xfrm>
                  <a:off x="7459560" y="355464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7413840" y="355464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7750080" y="3554640"/>
                <a:ext cx="335160" cy="578880"/>
                <a:chOff x="7750080" y="3554640"/>
                <a:chExt cx="335160" cy="578880"/>
              </a:xfrm>
            </p:grpSpPr>
            <p:sp>
              <p:nvSpPr>
                <p:cNvPr id="2754" name=""/>
                <p:cNvSpPr/>
                <p:nvPr/>
              </p:nvSpPr>
              <p:spPr>
                <a:xfrm>
                  <a:off x="7795440" y="355464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7750080" y="355464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8085960" y="3554640"/>
                <a:ext cx="335520" cy="578880"/>
                <a:chOff x="8085960" y="3554640"/>
                <a:chExt cx="335520" cy="578880"/>
              </a:xfrm>
            </p:grpSpPr>
            <p:sp>
              <p:nvSpPr>
                <p:cNvPr id="2757" name=""/>
                <p:cNvSpPr/>
                <p:nvPr/>
              </p:nvSpPr>
              <p:spPr>
                <a:xfrm>
                  <a:off x="8131680" y="355464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8085960" y="355464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9" name=""/>
              <p:cNvGrpSpPr/>
              <p:nvPr/>
            </p:nvGrpSpPr>
            <p:grpSpPr>
              <a:xfrm>
                <a:off x="8422200" y="3554640"/>
                <a:ext cx="335160" cy="578880"/>
                <a:chOff x="8422200" y="3554640"/>
                <a:chExt cx="335160" cy="578880"/>
              </a:xfrm>
            </p:grpSpPr>
            <p:sp>
              <p:nvSpPr>
                <p:cNvPr id="2760" name=""/>
                <p:cNvSpPr/>
                <p:nvPr/>
              </p:nvSpPr>
              <p:spPr>
                <a:xfrm>
                  <a:off x="8467560" y="355464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8422200" y="355464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2" name=""/>
              <p:cNvGrpSpPr/>
              <p:nvPr/>
            </p:nvGrpSpPr>
            <p:grpSpPr>
              <a:xfrm>
                <a:off x="538200" y="4133520"/>
                <a:ext cx="1969560" cy="578880"/>
                <a:chOff x="538200" y="4133520"/>
                <a:chExt cx="1969560" cy="57888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583560" y="4133520"/>
                  <a:ext cx="18784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Sacr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538200" y="4133520"/>
                  <a:ext cx="19695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2508120" y="4133520"/>
                <a:ext cx="335160" cy="578880"/>
                <a:chOff x="2508120" y="4133520"/>
                <a:chExt cx="335160" cy="57888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2553480" y="413352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2508120" y="413352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2844000" y="4133520"/>
                <a:ext cx="335520" cy="578880"/>
                <a:chOff x="2844000" y="4133520"/>
                <a:chExt cx="335520" cy="57888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2889720" y="413352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2844000" y="413352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1" name=""/>
              <p:cNvGrpSpPr/>
              <p:nvPr/>
            </p:nvGrpSpPr>
            <p:grpSpPr>
              <a:xfrm>
                <a:off x="3180240" y="4133520"/>
                <a:ext cx="335160" cy="578880"/>
                <a:chOff x="3180240" y="4133520"/>
                <a:chExt cx="335160" cy="578880"/>
              </a:xfrm>
            </p:grpSpPr>
            <p:sp>
              <p:nvSpPr>
                <p:cNvPr id="2772" name=""/>
                <p:cNvSpPr/>
                <p:nvPr/>
              </p:nvSpPr>
              <p:spPr>
                <a:xfrm>
                  <a:off x="3225600" y="413352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3180240" y="413352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3516120" y="4133520"/>
                <a:ext cx="335520" cy="578880"/>
                <a:chOff x="3516120" y="4133520"/>
                <a:chExt cx="335520" cy="57888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3561840" y="413352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3516120" y="413352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3852360" y="4133520"/>
                <a:ext cx="1382400" cy="578880"/>
                <a:chOff x="3852360" y="4133520"/>
                <a:chExt cx="1382400" cy="578880"/>
              </a:xfrm>
            </p:grpSpPr>
            <p:sp>
              <p:nvSpPr>
                <p:cNvPr id="2778" name=""/>
                <p:cNvSpPr/>
                <p:nvPr/>
              </p:nvSpPr>
              <p:spPr>
                <a:xfrm>
                  <a:off x="3897720" y="4133520"/>
                  <a:ext cx="1291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3852360" y="4133520"/>
                  <a:ext cx="138240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0" name=""/>
              <p:cNvGrpSpPr/>
              <p:nvPr/>
            </p:nvGrpSpPr>
            <p:grpSpPr>
              <a:xfrm>
                <a:off x="5235120" y="4133520"/>
                <a:ext cx="1499760" cy="578880"/>
                <a:chOff x="5235120" y="4133520"/>
                <a:chExt cx="1499760" cy="578880"/>
              </a:xfrm>
            </p:grpSpPr>
            <p:sp>
              <p:nvSpPr>
                <p:cNvPr id="2781" name=""/>
                <p:cNvSpPr/>
                <p:nvPr/>
              </p:nvSpPr>
              <p:spPr>
                <a:xfrm>
                  <a:off x="5280480" y="4133520"/>
                  <a:ext cx="1408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5235120" y="4133520"/>
                  <a:ext cx="14997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3" name=""/>
              <p:cNvGrpSpPr/>
              <p:nvPr/>
            </p:nvGrpSpPr>
            <p:grpSpPr>
              <a:xfrm>
                <a:off x="6735600" y="4133520"/>
                <a:ext cx="677880" cy="578880"/>
                <a:chOff x="6735600" y="4133520"/>
                <a:chExt cx="677880" cy="57888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6780960" y="4133520"/>
                  <a:ext cx="58716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735600" y="4133520"/>
                  <a:ext cx="67788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6" name=""/>
              <p:cNvGrpSpPr/>
              <p:nvPr/>
            </p:nvGrpSpPr>
            <p:grpSpPr>
              <a:xfrm>
                <a:off x="7413840" y="4133520"/>
                <a:ext cx="335520" cy="578880"/>
                <a:chOff x="7413840" y="4133520"/>
                <a:chExt cx="335520" cy="57888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7459560" y="413352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413840" y="413352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9" name=""/>
              <p:cNvGrpSpPr/>
              <p:nvPr/>
            </p:nvGrpSpPr>
            <p:grpSpPr>
              <a:xfrm>
                <a:off x="7750080" y="4133520"/>
                <a:ext cx="335160" cy="578880"/>
                <a:chOff x="7750080" y="4133520"/>
                <a:chExt cx="335160" cy="578880"/>
              </a:xfrm>
            </p:grpSpPr>
            <p:sp>
              <p:nvSpPr>
                <p:cNvPr id="2790" name=""/>
                <p:cNvSpPr/>
                <p:nvPr/>
              </p:nvSpPr>
              <p:spPr>
                <a:xfrm>
                  <a:off x="7795440" y="413352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7750080" y="413352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2" name=""/>
              <p:cNvGrpSpPr/>
              <p:nvPr/>
            </p:nvGrpSpPr>
            <p:grpSpPr>
              <a:xfrm>
                <a:off x="8085960" y="4133520"/>
                <a:ext cx="335520" cy="578880"/>
                <a:chOff x="8085960" y="4133520"/>
                <a:chExt cx="335520" cy="578880"/>
              </a:xfrm>
            </p:grpSpPr>
            <p:sp>
              <p:nvSpPr>
                <p:cNvPr id="2793" name=""/>
                <p:cNvSpPr/>
                <p:nvPr/>
              </p:nvSpPr>
              <p:spPr>
                <a:xfrm>
                  <a:off x="8131680" y="413352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8085960" y="413352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8422200" y="4133520"/>
                <a:ext cx="335160" cy="578880"/>
                <a:chOff x="8422200" y="4133520"/>
                <a:chExt cx="335160" cy="57888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8467560" y="413352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8422200" y="413352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8" name=""/>
              <p:cNvGrpSpPr/>
              <p:nvPr/>
            </p:nvGrpSpPr>
            <p:grpSpPr>
              <a:xfrm>
                <a:off x="538200" y="4712400"/>
                <a:ext cx="1969560" cy="578880"/>
                <a:chOff x="538200" y="4712400"/>
                <a:chExt cx="1969560" cy="57888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583560" y="4712400"/>
                  <a:ext cx="18784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Malleolo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538200" y="4712400"/>
                  <a:ext cx="19695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1" name=""/>
              <p:cNvGrpSpPr/>
              <p:nvPr/>
            </p:nvGrpSpPr>
            <p:grpSpPr>
              <a:xfrm>
                <a:off x="2508120" y="4712400"/>
                <a:ext cx="335160" cy="578880"/>
                <a:chOff x="2508120" y="4712400"/>
                <a:chExt cx="335160" cy="578880"/>
              </a:xfrm>
            </p:grpSpPr>
            <p:sp>
              <p:nvSpPr>
                <p:cNvPr id="2802" name=""/>
                <p:cNvSpPr/>
                <p:nvPr/>
              </p:nvSpPr>
              <p:spPr>
                <a:xfrm>
                  <a:off x="2553480" y="471240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2508120" y="471240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4" name=""/>
              <p:cNvGrpSpPr/>
              <p:nvPr/>
            </p:nvGrpSpPr>
            <p:grpSpPr>
              <a:xfrm>
                <a:off x="2844000" y="4712400"/>
                <a:ext cx="335520" cy="578880"/>
                <a:chOff x="2844000" y="4712400"/>
                <a:chExt cx="335520" cy="57888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2889720" y="471240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2844000" y="471240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3180240" y="4712400"/>
                <a:ext cx="335160" cy="578880"/>
                <a:chOff x="3180240" y="4712400"/>
                <a:chExt cx="335160" cy="57888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3225600" y="471240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3180240" y="471240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0" name=""/>
              <p:cNvGrpSpPr/>
              <p:nvPr/>
            </p:nvGrpSpPr>
            <p:grpSpPr>
              <a:xfrm>
                <a:off x="3516120" y="4712400"/>
                <a:ext cx="335520" cy="578880"/>
                <a:chOff x="3516120" y="4712400"/>
                <a:chExt cx="335520" cy="578880"/>
              </a:xfrm>
            </p:grpSpPr>
            <p:sp>
              <p:nvSpPr>
                <p:cNvPr id="2811" name=""/>
                <p:cNvSpPr/>
                <p:nvPr/>
              </p:nvSpPr>
              <p:spPr>
                <a:xfrm>
                  <a:off x="3561840" y="471240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3516120" y="471240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3852360" y="4712400"/>
                <a:ext cx="1382400" cy="578880"/>
                <a:chOff x="3852360" y="4712400"/>
                <a:chExt cx="1382400" cy="578880"/>
              </a:xfrm>
            </p:grpSpPr>
            <p:sp>
              <p:nvSpPr>
                <p:cNvPr id="2814" name=""/>
                <p:cNvSpPr/>
                <p:nvPr/>
              </p:nvSpPr>
              <p:spPr>
                <a:xfrm>
                  <a:off x="3897720" y="4712400"/>
                  <a:ext cx="1291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3852360" y="4712400"/>
                  <a:ext cx="138240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6" name=""/>
              <p:cNvGrpSpPr/>
              <p:nvPr/>
            </p:nvGrpSpPr>
            <p:grpSpPr>
              <a:xfrm>
                <a:off x="5235120" y="4712400"/>
                <a:ext cx="1499760" cy="578880"/>
                <a:chOff x="5235120" y="4712400"/>
                <a:chExt cx="1499760" cy="578880"/>
              </a:xfrm>
            </p:grpSpPr>
            <p:sp>
              <p:nvSpPr>
                <p:cNvPr id="2817" name=""/>
                <p:cNvSpPr/>
                <p:nvPr/>
              </p:nvSpPr>
              <p:spPr>
                <a:xfrm>
                  <a:off x="5280480" y="4712400"/>
                  <a:ext cx="1408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5235120" y="4712400"/>
                  <a:ext cx="14997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9" name=""/>
              <p:cNvGrpSpPr/>
              <p:nvPr/>
            </p:nvGrpSpPr>
            <p:grpSpPr>
              <a:xfrm>
                <a:off x="6735600" y="4712400"/>
                <a:ext cx="677880" cy="578880"/>
                <a:chOff x="6735600" y="4712400"/>
                <a:chExt cx="677880" cy="578880"/>
              </a:xfrm>
            </p:grpSpPr>
            <p:sp>
              <p:nvSpPr>
                <p:cNvPr id="2820" name=""/>
                <p:cNvSpPr/>
                <p:nvPr/>
              </p:nvSpPr>
              <p:spPr>
                <a:xfrm>
                  <a:off x="6780960" y="4712400"/>
                  <a:ext cx="58716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735600" y="4712400"/>
                  <a:ext cx="67788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2" name=""/>
              <p:cNvGrpSpPr/>
              <p:nvPr/>
            </p:nvGrpSpPr>
            <p:grpSpPr>
              <a:xfrm>
                <a:off x="7413840" y="4712400"/>
                <a:ext cx="335520" cy="578880"/>
                <a:chOff x="7413840" y="4712400"/>
                <a:chExt cx="335520" cy="578880"/>
              </a:xfrm>
            </p:grpSpPr>
            <p:sp>
              <p:nvSpPr>
                <p:cNvPr id="2823" name=""/>
                <p:cNvSpPr/>
                <p:nvPr/>
              </p:nvSpPr>
              <p:spPr>
                <a:xfrm>
                  <a:off x="7459560" y="471240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7413840" y="471240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5" name=""/>
              <p:cNvGrpSpPr/>
              <p:nvPr/>
            </p:nvGrpSpPr>
            <p:grpSpPr>
              <a:xfrm>
                <a:off x="7750080" y="4712400"/>
                <a:ext cx="335160" cy="578880"/>
                <a:chOff x="7750080" y="4712400"/>
                <a:chExt cx="335160" cy="578880"/>
              </a:xfrm>
            </p:grpSpPr>
            <p:sp>
              <p:nvSpPr>
                <p:cNvPr id="2826" name=""/>
                <p:cNvSpPr/>
                <p:nvPr/>
              </p:nvSpPr>
              <p:spPr>
                <a:xfrm>
                  <a:off x="7795440" y="471240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7750080" y="471240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8" name=""/>
              <p:cNvGrpSpPr/>
              <p:nvPr/>
            </p:nvGrpSpPr>
            <p:grpSpPr>
              <a:xfrm>
                <a:off x="8085960" y="4712400"/>
                <a:ext cx="335520" cy="578880"/>
                <a:chOff x="8085960" y="4712400"/>
                <a:chExt cx="335520" cy="57888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8131680" y="471240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8085960" y="471240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1" name=""/>
              <p:cNvGrpSpPr/>
              <p:nvPr/>
            </p:nvGrpSpPr>
            <p:grpSpPr>
              <a:xfrm>
                <a:off x="8422200" y="4712400"/>
                <a:ext cx="335160" cy="578880"/>
                <a:chOff x="8422200" y="4712400"/>
                <a:chExt cx="335160" cy="578880"/>
              </a:xfrm>
            </p:grpSpPr>
            <p:sp>
              <p:nvSpPr>
                <p:cNvPr id="2832" name=""/>
                <p:cNvSpPr/>
                <p:nvPr/>
              </p:nvSpPr>
              <p:spPr>
                <a:xfrm>
                  <a:off x="8467560" y="471240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8422200" y="471240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4" name=""/>
              <p:cNvGrpSpPr/>
              <p:nvPr/>
            </p:nvGrpSpPr>
            <p:grpSpPr>
              <a:xfrm>
                <a:off x="538200" y="5291280"/>
                <a:ext cx="1969560" cy="578880"/>
                <a:chOff x="538200" y="5291280"/>
                <a:chExt cx="1969560" cy="578880"/>
              </a:xfrm>
            </p:grpSpPr>
            <p:sp>
              <p:nvSpPr>
                <p:cNvPr id="2835" name=""/>
                <p:cNvSpPr/>
                <p:nvPr/>
              </p:nvSpPr>
              <p:spPr>
                <a:xfrm>
                  <a:off x="583560" y="5291280"/>
                  <a:ext cx="18784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Malleolo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538200" y="5291280"/>
                  <a:ext cx="19695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7" name=""/>
              <p:cNvGrpSpPr/>
              <p:nvPr/>
            </p:nvGrpSpPr>
            <p:grpSpPr>
              <a:xfrm>
                <a:off x="2508120" y="5291280"/>
                <a:ext cx="335160" cy="578880"/>
                <a:chOff x="2508120" y="5291280"/>
                <a:chExt cx="335160" cy="578880"/>
              </a:xfrm>
            </p:grpSpPr>
            <p:sp>
              <p:nvSpPr>
                <p:cNvPr id="2838" name=""/>
                <p:cNvSpPr/>
                <p:nvPr/>
              </p:nvSpPr>
              <p:spPr>
                <a:xfrm>
                  <a:off x="2553480" y="529128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2508120" y="529128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0" name=""/>
              <p:cNvGrpSpPr/>
              <p:nvPr/>
            </p:nvGrpSpPr>
            <p:grpSpPr>
              <a:xfrm>
                <a:off x="2844000" y="5291280"/>
                <a:ext cx="335520" cy="578880"/>
                <a:chOff x="2844000" y="5291280"/>
                <a:chExt cx="335520" cy="578880"/>
              </a:xfrm>
            </p:grpSpPr>
            <p:sp>
              <p:nvSpPr>
                <p:cNvPr id="2841" name=""/>
                <p:cNvSpPr/>
                <p:nvPr/>
              </p:nvSpPr>
              <p:spPr>
                <a:xfrm>
                  <a:off x="2889720" y="529128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2844000" y="529128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3" name=""/>
              <p:cNvGrpSpPr/>
              <p:nvPr/>
            </p:nvGrpSpPr>
            <p:grpSpPr>
              <a:xfrm>
                <a:off x="3180240" y="5291280"/>
                <a:ext cx="335160" cy="578880"/>
                <a:chOff x="3180240" y="5291280"/>
                <a:chExt cx="335160" cy="57888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3225600" y="529128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3180240" y="529128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3516120" y="5291280"/>
                <a:ext cx="335520" cy="578880"/>
                <a:chOff x="3516120" y="5291280"/>
                <a:chExt cx="335520" cy="57888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3561840" y="529128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3516120" y="529128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9" name=""/>
              <p:cNvGrpSpPr/>
              <p:nvPr/>
            </p:nvGrpSpPr>
            <p:grpSpPr>
              <a:xfrm>
                <a:off x="3852360" y="5291280"/>
                <a:ext cx="1382400" cy="578880"/>
                <a:chOff x="3852360" y="5291280"/>
                <a:chExt cx="1382400" cy="57888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3897720" y="5291280"/>
                  <a:ext cx="1291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3852360" y="5291280"/>
                  <a:ext cx="138240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2" name=""/>
              <p:cNvGrpSpPr/>
              <p:nvPr/>
            </p:nvGrpSpPr>
            <p:grpSpPr>
              <a:xfrm>
                <a:off x="5235120" y="5291280"/>
                <a:ext cx="1499760" cy="578880"/>
                <a:chOff x="5235120" y="5291280"/>
                <a:chExt cx="1499760" cy="578880"/>
              </a:xfrm>
            </p:grpSpPr>
            <p:sp>
              <p:nvSpPr>
                <p:cNvPr id="2853" name=""/>
                <p:cNvSpPr/>
                <p:nvPr/>
              </p:nvSpPr>
              <p:spPr>
                <a:xfrm>
                  <a:off x="5280480" y="5291280"/>
                  <a:ext cx="14086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5235120" y="5291280"/>
                  <a:ext cx="14997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5" name=""/>
              <p:cNvGrpSpPr/>
              <p:nvPr/>
            </p:nvGrpSpPr>
            <p:grpSpPr>
              <a:xfrm>
                <a:off x="6735600" y="5291280"/>
                <a:ext cx="677880" cy="578880"/>
                <a:chOff x="6735600" y="5291280"/>
                <a:chExt cx="677880" cy="578880"/>
              </a:xfrm>
            </p:grpSpPr>
            <p:sp>
              <p:nvSpPr>
                <p:cNvPr id="2856" name=""/>
                <p:cNvSpPr/>
                <p:nvPr/>
              </p:nvSpPr>
              <p:spPr>
                <a:xfrm>
                  <a:off x="6780960" y="5291280"/>
                  <a:ext cx="58716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6735600" y="5291280"/>
                  <a:ext cx="67788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8" name=""/>
              <p:cNvGrpSpPr/>
              <p:nvPr/>
            </p:nvGrpSpPr>
            <p:grpSpPr>
              <a:xfrm>
                <a:off x="7413840" y="5291280"/>
                <a:ext cx="335520" cy="578880"/>
                <a:chOff x="7413840" y="5291280"/>
                <a:chExt cx="335520" cy="57888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7459560" y="529128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413840" y="529128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1" name=""/>
              <p:cNvGrpSpPr/>
              <p:nvPr/>
            </p:nvGrpSpPr>
            <p:grpSpPr>
              <a:xfrm>
                <a:off x="7750080" y="5291280"/>
                <a:ext cx="335160" cy="578880"/>
                <a:chOff x="7750080" y="5291280"/>
                <a:chExt cx="335160" cy="578880"/>
              </a:xfrm>
            </p:grpSpPr>
            <p:sp>
              <p:nvSpPr>
                <p:cNvPr id="2862" name=""/>
                <p:cNvSpPr/>
                <p:nvPr/>
              </p:nvSpPr>
              <p:spPr>
                <a:xfrm>
                  <a:off x="7795440" y="529128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750080" y="529128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4" name=""/>
              <p:cNvGrpSpPr/>
              <p:nvPr/>
            </p:nvGrpSpPr>
            <p:grpSpPr>
              <a:xfrm>
                <a:off x="8085960" y="5291280"/>
                <a:ext cx="335520" cy="578880"/>
                <a:chOff x="8085960" y="5291280"/>
                <a:chExt cx="335520" cy="578880"/>
              </a:xfrm>
            </p:grpSpPr>
            <p:sp>
              <p:nvSpPr>
                <p:cNvPr id="2865" name=""/>
                <p:cNvSpPr/>
                <p:nvPr/>
              </p:nvSpPr>
              <p:spPr>
                <a:xfrm>
                  <a:off x="8131680" y="5291280"/>
                  <a:ext cx="2440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8085960" y="5291280"/>
                  <a:ext cx="33552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7" name=""/>
              <p:cNvGrpSpPr/>
              <p:nvPr/>
            </p:nvGrpSpPr>
            <p:grpSpPr>
              <a:xfrm>
                <a:off x="8422200" y="5291280"/>
                <a:ext cx="335160" cy="578880"/>
                <a:chOff x="8422200" y="5291280"/>
                <a:chExt cx="335160" cy="578880"/>
              </a:xfrm>
            </p:grpSpPr>
            <p:sp>
              <p:nvSpPr>
                <p:cNvPr id="2868" name=""/>
                <p:cNvSpPr/>
                <p:nvPr/>
              </p:nvSpPr>
              <p:spPr>
                <a:xfrm>
                  <a:off x="8467560" y="5291280"/>
                  <a:ext cx="24444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8422200" y="5291280"/>
                  <a:ext cx="335160" cy="57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0" name=""/>
            <p:cNvSpPr/>
            <p:nvPr/>
          </p:nvSpPr>
          <p:spPr>
            <a:xfrm>
              <a:off x="533520" y="2971800"/>
              <a:ext cx="8229240" cy="2903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6A1D-7659-4264-8129-BB356CCB23A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A01CF3-D97C-4199-8991-9660FC4F5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1" name=""/>
          <p:cNvGrpSpPr/>
          <p:nvPr/>
        </p:nvGrpSpPr>
        <p:grpSpPr>
          <a:xfrm>
            <a:off x="304920" y="2819520"/>
            <a:ext cx="8533800" cy="3504960"/>
            <a:chOff x="304920" y="2819520"/>
            <a:chExt cx="8533800" cy="3504960"/>
          </a:xfrm>
        </p:grpSpPr>
        <p:grpSp>
          <p:nvGrpSpPr>
            <p:cNvPr id="2872" name=""/>
            <p:cNvGrpSpPr/>
            <p:nvPr/>
          </p:nvGrpSpPr>
          <p:grpSpPr>
            <a:xfrm>
              <a:off x="309600" y="2823480"/>
              <a:ext cx="8523360" cy="3496320"/>
              <a:chOff x="309600" y="2823480"/>
              <a:chExt cx="8523360" cy="3496320"/>
            </a:xfrm>
          </p:grpSpPr>
          <p:grpSp>
            <p:nvGrpSpPr>
              <p:cNvPr id="2873" name=""/>
              <p:cNvGrpSpPr/>
              <p:nvPr/>
            </p:nvGrpSpPr>
            <p:grpSpPr>
              <a:xfrm>
                <a:off x="309600" y="2823480"/>
                <a:ext cx="2042640" cy="573120"/>
                <a:chOff x="309600" y="2823480"/>
                <a:chExt cx="2042640" cy="57312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356760" y="2823480"/>
                  <a:ext cx="194796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Trocantere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309600" y="2823480"/>
                  <a:ext cx="204264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6" name=""/>
              <p:cNvGrpSpPr/>
              <p:nvPr/>
            </p:nvGrpSpPr>
            <p:grpSpPr>
              <a:xfrm>
                <a:off x="2352600" y="2823480"/>
                <a:ext cx="347760" cy="573120"/>
                <a:chOff x="2352600" y="2823480"/>
                <a:chExt cx="347760" cy="573120"/>
              </a:xfrm>
            </p:grpSpPr>
            <p:sp>
              <p:nvSpPr>
                <p:cNvPr id="2877" name=""/>
                <p:cNvSpPr/>
                <p:nvPr/>
              </p:nvSpPr>
              <p:spPr>
                <a:xfrm>
                  <a:off x="2399400" y="28234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2352600" y="28234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9" name=""/>
              <p:cNvGrpSpPr/>
              <p:nvPr/>
            </p:nvGrpSpPr>
            <p:grpSpPr>
              <a:xfrm>
                <a:off x="2700720" y="2823480"/>
                <a:ext cx="348120" cy="573120"/>
                <a:chOff x="2700720" y="2823480"/>
                <a:chExt cx="348120" cy="57312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2748240" y="28234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2700720" y="28234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2" name=""/>
              <p:cNvGrpSpPr/>
              <p:nvPr/>
            </p:nvGrpSpPr>
            <p:grpSpPr>
              <a:xfrm>
                <a:off x="3049560" y="2823480"/>
                <a:ext cx="347760" cy="573120"/>
                <a:chOff x="3049560" y="2823480"/>
                <a:chExt cx="347760" cy="573120"/>
              </a:xfrm>
            </p:grpSpPr>
            <p:sp>
              <p:nvSpPr>
                <p:cNvPr id="2883" name=""/>
                <p:cNvSpPr/>
                <p:nvPr/>
              </p:nvSpPr>
              <p:spPr>
                <a:xfrm>
                  <a:off x="3096360" y="28234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3049560" y="28234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5" name=""/>
              <p:cNvGrpSpPr/>
              <p:nvPr/>
            </p:nvGrpSpPr>
            <p:grpSpPr>
              <a:xfrm>
                <a:off x="3397680" y="2823480"/>
                <a:ext cx="348120" cy="573120"/>
                <a:chOff x="3397680" y="2823480"/>
                <a:chExt cx="348120" cy="57312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3445200" y="28234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3397680" y="28234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8" name=""/>
              <p:cNvGrpSpPr/>
              <p:nvPr/>
            </p:nvGrpSpPr>
            <p:grpSpPr>
              <a:xfrm>
                <a:off x="3746160" y="2823480"/>
                <a:ext cx="1433520" cy="573120"/>
                <a:chOff x="3746160" y="2823480"/>
                <a:chExt cx="1433520" cy="573120"/>
              </a:xfrm>
            </p:grpSpPr>
            <p:sp>
              <p:nvSpPr>
                <p:cNvPr id="2889" name=""/>
                <p:cNvSpPr/>
                <p:nvPr/>
              </p:nvSpPr>
              <p:spPr>
                <a:xfrm>
                  <a:off x="3793320" y="2823480"/>
                  <a:ext cx="1339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3746160" y="2823480"/>
                  <a:ext cx="14335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1" name=""/>
              <p:cNvGrpSpPr/>
              <p:nvPr/>
            </p:nvGrpSpPr>
            <p:grpSpPr>
              <a:xfrm>
                <a:off x="5180400" y="2823480"/>
                <a:ext cx="1555560" cy="573120"/>
                <a:chOff x="5180400" y="2823480"/>
                <a:chExt cx="1555560" cy="57312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5227560" y="2823480"/>
                  <a:ext cx="14608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5180400" y="2823480"/>
                  <a:ext cx="15555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4" name=""/>
              <p:cNvGrpSpPr/>
              <p:nvPr/>
            </p:nvGrpSpPr>
            <p:grpSpPr>
              <a:xfrm>
                <a:off x="6736320" y="2823480"/>
                <a:ext cx="702720" cy="573120"/>
                <a:chOff x="6736320" y="2823480"/>
                <a:chExt cx="702720" cy="573120"/>
              </a:xfrm>
            </p:grpSpPr>
            <p:sp>
              <p:nvSpPr>
                <p:cNvPr id="2895" name=""/>
                <p:cNvSpPr/>
                <p:nvPr/>
              </p:nvSpPr>
              <p:spPr>
                <a:xfrm>
                  <a:off x="6783120" y="2823480"/>
                  <a:ext cx="6084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6736320" y="2823480"/>
                  <a:ext cx="7027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7" name=""/>
              <p:cNvGrpSpPr/>
              <p:nvPr/>
            </p:nvGrpSpPr>
            <p:grpSpPr>
              <a:xfrm>
                <a:off x="7439760" y="2823480"/>
                <a:ext cx="348120" cy="573120"/>
                <a:chOff x="7439760" y="2823480"/>
                <a:chExt cx="348120" cy="573120"/>
              </a:xfrm>
            </p:grpSpPr>
            <p:sp>
              <p:nvSpPr>
                <p:cNvPr id="2898" name=""/>
                <p:cNvSpPr/>
                <p:nvPr/>
              </p:nvSpPr>
              <p:spPr>
                <a:xfrm>
                  <a:off x="7487280" y="28234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439760" y="28234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0" name=""/>
              <p:cNvGrpSpPr/>
              <p:nvPr/>
            </p:nvGrpSpPr>
            <p:grpSpPr>
              <a:xfrm>
                <a:off x="7788240" y="2823480"/>
                <a:ext cx="347760" cy="573120"/>
                <a:chOff x="7788240" y="2823480"/>
                <a:chExt cx="347760" cy="573120"/>
              </a:xfrm>
            </p:grpSpPr>
            <p:sp>
              <p:nvSpPr>
                <p:cNvPr id="2901" name=""/>
                <p:cNvSpPr/>
                <p:nvPr/>
              </p:nvSpPr>
              <p:spPr>
                <a:xfrm>
                  <a:off x="7835040" y="28234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788240" y="28234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3" name=""/>
              <p:cNvGrpSpPr/>
              <p:nvPr/>
            </p:nvGrpSpPr>
            <p:grpSpPr>
              <a:xfrm>
                <a:off x="8136720" y="2823480"/>
                <a:ext cx="348120" cy="573120"/>
                <a:chOff x="8136720" y="2823480"/>
                <a:chExt cx="348120" cy="57312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8184240" y="28234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8136720" y="28234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8485200" y="2823480"/>
                <a:ext cx="347760" cy="573120"/>
                <a:chOff x="8485200" y="2823480"/>
                <a:chExt cx="347760" cy="57312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8532000" y="28234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8485200" y="28234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309600" y="3396600"/>
                <a:ext cx="2042640" cy="573120"/>
                <a:chOff x="309600" y="3396600"/>
                <a:chExt cx="2042640" cy="573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356760" y="3396600"/>
                  <a:ext cx="194796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Trocantere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309600" y="3396600"/>
                  <a:ext cx="204264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2352600" y="3396600"/>
                <a:ext cx="347760" cy="573120"/>
                <a:chOff x="2352600" y="3396600"/>
                <a:chExt cx="347760" cy="57312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2399400" y="339660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2352600" y="339660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2700720" y="3396600"/>
                <a:ext cx="348120" cy="573120"/>
                <a:chOff x="2700720" y="3396600"/>
                <a:chExt cx="348120" cy="573120"/>
              </a:xfrm>
            </p:grpSpPr>
            <p:sp>
              <p:nvSpPr>
                <p:cNvPr id="2916" name=""/>
                <p:cNvSpPr/>
                <p:nvPr/>
              </p:nvSpPr>
              <p:spPr>
                <a:xfrm>
                  <a:off x="2748240" y="339660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2700720" y="339660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3049560" y="3396600"/>
                <a:ext cx="347760" cy="573120"/>
                <a:chOff x="3049560" y="3396600"/>
                <a:chExt cx="347760" cy="57312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3096360" y="339660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3049560" y="339660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1" name=""/>
              <p:cNvGrpSpPr/>
              <p:nvPr/>
            </p:nvGrpSpPr>
            <p:grpSpPr>
              <a:xfrm>
                <a:off x="3397680" y="3396600"/>
                <a:ext cx="348120" cy="573120"/>
                <a:chOff x="3397680" y="3396600"/>
                <a:chExt cx="348120" cy="573120"/>
              </a:xfrm>
            </p:grpSpPr>
            <p:sp>
              <p:nvSpPr>
                <p:cNvPr id="2922" name=""/>
                <p:cNvSpPr/>
                <p:nvPr/>
              </p:nvSpPr>
              <p:spPr>
                <a:xfrm>
                  <a:off x="3445200" y="339660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3397680" y="339660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3746160" y="3396600"/>
                <a:ext cx="1433520" cy="573120"/>
                <a:chOff x="3746160" y="3396600"/>
                <a:chExt cx="1433520" cy="57312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3793320" y="3396600"/>
                  <a:ext cx="1339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3746160" y="3396600"/>
                  <a:ext cx="14335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7" name=""/>
              <p:cNvGrpSpPr/>
              <p:nvPr/>
            </p:nvGrpSpPr>
            <p:grpSpPr>
              <a:xfrm>
                <a:off x="5180400" y="3396600"/>
                <a:ext cx="1555560" cy="573120"/>
                <a:chOff x="5180400" y="3396600"/>
                <a:chExt cx="1555560" cy="57312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5227560" y="3396600"/>
                  <a:ext cx="14608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5180400" y="3396600"/>
                  <a:ext cx="15555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0" name=""/>
              <p:cNvGrpSpPr/>
              <p:nvPr/>
            </p:nvGrpSpPr>
            <p:grpSpPr>
              <a:xfrm>
                <a:off x="6736320" y="3396600"/>
                <a:ext cx="702720" cy="573120"/>
                <a:chOff x="6736320" y="3396600"/>
                <a:chExt cx="702720" cy="57312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6783120" y="3396600"/>
                  <a:ext cx="6084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6736320" y="3396600"/>
                  <a:ext cx="7027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3" name=""/>
              <p:cNvGrpSpPr/>
              <p:nvPr/>
            </p:nvGrpSpPr>
            <p:grpSpPr>
              <a:xfrm>
                <a:off x="7439760" y="3396600"/>
                <a:ext cx="348120" cy="573120"/>
                <a:chOff x="7439760" y="3396600"/>
                <a:chExt cx="348120" cy="57312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7487280" y="339660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439760" y="339660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6" name=""/>
              <p:cNvGrpSpPr/>
              <p:nvPr/>
            </p:nvGrpSpPr>
            <p:grpSpPr>
              <a:xfrm>
                <a:off x="7788240" y="3396600"/>
                <a:ext cx="347760" cy="573120"/>
                <a:chOff x="7788240" y="3396600"/>
                <a:chExt cx="347760" cy="57312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7835040" y="339660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788240" y="339660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9" name=""/>
              <p:cNvGrpSpPr/>
              <p:nvPr/>
            </p:nvGrpSpPr>
            <p:grpSpPr>
              <a:xfrm>
                <a:off x="8136720" y="3396600"/>
                <a:ext cx="348120" cy="573120"/>
                <a:chOff x="8136720" y="3396600"/>
                <a:chExt cx="348120" cy="573120"/>
              </a:xfrm>
            </p:grpSpPr>
            <p:sp>
              <p:nvSpPr>
                <p:cNvPr id="2940" name=""/>
                <p:cNvSpPr/>
                <p:nvPr/>
              </p:nvSpPr>
              <p:spPr>
                <a:xfrm>
                  <a:off x="8184240" y="339660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8136720" y="339660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2" name=""/>
              <p:cNvGrpSpPr/>
              <p:nvPr/>
            </p:nvGrpSpPr>
            <p:grpSpPr>
              <a:xfrm>
                <a:off x="8485200" y="3396600"/>
                <a:ext cx="347760" cy="573120"/>
                <a:chOff x="8485200" y="3396600"/>
                <a:chExt cx="347760" cy="573120"/>
              </a:xfrm>
            </p:grpSpPr>
            <p:sp>
              <p:nvSpPr>
                <p:cNvPr id="2943" name=""/>
                <p:cNvSpPr/>
                <p:nvPr/>
              </p:nvSpPr>
              <p:spPr>
                <a:xfrm>
                  <a:off x="8532000" y="339660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8485200" y="339660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5" name=""/>
              <p:cNvGrpSpPr/>
              <p:nvPr/>
            </p:nvGrpSpPr>
            <p:grpSpPr>
              <a:xfrm>
                <a:off x="309600" y="3970080"/>
                <a:ext cx="2042640" cy="573120"/>
                <a:chOff x="309600" y="3970080"/>
                <a:chExt cx="2042640" cy="57312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356760" y="3970080"/>
                  <a:ext cx="194796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Tallone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309600" y="3970080"/>
                  <a:ext cx="204264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8" name=""/>
              <p:cNvGrpSpPr/>
              <p:nvPr/>
            </p:nvGrpSpPr>
            <p:grpSpPr>
              <a:xfrm>
                <a:off x="2352600" y="3970080"/>
                <a:ext cx="347760" cy="573120"/>
                <a:chOff x="2352600" y="3970080"/>
                <a:chExt cx="347760" cy="573120"/>
              </a:xfrm>
            </p:grpSpPr>
            <p:sp>
              <p:nvSpPr>
                <p:cNvPr id="2949" name=""/>
                <p:cNvSpPr/>
                <p:nvPr/>
              </p:nvSpPr>
              <p:spPr>
                <a:xfrm>
                  <a:off x="2399400" y="39700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2352600" y="39700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1" name=""/>
              <p:cNvGrpSpPr/>
              <p:nvPr/>
            </p:nvGrpSpPr>
            <p:grpSpPr>
              <a:xfrm>
                <a:off x="2700720" y="3970080"/>
                <a:ext cx="348120" cy="573120"/>
                <a:chOff x="2700720" y="3970080"/>
                <a:chExt cx="348120" cy="57312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2748240" y="39700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2700720" y="39700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4" name=""/>
              <p:cNvGrpSpPr/>
              <p:nvPr/>
            </p:nvGrpSpPr>
            <p:grpSpPr>
              <a:xfrm>
                <a:off x="3049560" y="3970080"/>
                <a:ext cx="347760" cy="573120"/>
                <a:chOff x="3049560" y="3970080"/>
                <a:chExt cx="347760" cy="573120"/>
              </a:xfrm>
            </p:grpSpPr>
            <p:sp>
              <p:nvSpPr>
                <p:cNvPr id="2955" name=""/>
                <p:cNvSpPr/>
                <p:nvPr/>
              </p:nvSpPr>
              <p:spPr>
                <a:xfrm>
                  <a:off x="3096360" y="39700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3049560" y="39700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7" name=""/>
              <p:cNvGrpSpPr/>
              <p:nvPr/>
            </p:nvGrpSpPr>
            <p:grpSpPr>
              <a:xfrm>
                <a:off x="3397680" y="3970080"/>
                <a:ext cx="348120" cy="573120"/>
                <a:chOff x="3397680" y="3970080"/>
                <a:chExt cx="348120" cy="573120"/>
              </a:xfrm>
            </p:grpSpPr>
            <p:sp>
              <p:nvSpPr>
                <p:cNvPr id="2958" name=""/>
                <p:cNvSpPr/>
                <p:nvPr/>
              </p:nvSpPr>
              <p:spPr>
                <a:xfrm>
                  <a:off x="3445200" y="39700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3397680" y="39700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0" name=""/>
              <p:cNvGrpSpPr/>
              <p:nvPr/>
            </p:nvGrpSpPr>
            <p:grpSpPr>
              <a:xfrm>
                <a:off x="3746160" y="3970080"/>
                <a:ext cx="1433520" cy="573120"/>
                <a:chOff x="3746160" y="3970080"/>
                <a:chExt cx="1433520" cy="573120"/>
              </a:xfrm>
            </p:grpSpPr>
            <p:sp>
              <p:nvSpPr>
                <p:cNvPr id="2961" name=""/>
                <p:cNvSpPr/>
                <p:nvPr/>
              </p:nvSpPr>
              <p:spPr>
                <a:xfrm>
                  <a:off x="3793320" y="3970080"/>
                  <a:ext cx="1339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3746160" y="3970080"/>
                  <a:ext cx="14335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3" name=""/>
              <p:cNvGrpSpPr/>
              <p:nvPr/>
            </p:nvGrpSpPr>
            <p:grpSpPr>
              <a:xfrm>
                <a:off x="5180400" y="3970080"/>
                <a:ext cx="1555560" cy="573120"/>
                <a:chOff x="5180400" y="3970080"/>
                <a:chExt cx="1555560" cy="57312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5227560" y="3970080"/>
                  <a:ext cx="14608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5180400" y="3970080"/>
                  <a:ext cx="15555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6" name=""/>
              <p:cNvGrpSpPr/>
              <p:nvPr/>
            </p:nvGrpSpPr>
            <p:grpSpPr>
              <a:xfrm>
                <a:off x="6736320" y="3970080"/>
                <a:ext cx="702720" cy="573120"/>
                <a:chOff x="6736320" y="3970080"/>
                <a:chExt cx="702720" cy="57312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6783120" y="3970080"/>
                  <a:ext cx="6084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6736320" y="3970080"/>
                  <a:ext cx="7027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9" name=""/>
              <p:cNvGrpSpPr/>
              <p:nvPr/>
            </p:nvGrpSpPr>
            <p:grpSpPr>
              <a:xfrm>
                <a:off x="7439760" y="3970080"/>
                <a:ext cx="348120" cy="573120"/>
                <a:chOff x="7439760" y="3970080"/>
                <a:chExt cx="348120" cy="573120"/>
              </a:xfrm>
            </p:grpSpPr>
            <p:sp>
              <p:nvSpPr>
                <p:cNvPr id="2970" name=""/>
                <p:cNvSpPr/>
                <p:nvPr/>
              </p:nvSpPr>
              <p:spPr>
                <a:xfrm>
                  <a:off x="7487280" y="39700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39760" y="39700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2" name=""/>
              <p:cNvGrpSpPr/>
              <p:nvPr/>
            </p:nvGrpSpPr>
            <p:grpSpPr>
              <a:xfrm>
                <a:off x="7788240" y="3970080"/>
                <a:ext cx="347760" cy="573120"/>
                <a:chOff x="7788240" y="3970080"/>
                <a:chExt cx="347760" cy="573120"/>
              </a:xfrm>
            </p:grpSpPr>
            <p:sp>
              <p:nvSpPr>
                <p:cNvPr id="2973" name=""/>
                <p:cNvSpPr/>
                <p:nvPr/>
              </p:nvSpPr>
              <p:spPr>
                <a:xfrm>
                  <a:off x="7835040" y="39700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788240" y="39700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5" name=""/>
              <p:cNvGrpSpPr/>
              <p:nvPr/>
            </p:nvGrpSpPr>
            <p:grpSpPr>
              <a:xfrm>
                <a:off x="8136720" y="3970080"/>
                <a:ext cx="348120" cy="573120"/>
                <a:chOff x="8136720" y="3970080"/>
                <a:chExt cx="348120" cy="573120"/>
              </a:xfrm>
            </p:grpSpPr>
            <p:sp>
              <p:nvSpPr>
                <p:cNvPr id="2976" name=""/>
                <p:cNvSpPr/>
                <p:nvPr/>
              </p:nvSpPr>
              <p:spPr>
                <a:xfrm>
                  <a:off x="8184240" y="397008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8136720" y="397008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8" name=""/>
              <p:cNvGrpSpPr/>
              <p:nvPr/>
            </p:nvGrpSpPr>
            <p:grpSpPr>
              <a:xfrm>
                <a:off x="8485200" y="3970080"/>
                <a:ext cx="347760" cy="573120"/>
                <a:chOff x="8485200" y="3970080"/>
                <a:chExt cx="347760" cy="573120"/>
              </a:xfrm>
            </p:grpSpPr>
            <p:sp>
              <p:nvSpPr>
                <p:cNvPr id="2979" name=""/>
                <p:cNvSpPr/>
                <p:nvPr/>
              </p:nvSpPr>
              <p:spPr>
                <a:xfrm>
                  <a:off x="8532000" y="397008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8485200" y="397008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1" name=""/>
              <p:cNvGrpSpPr/>
              <p:nvPr/>
            </p:nvGrpSpPr>
            <p:grpSpPr>
              <a:xfrm>
                <a:off x="309600" y="4543560"/>
                <a:ext cx="2042640" cy="573120"/>
                <a:chOff x="309600" y="4543560"/>
                <a:chExt cx="2042640" cy="573120"/>
              </a:xfrm>
            </p:grpSpPr>
            <p:sp>
              <p:nvSpPr>
                <p:cNvPr id="2982" name=""/>
                <p:cNvSpPr/>
                <p:nvPr/>
              </p:nvSpPr>
              <p:spPr>
                <a:xfrm>
                  <a:off x="356760" y="4543560"/>
                  <a:ext cx="194796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Tallone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309600" y="4543560"/>
                  <a:ext cx="204264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4" name=""/>
              <p:cNvGrpSpPr/>
              <p:nvPr/>
            </p:nvGrpSpPr>
            <p:grpSpPr>
              <a:xfrm>
                <a:off x="2352600" y="4543560"/>
                <a:ext cx="347760" cy="573120"/>
                <a:chOff x="2352600" y="4543560"/>
                <a:chExt cx="347760" cy="573120"/>
              </a:xfrm>
            </p:grpSpPr>
            <p:sp>
              <p:nvSpPr>
                <p:cNvPr id="2985" name=""/>
                <p:cNvSpPr/>
                <p:nvPr/>
              </p:nvSpPr>
              <p:spPr>
                <a:xfrm>
                  <a:off x="2399400" y="454356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2352600" y="454356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7" name=""/>
              <p:cNvGrpSpPr/>
              <p:nvPr/>
            </p:nvGrpSpPr>
            <p:grpSpPr>
              <a:xfrm>
                <a:off x="2700720" y="4543560"/>
                <a:ext cx="348120" cy="573120"/>
                <a:chOff x="2700720" y="4543560"/>
                <a:chExt cx="348120" cy="573120"/>
              </a:xfrm>
            </p:grpSpPr>
            <p:sp>
              <p:nvSpPr>
                <p:cNvPr id="2988" name=""/>
                <p:cNvSpPr/>
                <p:nvPr/>
              </p:nvSpPr>
              <p:spPr>
                <a:xfrm>
                  <a:off x="2748240" y="454356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2700720" y="454356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0" name=""/>
              <p:cNvGrpSpPr/>
              <p:nvPr/>
            </p:nvGrpSpPr>
            <p:grpSpPr>
              <a:xfrm>
                <a:off x="3049560" y="4543560"/>
                <a:ext cx="347760" cy="573120"/>
                <a:chOff x="3049560" y="4543560"/>
                <a:chExt cx="347760" cy="57312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3096360" y="454356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3049560" y="454356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3" name=""/>
              <p:cNvGrpSpPr/>
              <p:nvPr/>
            </p:nvGrpSpPr>
            <p:grpSpPr>
              <a:xfrm>
                <a:off x="3397680" y="4543560"/>
                <a:ext cx="348120" cy="573120"/>
                <a:chOff x="3397680" y="4543560"/>
                <a:chExt cx="348120" cy="57312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3445200" y="454356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397680" y="454356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6" name=""/>
              <p:cNvGrpSpPr/>
              <p:nvPr/>
            </p:nvGrpSpPr>
            <p:grpSpPr>
              <a:xfrm>
                <a:off x="3746160" y="4543560"/>
                <a:ext cx="1433520" cy="573120"/>
                <a:chOff x="3746160" y="4543560"/>
                <a:chExt cx="1433520" cy="573120"/>
              </a:xfrm>
            </p:grpSpPr>
            <p:sp>
              <p:nvSpPr>
                <p:cNvPr id="2997" name=""/>
                <p:cNvSpPr/>
                <p:nvPr/>
              </p:nvSpPr>
              <p:spPr>
                <a:xfrm>
                  <a:off x="3793320" y="4543560"/>
                  <a:ext cx="13392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746160" y="4543560"/>
                  <a:ext cx="14335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9" name=""/>
              <p:cNvGrpSpPr/>
              <p:nvPr/>
            </p:nvGrpSpPr>
            <p:grpSpPr>
              <a:xfrm>
                <a:off x="5180400" y="4543560"/>
                <a:ext cx="1555560" cy="573120"/>
                <a:chOff x="5180400" y="4543560"/>
                <a:chExt cx="1555560" cy="573120"/>
              </a:xfrm>
            </p:grpSpPr>
            <p:sp>
              <p:nvSpPr>
                <p:cNvPr id="3000" name=""/>
                <p:cNvSpPr/>
                <p:nvPr/>
              </p:nvSpPr>
              <p:spPr>
                <a:xfrm>
                  <a:off x="5227560" y="4543560"/>
                  <a:ext cx="14608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5180400" y="4543560"/>
                  <a:ext cx="15555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2" name=""/>
              <p:cNvGrpSpPr/>
              <p:nvPr/>
            </p:nvGrpSpPr>
            <p:grpSpPr>
              <a:xfrm>
                <a:off x="6736320" y="4543560"/>
                <a:ext cx="702720" cy="573120"/>
                <a:chOff x="6736320" y="4543560"/>
                <a:chExt cx="702720" cy="573120"/>
              </a:xfrm>
            </p:grpSpPr>
            <p:sp>
              <p:nvSpPr>
                <p:cNvPr id="3003" name=""/>
                <p:cNvSpPr/>
                <p:nvPr/>
              </p:nvSpPr>
              <p:spPr>
                <a:xfrm>
                  <a:off x="6783120" y="4543560"/>
                  <a:ext cx="60840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6736320" y="4543560"/>
                  <a:ext cx="7027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5" name=""/>
              <p:cNvGrpSpPr/>
              <p:nvPr/>
            </p:nvGrpSpPr>
            <p:grpSpPr>
              <a:xfrm>
                <a:off x="7439760" y="4543560"/>
                <a:ext cx="348120" cy="573120"/>
                <a:chOff x="7439760" y="4543560"/>
                <a:chExt cx="348120" cy="573120"/>
              </a:xfrm>
            </p:grpSpPr>
            <p:sp>
              <p:nvSpPr>
                <p:cNvPr id="3006" name=""/>
                <p:cNvSpPr/>
                <p:nvPr/>
              </p:nvSpPr>
              <p:spPr>
                <a:xfrm>
                  <a:off x="7487280" y="454356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39760" y="454356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8" name=""/>
              <p:cNvGrpSpPr/>
              <p:nvPr/>
            </p:nvGrpSpPr>
            <p:grpSpPr>
              <a:xfrm>
                <a:off x="7788240" y="4543560"/>
                <a:ext cx="347760" cy="573120"/>
                <a:chOff x="7788240" y="4543560"/>
                <a:chExt cx="347760" cy="573120"/>
              </a:xfrm>
            </p:grpSpPr>
            <p:sp>
              <p:nvSpPr>
                <p:cNvPr id="3009" name=""/>
                <p:cNvSpPr/>
                <p:nvPr/>
              </p:nvSpPr>
              <p:spPr>
                <a:xfrm>
                  <a:off x="7835040" y="454356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788240" y="454356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1" name=""/>
              <p:cNvGrpSpPr/>
              <p:nvPr/>
            </p:nvGrpSpPr>
            <p:grpSpPr>
              <a:xfrm>
                <a:off x="8136720" y="4543560"/>
                <a:ext cx="348120" cy="573120"/>
                <a:chOff x="8136720" y="4543560"/>
                <a:chExt cx="348120" cy="573120"/>
              </a:xfrm>
            </p:grpSpPr>
            <p:sp>
              <p:nvSpPr>
                <p:cNvPr id="3012" name=""/>
                <p:cNvSpPr/>
                <p:nvPr/>
              </p:nvSpPr>
              <p:spPr>
                <a:xfrm>
                  <a:off x="8184240" y="4543560"/>
                  <a:ext cx="25308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8136720" y="4543560"/>
                  <a:ext cx="34812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4" name=""/>
              <p:cNvGrpSpPr/>
              <p:nvPr/>
            </p:nvGrpSpPr>
            <p:grpSpPr>
              <a:xfrm>
                <a:off x="8485200" y="4543560"/>
                <a:ext cx="347760" cy="573120"/>
                <a:chOff x="8485200" y="4543560"/>
                <a:chExt cx="347760" cy="573120"/>
              </a:xfrm>
            </p:grpSpPr>
            <p:sp>
              <p:nvSpPr>
                <p:cNvPr id="3015" name=""/>
                <p:cNvSpPr/>
                <p:nvPr/>
              </p:nvSpPr>
              <p:spPr>
                <a:xfrm>
                  <a:off x="8532000" y="4543560"/>
                  <a:ext cx="25344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8485200" y="4543560"/>
                  <a:ext cx="347760" cy="57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7" name=""/>
              <p:cNvGrpSpPr/>
              <p:nvPr/>
            </p:nvGrpSpPr>
            <p:grpSpPr>
              <a:xfrm>
                <a:off x="309600" y="5117040"/>
                <a:ext cx="2042640" cy="573480"/>
                <a:chOff x="309600" y="5117040"/>
                <a:chExt cx="2042640" cy="573480"/>
              </a:xfrm>
            </p:grpSpPr>
            <p:sp>
              <p:nvSpPr>
                <p:cNvPr id="3018" name=""/>
                <p:cNvSpPr/>
                <p:nvPr/>
              </p:nvSpPr>
              <p:spPr>
                <a:xfrm>
                  <a:off x="356760" y="5117040"/>
                  <a:ext cx="19479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309600" y="5117040"/>
                  <a:ext cx="20426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0" name=""/>
              <p:cNvGrpSpPr/>
              <p:nvPr/>
            </p:nvGrpSpPr>
            <p:grpSpPr>
              <a:xfrm>
                <a:off x="2352600" y="5117040"/>
                <a:ext cx="347760" cy="573480"/>
                <a:chOff x="2352600" y="5117040"/>
                <a:chExt cx="347760" cy="573480"/>
              </a:xfrm>
            </p:grpSpPr>
            <p:sp>
              <p:nvSpPr>
                <p:cNvPr id="3021" name=""/>
                <p:cNvSpPr/>
                <p:nvPr/>
              </p:nvSpPr>
              <p:spPr>
                <a:xfrm>
                  <a:off x="2399400" y="5117040"/>
                  <a:ext cx="2534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352600" y="5117040"/>
                  <a:ext cx="3477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3" name=""/>
              <p:cNvGrpSpPr/>
              <p:nvPr/>
            </p:nvGrpSpPr>
            <p:grpSpPr>
              <a:xfrm>
                <a:off x="2700720" y="5117040"/>
                <a:ext cx="348120" cy="573480"/>
                <a:chOff x="2700720" y="5117040"/>
                <a:chExt cx="348120" cy="573480"/>
              </a:xfrm>
            </p:grpSpPr>
            <p:sp>
              <p:nvSpPr>
                <p:cNvPr id="3024" name=""/>
                <p:cNvSpPr/>
                <p:nvPr/>
              </p:nvSpPr>
              <p:spPr>
                <a:xfrm>
                  <a:off x="2748240" y="5117040"/>
                  <a:ext cx="2530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2700720" y="5117040"/>
                  <a:ext cx="348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6" name=""/>
              <p:cNvGrpSpPr/>
              <p:nvPr/>
            </p:nvGrpSpPr>
            <p:grpSpPr>
              <a:xfrm>
                <a:off x="3049560" y="5117040"/>
                <a:ext cx="347760" cy="573480"/>
                <a:chOff x="3049560" y="5117040"/>
                <a:chExt cx="347760" cy="573480"/>
              </a:xfrm>
            </p:grpSpPr>
            <p:sp>
              <p:nvSpPr>
                <p:cNvPr id="3027" name=""/>
                <p:cNvSpPr/>
                <p:nvPr/>
              </p:nvSpPr>
              <p:spPr>
                <a:xfrm>
                  <a:off x="3096360" y="5117040"/>
                  <a:ext cx="2534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3049560" y="5117040"/>
                  <a:ext cx="3477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9" name=""/>
              <p:cNvGrpSpPr/>
              <p:nvPr/>
            </p:nvGrpSpPr>
            <p:grpSpPr>
              <a:xfrm>
                <a:off x="3397680" y="5117040"/>
                <a:ext cx="348120" cy="573480"/>
                <a:chOff x="3397680" y="5117040"/>
                <a:chExt cx="348120" cy="573480"/>
              </a:xfrm>
            </p:grpSpPr>
            <p:sp>
              <p:nvSpPr>
                <p:cNvPr id="3030" name=""/>
                <p:cNvSpPr/>
                <p:nvPr/>
              </p:nvSpPr>
              <p:spPr>
                <a:xfrm>
                  <a:off x="3445200" y="5117040"/>
                  <a:ext cx="2530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3397680" y="5117040"/>
                  <a:ext cx="348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2" name=""/>
              <p:cNvGrpSpPr/>
              <p:nvPr/>
            </p:nvGrpSpPr>
            <p:grpSpPr>
              <a:xfrm>
                <a:off x="3746160" y="5117040"/>
                <a:ext cx="1433520" cy="573480"/>
                <a:chOff x="3746160" y="5117040"/>
                <a:chExt cx="1433520" cy="57348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3793320" y="5117040"/>
                  <a:ext cx="133920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3746160" y="5117040"/>
                  <a:ext cx="14335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5" name=""/>
              <p:cNvGrpSpPr/>
              <p:nvPr/>
            </p:nvGrpSpPr>
            <p:grpSpPr>
              <a:xfrm>
                <a:off x="5180400" y="5117040"/>
                <a:ext cx="1555560" cy="573480"/>
                <a:chOff x="5180400" y="5117040"/>
                <a:chExt cx="1555560" cy="573480"/>
              </a:xfrm>
            </p:grpSpPr>
            <p:sp>
              <p:nvSpPr>
                <p:cNvPr id="3036" name=""/>
                <p:cNvSpPr/>
                <p:nvPr/>
              </p:nvSpPr>
              <p:spPr>
                <a:xfrm>
                  <a:off x="5227560" y="5117040"/>
                  <a:ext cx="1460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5180400" y="5117040"/>
                  <a:ext cx="15555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8" name=""/>
              <p:cNvGrpSpPr/>
              <p:nvPr/>
            </p:nvGrpSpPr>
            <p:grpSpPr>
              <a:xfrm>
                <a:off x="6736320" y="5117040"/>
                <a:ext cx="702720" cy="573480"/>
                <a:chOff x="6736320" y="5117040"/>
                <a:chExt cx="702720" cy="573480"/>
              </a:xfrm>
            </p:grpSpPr>
            <p:sp>
              <p:nvSpPr>
                <p:cNvPr id="3039" name=""/>
                <p:cNvSpPr/>
                <p:nvPr/>
              </p:nvSpPr>
              <p:spPr>
                <a:xfrm>
                  <a:off x="6783120" y="5117040"/>
                  <a:ext cx="60840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6736320" y="5117040"/>
                  <a:ext cx="7027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1" name=""/>
              <p:cNvGrpSpPr/>
              <p:nvPr/>
            </p:nvGrpSpPr>
            <p:grpSpPr>
              <a:xfrm>
                <a:off x="7439760" y="5117040"/>
                <a:ext cx="348120" cy="573480"/>
                <a:chOff x="7439760" y="5117040"/>
                <a:chExt cx="348120" cy="573480"/>
              </a:xfrm>
            </p:grpSpPr>
            <p:sp>
              <p:nvSpPr>
                <p:cNvPr id="3042" name=""/>
                <p:cNvSpPr/>
                <p:nvPr/>
              </p:nvSpPr>
              <p:spPr>
                <a:xfrm>
                  <a:off x="7487280" y="5117040"/>
                  <a:ext cx="2530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439760" y="5117040"/>
                  <a:ext cx="348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4" name=""/>
              <p:cNvGrpSpPr/>
              <p:nvPr/>
            </p:nvGrpSpPr>
            <p:grpSpPr>
              <a:xfrm>
                <a:off x="7788240" y="5117040"/>
                <a:ext cx="347760" cy="573480"/>
                <a:chOff x="7788240" y="5117040"/>
                <a:chExt cx="347760" cy="573480"/>
              </a:xfrm>
            </p:grpSpPr>
            <p:sp>
              <p:nvSpPr>
                <p:cNvPr id="3045" name=""/>
                <p:cNvSpPr/>
                <p:nvPr/>
              </p:nvSpPr>
              <p:spPr>
                <a:xfrm>
                  <a:off x="7835040" y="5117040"/>
                  <a:ext cx="2534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788240" y="5117040"/>
                  <a:ext cx="3477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7" name=""/>
              <p:cNvGrpSpPr/>
              <p:nvPr/>
            </p:nvGrpSpPr>
            <p:grpSpPr>
              <a:xfrm>
                <a:off x="8136720" y="5117040"/>
                <a:ext cx="348120" cy="573480"/>
                <a:chOff x="8136720" y="5117040"/>
                <a:chExt cx="348120" cy="573480"/>
              </a:xfrm>
            </p:grpSpPr>
            <p:sp>
              <p:nvSpPr>
                <p:cNvPr id="3048" name=""/>
                <p:cNvSpPr/>
                <p:nvPr/>
              </p:nvSpPr>
              <p:spPr>
                <a:xfrm>
                  <a:off x="8184240" y="5117040"/>
                  <a:ext cx="2530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8136720" y="5117040"/>
                  <a:ext cx="348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0" name=""/>
              <p:cNvGrpSpPr/>
              <p:nvPr/>
            </p:nvGrpSpPr>
            <p:grpSpPr>
              <a:xfrm>
                <a:off x="8485200" y="5117040"/>
                <a:ext cx="347760" cy="573480"/>
                <a:chOff x="8485200" y="5117040"/>
                <a:chExt cx="347760" cy="573480"/>
              </a:xfrm>
            </p:grpSpPr>
            <p:sp>
              <p:nvSpPr>
                <p:cNvPr id="3051" name=""/>
                <p:cNvSpPr/>
                <p:nvPr/>
              </p:nvSpPr>
              <p:spPr>
                <a:xfrm>
                  <a:off x="8532000" y="5117040"/>
                  <a:ext cx="2534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8485200" y="5117040"/>
                  <a:ext cx="3477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3" name=""/>
              <p:cNvGrpSpPr/>
              <p:nvPr/>
            </p:nvGrpSpPr>
            <p:grpSpPr>
              <a:xfrm>
                <a:off x="309600" y="5690880"/>
                <a:ext cx="3436200" cy="628920"/>
                <a:chOff x="309600" y="5690880"/>
                <a:chExt cx="3436200" cy="628920"/>
              </a:xfrm>
            </p:grpSpPr>
            <p:sp>
              <p:nvSpPr>
                <p:cNvPr id="3054" name=""/>
                <p:cNvSpPr/>
                <p:nvPr/>
              </p:nvSpPr>
              <p:spPr>
                <a:xfrm>
                  <a:off x="356760" y="5690880"/>
                  <a:ext cx="334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DATA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309600" y="5690880"/>
                  <a:ext cx="3436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6" name=""/>
              <p:cNvGrpSpPr/>
              <p:nvPr/>
            </p:nvGrpSpPr>
            <p:grpSpPr>
              <a:xfrm>
                <a:off x="3746160" y="5690880"/>
                <a:ext cx="5086800" cy="628920"/>
                <a:chOff x="3746160" y="5690880"/>
                <a:chExt cx="5086800" cy="628920"/>
              </a:xfrm>
            </p:grpSpPr>
            <p:sp>
              <p:nvSpPr>
                <p:cNvPr id="3057" name=""/>
                <p:cNvSpPr/>
                <p:nvPr/>
              </p:nvSpPr>
              <p:spPr>
                <a:xfrm>
                  <a:off x="3793320" y="5690880"/>
                  <a:ext cx="499248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FIRMA INFERMIERE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3746160" y="5690880"/>
                  <a:ext cx="50868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9" name=""/>
            <p:cNvSpPr/>
            <p:nvPr/>
          </p:nvSpPr>
          <p:spPr>
            <a:xfrm>
              <a:off x="304920" y="2819520"/>
              <a:ext cx="8533800" cy="3504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0" name=""/>
          <p:cNvGrpSpPr/>
          <p:nvPr/>
        </p:nvGrpSpPr>
        <p:grpSpPr>
          <a:xfrm>
            <a:off x="304920" y="228600"/>
            <a:ext cx="8533800" cy="2463840"/>
            <a:chOff x="304920" y="228600"/>
            <a:chExt cx="8533800" cy="2463840"/>
          </a:xfrm>
        </p:grpSpPr>
        <p:grpSp>
          <p:nvGrpSpPr>
            <p:cNvPr id="3061" name=""/>
            <p:cNvGrpSpPr/>
            <p:nvPr/>
          </p:nvGrpSpPr>
          <p:grpSpPr>
            <a:xfrm>
              <a:off x="309600" y="232560"/>
              <a:ext cx="8523360" cy="2454840"/>
              <a:chOff x="309600" y="232560"/>
              <a:chExt cx="8523360" cy="2454840"/>
            </a:xfrm>
          </p:grpSpPr>
          <p:grpSp>
            <p:nvGrpSpPr>
              <p:cNvPr id="3062" name=""/>
              <p:cNvGrpSpPr/>
              <p:nvPr/>
            </p:nvGrpSpPr>
            <p:grpSpPr>
              <a:xfrm>
                <a:off x="309600" y="232560"/>
                <a:ext cx="3436200" cy="641880"/>
                <a:chOff x="309600" y="232560"/>
                <a:chExt cx="3436200" cy="641880"/>
              </a:xfrm>
            </p:grpSpPr>
            <p:sp>
              <p:nvSpPr>
                <p:cNvPr id="3063" name=""/>
                <p:cNvSpPr/>
                <p:nvPr/>
              </p:nvSpPr>
              <p:spPr>
                <a:xfrm>
                  <a:off x="356760" y="232560"/>
                  <a:ext cx="33415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DATA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309600" y="232560"/>
                  <a:ext cx="343620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5" name=""/>
              <p:cNvGrpSpPr/>
              <p:nvPr/>
            </p:nvGrpSpPr>
            <p:grpSpPr>
              <a:xfrm>
                <a:off x="3746160" y="232560"/>
                <a:ext cx="5086800" cy="641880"/>
                <a:chOff x="3746160" y="232560"/>
                <a:chExt cx="5086800" cy="641880"/>
              </a:xfrm>
            </p:grpSpPr>
            <p:sp>
              <p:nvSpPr>
                <p:cNvPr id="3066" name=""/>
                <p:cNvSpPr/>
                <p:nvPr/>
              </p:nvSpPr>
              <p:spPr>
                <a:xfrm>
                  <a:off x="3793320" y="232560"/>
                  <a:ext cx="49924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FIRMA INFERMIERE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3746160" y="232560"/>
                  <a:ext cx="508680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8" name=""/>
              <p:cNvGrpSpPr/>
              <p:nvPr/>
            </p:nvGrpSpPr>
            <p:grpSpPr>
              <a:xfrm>
                <a:off x="309600" y="874440"/>
                <a:ext cx="2042640" cy="641880"/>
                <a:chOff x="309600" y="874440"/>
                <a:chExt cx="2042640" cy="641880"/>
              </a:xfrm>
            </p:grpSpPr>
            <p:sp>
              <p:nvSpPr>
                <p:cNvPr id="3069" name=""/>
                <p:cNvSpPr/>
                <p:nvPr/>
              </p:nvSpPr>
              <p:spPr>
                <a:xfrm>
                  <a:off x="309600" y="874440"/>
                  <a:ext cx="204264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0" name=""/>
                <p:cNvGrpSpPr/>
                <p:nvPr/>
              </p:nvGrpSpPr>
              <p:grpSpPr>
                <a:xfrm>
                  <a:off x="309600" y="874440"/>
                  <a:ext cx="2042280" cy="641880"/>
                  <a:chOff x="309600" y="874440"/>
                  <a:chExt cx="2042280" cy="641880"/>
                </a:xfrm>
              </p:grpSpPr>
              <p:sp>
                <p:nvSpPr>
                  <p:cNvPr id="3071" name=""/>
                  <p:cNvSpPr/>
                  <p:nvPr/>
                </p:nvSpPr>
                <p:spPr>
                  <a:xfrm>
                    <a:off x="356760" y="874440"/>
                    <a:ext cx="194760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Sed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309600" y="874440"/>
                    <a:ext cx="204228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3" name=""/>
              <p:cNvGrpSpPr/>
              <p:nvPr/>
            </p:nvGrpSpPr>
            <p:grpSpPr>
              <a:xfrm>
                <a:off x="2352600" y="874440"/>
                <a:ext cx="1393200" cy="641880"/>
                <a:chOff x="2352600" y="874440"/>
                <a:chExt cx="1393200" cy="641880"/>
              </a:xfrm>
            </p:grpSpPr>
            <p:sp>
              <p:nvSpPr>
                <p:cNvPr id="3074" name=""/>
                <p:cNvSpPr/>
                <p:nvPr/>
              </p:nvSpPr>
              <p:spPr>
                <a:xfrm>
                  <a:off x="2352600" y="874440"/>
                  <a:ext cx="139320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5" name=""/>
                <p:cNvGrpSpPr/>
                <p:nvPr/>
              </p:nvGrpSpPr>
              <p:grpSpPr>
                <a:xfrm>
                  <a:off x="2352600" y="874440"/>
                  <a:ext cx="1392840" cy="641880"/>
                  <a:chOff x="2352600" y="874440"/>
                  <a:chExt cx="1392840" cy="641880"/>
                </a:xfrm>
              </p:grpSpPr>
              <p:sp>
                <p:nvSpPr>
                  <p:cNvPr id="3076" name=""/>
                  <p:cNvSpPr/>
                  <p:nvPr/>
                </p:nvSpPr>
                <p:spPr>
                  <a:xfrm>
                    <a:off x="2399400" y="874440"/>
                    <a:ext cx="129816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Stadi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2352600" y="874440"/>
                    <a:ext cx="139284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8" name=""/>
              <p:cNvGrpSpPr/>
              <p:nvPr/>
            </p:nvGrpSpPr>
            <p:grpSpPr>
              <a:xfrm>
                <a:off x="3746160" y="874440"/>
                <a:ext cx="1433520" cy="641880"/>
                <a:chOff x="3746160" y="874440"/>
                <a:chExt cx="1433520" cy="641880"/>
              </a:xfrm>
            </p:grpSpPr>
            <p:sp>
              <p:nvSpPr>
                <p:cNvPr id="3079" name=""/>
                <p:cNvSpPr/>
                <p:nvPr/>
              </p:nvSpPr>
              <p:spPr>
                <a:xfrm>
                  <a:off x="3746160" y="874440"/>
                  <a:ext cx="143352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0" name=""/>
                <p:cNvGrpSpPr/>
                <p:nvPr/>
              </p:nvGrpSpPr>
              <p:grpSpPr>
                <a:xfrm>
                  <a:off x="3746160" y="874440"/>
                  <a:ext cx="1433160" cy="641880"/>
                  <a:chOff x="3746160" y="874440"/>
                  <a:chExt cx="1433160" cy="641880"/>
                </a:xfrm>
              </p:grpSpPr>
              <p:sp>
                <p:nvSpPr>
                  <p:cNvPr id="3081" name=""/>
                  <p:cNvSpPr/>
                  <p:nvPr/>
                </p:nvSpPr>
                <p:spPr>
                  <a:xfrm>
                    <a:off x="3792960" y="874440"/>
                    <a:ext cx="133884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Dimensione o Ampiezz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3746160" y="874440"/>
                    <a:ext cx="143316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3" name=""/>
              <p:cNvGrpSpPr/>
              <p:nvPr/>
            </p:nvGrpSpPr>
            <p:grpSpPr>
              <a:xfrm>
                <a:off x="5180400" y="874440"/>
                <a:ext cx="1555560" cy="641880"/>
                <a:chOff x="5180400" y="874440"/>
                <a:chExt cx="1555560" cy="641880"/>
              </a:xfrm>
            </p:grpSpPr>
            <p:sp>
              <p:nvSpPr>
                <p:cNvPr id="3084" name=""/>
                <p:cNvSpPr/>
                <p:nvPr/>
              </p:nvSpPr>
              <p:spPr>
                <a:xfrm>
                  <a:off x="5180400" y="874440"/>
                  <a:ext cx="155556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5" name=""/>
                <p:cNvGrpSpPr/>
                <p:nvPr/>
              </p:nvGrpSpPr>
              <p:grpSpPr>
                <a:xfrm>
                  <a:off x="5180400" y="874440"/>
                  <a:ext cx="1555200" cy="641880"/>
                  <a:chOff x="5180400" y="874440"/>
                  <a:chExt cx="1555200" cy="641880"/>
                </a:xfrm>
              </p:grpSpPr>
              <p:sp>
                <p:nvSpPr>
                  <p:cNvPr id="3086" name=""/>
                  <p:cNvSpPr/>
                  <p:nvPr/>
                </p:nvSpPr>
                <p:spPr>
                  <a:xfrm>
                    <a:off x="5227560" y="874440"/>
                    <a:ext cx="146052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Profondità e/o sottominatur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5180400" y="874440"/>
                    <a:ext cx="155520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8" name=""/>
              <p:cNvGrpSpPr/>
              <p:nvPr/>
            </p:nvGrpSpPr>
            <p:grpSpPr>
              <a:xfrm>
                <a:off x="6736320" y="874440"/>
                <a:ext cx="702720" cy="641880"/>
                <a:chOff x="6736320" y="874440"/>
                <a:chExt cx="702720" cy="641880"/>
              </a:xfrm>
            </p:grpSpPr>
            <p:sp>
              <p:nvSpPr>
                <p:cNvPr id="3089" name=""/>
                <p:cNvSpPr/>
                <p:nvPr/>
              </p:nvSpPr>
              <p:spPr>
                <a:xfrm>
                  <a:off x="6736320" y="874440"/>
                  <a:ext cx="70272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0" name=""/>
                <p:cNvGrpSpPr/>
                <p:nvPr/>
              </p:nvGrpSpPr>
              <p:grpSpPr>
                <a:xfrm>
                  <a:off x="6736320" y="874440"/>
                  <a:ext cx="702360" cy="641880"/>
                  <a:chOff x="6736320" y="874440"/>
                  <a:chExt cx="702360" cy="641880"/>
                </a:xfrm>
              </p:grpSpPr>
              <p:sp>
                <p:nvSpPr>
                  <p:cNvPr id="3091" name=""/>
                  <p:cNvSpPr/>
                  <p:nvPr/>
                </p:nvSpPr>
                <p:spPr>
                  <a:xfrm>
                    <a:off x="6783120" y="874440"/>
                    <a:ext cx="60840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Modell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6736320" y="874440"/>
                    <a:ext cx="70236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3" name=""/>
              <p:cNvGrpSpPr/>
              <p:nvPr/>
            </p:nvGrpSpPr>
            <p:grpSpPr>
              <a:xfrm>
                <a:off x="7439760" y="874440"/>
                <a:ext cx="1393200" cy="641880"/>
                <a:chOff x="7439760" y="874440"/>
                <a:chExt cx="1393200" cy="641880"/>
              </a:xfrm>
            </p:grpSpPr>
            <p:sp>
              <p:nvSpPr>
                <p:cNvPr id="3094" name=""/>
                <p:cNvSpPr/>
                <p:nvPr/>
              </p:nvSpPr>
              <p:spPr>
                <a:xfrm>
                  <a:off x="7439760" y="874440"/>
                  <a:ext cx="1393200" cy="641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5" name=""/>
                <p:cNvGrpSpPr/>
                <p:nvPr/>
              </p:nvGrpSpPr>
              <p:grpSpPr>
                <a:xfrm>
                  <a:off x="7439760" y="874440"/>
                  <a:ext cx="1392840" cy="641880"/>
                  <a:chOff x="7439760" y="874440"/>
                  <a:chExt cx="1392840" cy="641880"/>
                </a:xfrm>
              </p:grpSpPr>
              <p:sp>
                <p:nvSpPr>
                  <p:cNvPr id="3096" name=""/>
                  <p:cNvSpPr/>
                  <p:nvPr/>
                </p:nvSpPr>
                <p:spPr>
                  <a:xfrm>
                    <a:off x="7487280" y="874440"/>
                    <a:ext cx="1298160" cy="64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 u="sng">
                        <a:solidFill>
                          <a:srgbClr val="000080"/>
                        </a:solidFill>
                        <a:uFillTx/>
                        <a:latin typeface="Arial Unicode MS"/>
                        <a:ea typeface="Arial Unicode MS"/>
                      </a:rPr>
                      <a:t>Cute perilesiona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7439760" y="874440"/>
                    <a:ext cx="1392840" cy="64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8" name=""/>
              <p:cNvGrpSpPr/>
              <p:nvPr/>
            </p:nvGrpSpPr>
            <p:grpSpPr>
              <a:xfrm>
                <a:off x="309600" y="1516320"/>
                <a:ext cx="2042640" cy="585360"/>
                <a:chOff x="309600" y="1516320"/>
                <a:chExt cx="2042640" cy="585360"/>
              </a:xfrm>
            </p:grpSpPr>
            <p:sp>
              <p:nvSpPr>
                <p:cNvPr id="3099" name=""/>
                <p:cNvSpPr/>
                <p:nvPr/>
              </p:nvSpPr>
              <p:spPr>
                <a:xfrm>
                  <a:off x="356760" y="1516320"/>
                  <a:ext cx="194796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309600" y="1516320"/>
                  <a:ext cx="204264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1" name=""/>
              <p:cNvGrpSpPr/>
              <p:nvPr/>
            </p:nvGrpSpPr>
            <p:grpSpPr>
              <a:xfrm>
                <a:off x="2352600" y="1516320"/>
                <a:ext cx="347760" cy="585360"/>
                <a:chOff x="2352600" y="1516320"/>
                <a:chExt cx="347760" cy="585360"/>
              </a:xfrm>
            </p:grpSpPr>
            <p:sp>
              <p:nvSpPr>
                <p:cNvPr id="3102" name=""/>
                <p:cNvSpPr/>
                <p:nvPr/>
              </p:nvSpPr>
              <p:spPr>
                <a:xfrm>
                  <a:off x="2399400" y="151632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2352600" y="151632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4" name=""/>
              <p:cNvGrpSpPr/>
              <p:nvPr/>
            </p:nvGrpSpPr>
            <p:grpSpPr>
              <a:xfrm>
                <a:off x="2700720" y="1516320"/>
                <a:ext cx="348120" cy="585360"/>
                <a:chOff x="2700720" y="1516320"/>
                <a:chExt cx="348120" cy="585360"/>
              </a:xfrm>
            </p:grpSpPr>
            <p:sp>
              <p:nvSpPr>
                <p:cNvPr id="3105" name=""/>
                <p:cNvSpPr/>
                <p:nvPr/>
              </p:nvSpPr>
              <p:spPr>
                <a:xfrm>
                  <a:off x="2748240" y="151632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2700720" y="151632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7" name=""/>
              <p:cNvGrpSpPr/>
              <p:nvPr/>
            </p:nvGrpSpPr>
            <p:grpSpPr>
              <a:xfrm>
                <a:off x="3049560" y="1516320"/>
                <a:ext cx="347760" cy="585360"/>
                <a:chOff x="3049560" y="1516320"/>
                <a:chExt cx="347760" cy="585360"/>
              </a:xfrm>
            </p:grpSpPr>
            <p:sp>
              <p:nvSpPr>
                <p:cNvPr id="3108" name=""/>
                <p:cNvSpPr/>
                <p:nvPr/>
              </p:nvSpPr>
              <p:spPr>
                <a:xfrm>
                  <a:off x="3096360" y="151632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3049560" y="151632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0" name=""/>
              <p:cNvGrpSpPr/>
              <p:nvPr/>
            </p:nvGrpSpPr>
            <p:grpSpPr>
              <a:xfrm>
                <a:off x="3397680" y="1516320"/>
                <a:ext cx="348120" cy="585360"/>
                <a:chOff x="3397680" y="1516320"/>
                <a:chExt cx="348120" cy="585360"/>
              </a:xfrm>
            </p:grpSpPr>
            <p:sp>
              <p:nvSpPr>
                <p:cNvPr id="3111" name=""/>
                <p:cNvSpPr/>
                <p:nvPr/>
              </p:nvSpPr>
              <p:spPr>
                <a:xfrm>
                  <a:off x="3445200" y="151632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3397680" y="151632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3" name=""/>
              <p:cNvGrpSpPr/>
              <p:nvPr/>
            </p:nvGrpSpPr>
            <p:grpSpPr>
              <a:xfrm>
                <a:off x="3746160" y="1516320"/>
                <a:ext cx="1433520" cy="585360"/>
                <a:chOff x="3746160" y="1516320"/>
                <a:chExt cx="1433520" cy="585360"/>
              </a:xfrm>
            </p:grpSpPr>
            <p:sp>
              <p:nvSpPr>
                <p:cNvPr id="3114" name=""/>
                <p:cNvSpPr/>
                <p:nvPr/>
              </p:nvSpPr>
              <p:spPr>
                <a:xfrm>
                  <a:off x="3793320" y="1516320"/>
                  <a:ext cx="13392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3746160" y="1516320"/>
                  <a:ext cx="1433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6" name=""/>
              <p:cNvGrpSpPr/>
              <p:nvPr/>
            </p:nvGrpSpPr>
            <p:grpSpPr>
              <a:xfrm>
                <a:off x="5180400" y="1516320"/>
                <a:ext cx="1555560" cy="585360"/>
                <a:chOff x="5180400" y="1516320"/>
                <a:chExt cx="1555560" cy="585360"/>
              </a:xfrm>
            </p:grpSpPr>
            <p:sp>
              <p:nvSpPr>
                <p:cNvPr id="3117" name=""/>
                <p:cNvSpPr/>
                <p:nvPr/>
              </p:nvSpPr>
              <p:spPr>
                <a:xfrm>
                  <a:off x="5227560" y="1516320"/>
                  <a:ext cx="14608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5180400" y="1516320"/>
                  <a:ext cx="15555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9" name=""/>
              <p:cNvGrpSpPr/>
              <p:nvPr/>
            </p:nvGrpSpPr>
            <p:grpSpPr>
              <a:xfrm>
                <a:off x="6736320" y="1516320"/>
                <a:ext cx="702720" cy="585360"/>
                <a:chOff x="6736320" y="1516320"/>
                <a:chExt cx="702720" cy="585360"/>
              </a:xfrm>
            </p:grpSpPr>
            <p:sp>
              <p:nvSpPr>
                <p:cNvPr id="3120" name=""/>
                <p:cNvSpPr/>
                <p:nvPr/>
              </p:nvSpPr>
              <p:spPr>
                <a:xfrm>
                  <a:off x="6783120" y="1516320"/>
                  <a:ext cx="6084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736320" y="1516320"/>
                  <a:ext cx="7027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2" name=""/>
              <p:cNvGrpSpPr/>
              <p:nvPr/>
            </p:nvGrpSpPr>
            <p:grpSpPr>
              <a:xfrm>
                <a:off x="7439760" y="1516320"/>
                <a:ext cx="348120" cy="585360"/>
                <a:chOff x="7439760" y="1516320"/>
                <a:chExt cx="348120" cy="585360"/>
              </a:xfrm>
            </p:grpSpPr>
            <p:sp>
              <p:nvSpPr>
                <p:cNvPr id="3123" name=""/>
                <p:cNvSpPr/>
                <p:nvPr/>
              </p:nvSpPr>
              <p:spPr>
                <a:xfrm>
                  <a:off x="7487280" y="151632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7439760" y="151632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5" name=""/>
              <p:cNvGrpSpPr/>
              <p:nvPr/>
            </p:nvGrpSpPr>
            <p:grpSpPr>
              <a:xfrm>
                <a:off x="7788240" y="1516320"/>
                <a:ext cx="347760" cy="585360"/>
                <a:chOff x="7788240" y="1516320"/>
                <a:chExt cx="347760" cy="585360"/>
              </a:xfrm>
            </p:grpSpPr>
            <p:sp>
              <p:nvSpPr>
                <p:cNvPr id="3126" name=""/>
                <p:cNvSpPr/>
                <p:nvPr/>
              </p:nvSpPr>
              <p:spPr>
                <a:xfrm>
                  <a:off x="7835040" y="151632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7788240" y="151632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8" name=""/>
              <p:cNvGrpSpPr/>
              <p:nvPr/>
            </p:nvGrpSpPr>
            <p:grpSpPr>
              <a:xfrm>
                <a:off x="8136720" y="1516320"/>
                <a:ext cx="348120" cy="585360"/>
                <a:chOff x="8136720" y="1516320"/>
                <a:chExt cx="348120" cy="585360"/>
              </a:xfrm>
            </p:grpSpPr>
            <p:sp>
              <p:nvSpPr>
                <p:cNvPr id="3129" name=""/>
                <p:cNvSpPr/>
                <p:nvPr/>
              </p:nvSpPr>
              <p:spPr>
                <a:xfrm>
                  <a:off x="8184240" y="151632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8136720" y="151632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1" name=""/>
              <p:cNvGrpSpPr/>
              <p:nvPr/>
            </p:nvGrpSpPr>
            <p:grpSpPr>
              <a:xfrm>
                <a:off x="8485200" y="1516320"/>
                <a:ext cx="347760" cy="585360"/>
                <a:chOff x="8485200" y="1516320"/>
                <a:chExt cx="347760" cy="585360"/>
              </a:xfrm>
            </p:grpSpPr>
            <p:sp>
              <p:nvSpPr>
                <p:cNvPr id="3132" name=""/>
                <p:cNvSpPr/>
                <p:nvPr/>
              </p:nvSpPr>
              <p:spPr>
                <a:xfrm>
                  <a:off x="8532000" y="151632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8485200" y="151632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4" name=""/>
              <p:cNvGrpSpPr/>
              <p:nvPr/>
            </p:nvGrpSpPr>
            <p:grpSpPr>
              <a:xfrm>
                <a:off x="309600" y="2102040"/>
                <a:ext cx="2042640" cy="585360"/>
                <a:chOff x="309600" y="2102040"/>
                <a:chExt cx="2042640" cy="585360"/>
              </a:xfrm>
            </p:grpSpPr>
            <p:sp>
              <p:nvSpPr>
                <p:cNvPr id="3135" name=""/>
                <p:cNvSpPr/>
                <p:nvPr/>
              </p:nvSpPr>
              <p:spPr>
                <a:xfrm>
                  <a:off x="356760" y="2102040"/>
                  <a:ext cx="194796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Scapola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309600" y="2102040"/>
                  <a:ext cx="204264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7" name=""/>
              <p:cNvGrpSpPr/>
              <p:nvPr/>
            </p:nvGrpSpPr>
            <p:grpSpPr>
              <a:xfrm>
                <a:off x="2352600" y="2102040"/>
                <a:ext cx="347760" cy="585360"/>
                <a:chOff x="2352600" y="2102040"/>
                <a:chExt cx="347760" cy="585360"/>
              </a:xfrm>
            </p:grpSpPr>
            <p:sp>
              <p:nvSpPr>
                <p:cNvPr id="3138" name=""/>
                <p:cNvSpPr/>
                <p:nvPr/>
              </p:nvSpPr>
              <p:spPr>
                <a:xfrm>
                  <a:off x="2399400" y="210204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2352600" y="210204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0" name=""/>
              <p:cNvGrpSpPr/>
              <p:nvPr/>
            </p:nvGrpSpPr>
            <p:grpSpPr>
              <a:xfrm>
                <a:off x="2700720" y="2102040"/>
                <a:ext cx="348120" cy="585360"/>
                <a:chOff x="2700720" y="2102040"/>
                <a:chExt cx="348120" cy="585360"/>
              </a:xfrm>
            </p:grpSpPr>
            <p:sp>
              <p:nvSpPr>
                <p:cNvPr id="3141" name=""/>
                <p:cNvSpPr/>
                <p:nvPr/>
              </p:nvSpPr>
              <p:spPr>
                <a:xfrm>
                  <a:off x="2748240" y="210204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2700720" y="210204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3" name=""/>
              <p:cNvGrpSpPr/>
              <p:nvPr/>
            </p:nvGrpSpPr>
            <p:grpSpPr>
              <a:xfrm>
                <a:off x="3049560" y="2102040"/>
                <a:ext cx="347760" cy="585360"/>
                <a:chOff x="3049560" y="2102040"/>
                <a:chExt cx="347760" cy="585360"/>
              </a:xfrm>
            </p:grpSpPr>
            <p:sp>
              <p:nvSpPr>
                <p:cNvPr id="3144" name=""/>
                <p:cNvSpPr/>
                <p:nvPr/>
              </p:nvSpPr>
              <p:spPr>
                <a:xfrm>
                  <a:off x="3096360" y="210204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3049560" y="210204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6" name=""/>
              <p:cNvGrpSpPr/>
              <p:nvPr/>
            </p:nvGrpSpPr>
            <p:grpSpPr>
              <a:xfrm>
                <a:off x="3397680" y="2102040"/>
                <a:ext cx="348120" cy="585360"/>
                <a:chOff x="3397680" y="2102040"/>
                <a:chExt cx="348120" cy="585360"/>
              </a:xfrm>
            </p:grpSpPr>
            <p:sp>
              <p:nvSpPr>
                <p:cNvPr id="3147" name=""/>
                <p:cNvSpPr/>
                <p:nvPr/>
              </p:nvSpPr>
              <p:spPr>
                <a:xfrm>
                  <a:off x="3445200" y="210204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3397680" y="210204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9" name=""/>
              <p:cNvGrpSpPr/>
              <p:nvPr/>
            </p:nvGrpSpPr>
            <p:grpSpPr>
              <a:xfrm>
                <a:off x="3746160" y="2102040"/>
                <a:ext cx="1433520" cy="585360"/>
                <a:chOff x="3746160" y="2102040"/>
                <a:chExt cx="1433520" cy="585360"/>
              </a:xfrm>
            </p:grpSpPr>
            <p:sp>
              <p:nvSpPr>
                <p:cNvPr id="3150" name=""/>
                <p:cNvSpPr/>
                <p:nvPr/>
              </p:nvSpPr>
              <p:spPr>
                <a:xfrm>
                  <a:off x="3793320" y="2102040"/>
                  <a:ext cx="13392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         x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3746160" y="2102040"/>
                  <a:ext cx="14335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2" name=""/>
              <p:cNvGrpSpPr/>
              <p:nvPr/>
            </p:nvGrpSpPr>
            <p:grpSpPr>
              <a:xfrm>
                <a:off x="5180400" y="2102040"/>
                <a:ext cx="1555560" cy="585360"/>
                <a:chOff x="5180400" y="2102040"/>
                <a:chExt cx="1555560" cy="585360"/>
              </a:xfrm>
            </p:grpSpPr>
            <p:sp>
              <p:nvSpPr>
                <p:cNvPr id="3153" name=""/>
                <p:cNvSpPr/>
                <p:nvPr/>
              </p:nvSpPr>
              <p:spPr>
                <a:xfrm>
                  <a:off x="5227560" y="2102040"/>
                  <a:ext cx="14608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c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5180400" y="2102040"/>
                  <a:ext cx="15555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5" name=""/>
              <p:cNvGrpSpPr/>
              <p:nvPr/>
            </p:nvGrpSpPr>
            <p:grpSpPr>
              <a:xfrm>
                <a:off x="6736320" y="2102040"/>
                <a:ext cx="702720" cy="585360"/>
                <a:chOff x="6736320" y="2102040"/>
                <a:chExt cx="702720" cy="585360"/>
              </a:xfrm>
            </p:grpSpPr>
            <p:sp>
              <p:nvSpPr>
                <p:cNvPr id="3156" name=""/>
                <p:cNvSpPr/>
                <p:nvPr/>
              </p:nvSpPr>
              <p:spPr>
                <a:xfrm>
                  <a:off x="6783120" y="2102040"/>
                  <a:ext cx="6084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736320" y="2102040"/>
                  <a:ext cx="7027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8" name=""/>
              <p:cNvGrpSpPr/>
              <p:nvPr/>
            </p:nvGrpSpPr>
            <p:grpSpPr>
              <a:xfrm>
                <a:off x="7439760" y="2102040"/>
                <a:ext cx="348120" cy="585360"/>
                <a:chOff x="7439760" y="2102040"/>
                <a:chExt cx="348120" cy="585360"/>
              </a:xfrm>
            </p:grpSpPr>
            <p:sp>
              <p:nvSpPr>
                <p:cNvPr id="3159" name=""/>
                <p:cNvSpPr/>
                <p:nvPr/>
              </p:nvSpPr>
              <p:spPr>
                <a:xfrm>
                  <a:off x="7487280" y="210204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7439760" y="210204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1" name=""/>
              <p:cNvGrpSpPr/>
              <p:nvPr/>
            </p:nvGrpSpPr>
            <p:grpSpPr>
              <a:xfrm>
                <a:off x="7788240" y="2102040"/>
                <a:ext cx="347760" cy="585360"/>
                <a:chOff x="7788240" y="2102040"/>
                <a:chExt cx="347760" cy="585360"/>
              </a:xfrm>
            </p:grpSpPr>
            <p:sp>
              <p:nvSpPr>
                <p:cNvPr id="3162" name=""/>
                <p:cNvSpPr/>
                <p:nvPr/>
              </p:nvSpPr>
              <p:spPr>
                <a:xfrm>
                  <a:off x="7835040" y="210204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7788240" y="210204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4" name=""/>
              <p:cNvGrpSpPr/>
              <p:nvPr/>
            </p:nvGrpSpPr>
            <p:grpSpPr>
              <a:xfrm>
                <a:off x="8136720" y="2102040"/>
                <a:ext cx="348120" cy="585360"/>
                <a:chOff x="8136720" y="2102040"/>
                <a:chExt cx="348120" cy="585360"/>
              </a:xfrm>
            </p:grpSpPr>
            <p:sp>
              <p:nvSpPr>
                <p:cNvPr id="3165" name=""/>
                <p:cNvSpPr/>
                <p:nvPr/>
              </p:nvSpPr>
              <p:spPr>
                <a:xfrm>
                  <a:off x="8184240" y="2102040"/>
                  <a:ext cx="253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8136720" y="2102040"/>
                  <a:ext cx="34812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7" name=""/>
              <p:cNvGrpSpPr/>
              <p:nvPr/>
            </p:nvGrpSpPr>
            <p:grpSpPr>
              <a:xfrm>
                <a:off x="8485200" y="2102040"/>
                <a:ext cx="347760" cy="585360"/>
                <a:chOff x="8485200" y="2102040"/>
                <a:chExt cx="347760" cy="585360"/>
              </a:xfrm>
            </p:grpSpPr>
            <p:sp>
              <p:nvSpPr>
                <p:cNvPr id="3168" name=""/>
                <p:cNvSpPr/>
                <p:nvPr/>
              </p:nvSpPr>
              <p:spPr>
                <a:xfrm>
                  <a:off x="8532000" y="2102040"/>
                  <a:ext cx="2534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80"/>
                      </a:solidFill>
                      <a:uFillTx/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8485200" y="2102040"/>
                  <a:ext cx="3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0" name=""/>
            <p:cNvSpPr/>
            <p:nvPr/>
          </p:nvSpPr>
          <p:spPr>
            <a:xfrm>
              <a:off x="304920" y="228600"/>
              <a:ext cx="8533800" cy="2463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1" name=""/>
          <p:cNvSpPr/>
          <p:nvPr/>
        </p:nvSpPr>
        <p:spPr>
          <a:xfrm>
            <a:off x="4052160" y="175248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80"/>
                </a:solidFill>
                <a:uFillTx/>
                <a:latin typeface="Arial Unicode MS"/>
                <a:ea typeface="Arial Unicode MS"/>
              </a:rPr>
              <a:t>Cm         x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388800" y="167652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80"/>
                </a:solidFill>
                <a:uFillTx/>
                <a:latin typeface="Arial Unicode MS"/>
                <a:ea typeface="Arial Unicode MS"/>
              </a:rPr>
              <a:t>Scapola S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7145-4A3B-4E41-AC10-9DE979C349C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38B03E0-C90D-460A-9F0A-357BE387F7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920" y="0"/>
            <a:ext cx="8610120" cy="6476760"/>
            <a:chOff x="304920" y="0"/>
            <a:chExt cx="8610120" cy="6476760"/>
          </a:xfrm>
        </p:grpSpPr>
        <p:grpSp>
          <p:nvGrpSpPr>
            <p:cNvPr id="118" name=""/>
            <p:cNvGrpSpPr/>
            <p:nvPr/>
          </p:nvGrpSpPr>
          <p:grpSpPr>
            <a:xfrm>
              <a:off x="310680" y="6480"/>
              <a:ext cx="8596440" cy="6462000"/>
              <a:chOff x="310680" y="6480"/>
              <a:chExt cx="8596440" cy="646200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10680" y="6480"/>
                <a:ext cx="3856320" cy="909000"/>
                <a:chOff x="310680" y="6480"/>
                <a:chExt cx="3856320" cy="9090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10680" y="6480"/>
                  <a:ext cx="3856320" cy="9090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10680" y="6480"/>
                  <a:ext cx="3855960" cy="908640"/>
                  <a:chOff x="310680" y="6480"/>
                  <a:chExt cx="3855960" cy="908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67920" y="6480"/>
                    <a:ext cx="3741480" cy="908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SCALA DI NORTON PLU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10680" y="6480"/>
                    <a:ext cx="3855960" cy="908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4167360" y="6480"/>
                <a:ext cx="1536840" cy="909000"/>
                <a:chOff x="4167360" y="6480"/>
                <a:chExt cx="1536840" cy="909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224960" y="6480"/>
                  <a:ext cx="142128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67360" y="6480"/>
                  <a:ext cx="153684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704560" y="6480"/>
                <a:ext cx="1665720" cy="909000"/>
                <a:chOff x="5704560" y="6480"/>
                <a:chExt cx="1665720" cy="9090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761800" y="6480"/>
                  <a:ext cx="155088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704560" y="6480"/>
                  <a:ext cx="166572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371000" y="6480"/>
                <a:ext cx="1536120" cy="909000"/>
                <a:chOff x="7371000" y="6480"/>
                <a:chExt cx="1536120" cy="909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371000" y="6480"/>
                  <a:ext cx="1536120" cy="9090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7371000" y="6480"/>
                  <a:ext cx="1535760" cy="908640"/>
                  <a:chOff x="7371000" y="6480"/>
                  <a:chExt cx="1535760" cy="90864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7428240" y="6480"/>
                    <a:ext cx="1421280" cy="908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 u="sng">
                        <a:solidFill>
                          <a:srgbClr val="000080"/>
                        </a:solidFill>
                        <a:uFillTx/>
                        <a:latin typeface="Verdana"/>
                        <a:ea typeface="Arial Unicode MS"/>
                      </a:rPr>
                      <a:t>S C H E M A   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371000" y="6480"/>
                    <a:ext cx="1535760" cy="908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310680" y="915840"/>
                <a:ext cx="1536120" cy="1170720"/>
                <a:chOff x="310680" y="915840"/>
                <a:chExt cx="1536120" cy="1170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10680" y="915840"/>
                  <a:ext cx="1536120" cy="1170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310680" y="915840"/>
                  <a:ext cx="1535760" cy="1170360"/>
                  <a:chOff x="310680" y="915840"/>
                  <a:chExt cx="1535760" cy="11703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67920" y="915840"/>
                    <a:ext cx="1421280" cy="1170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CONDIZIONI GENERALI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10680" y="915840"/>
                    <a:ext cx="1535760" cy="117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1847160" y="915840"/>
                <a:ext cx="2319480" cy="1170720"/>
                <a:chOff x="1847160" y="915840"/>
                <a:chExt cx="2319480" cy="1170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847160" y="915840"/>
                  <a:ext cx="2319480" cy="1170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1847160" y="915840"/>
                  <a:ext cx="2319120" cy="1170360"/>
                  <a:chOff x="1847160" y="915840"/>
                  <a:chExt cx="2319120" cy="117036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1904760" y="915840"/>
                    <a:ext cx="2204280" cy="1170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STATO MENTA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847160" y="915840"/>
                    <a:ext cx="2319120" cy="117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" name=""/>
              <p:cNvGrpSpPr/>
              <p:nvPr/>
            </p:nvGrpSpPr>
            <p:grpSpPr>
              <a:xfrm>
                <a:off x="4167360" y="915840"/>
                <a:ext cx="1536840" cy="1170720"/>
                <a:chOff x="4167360" y="915840"/>
                <a:chExt cx="1536840" cy="1170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167360" y="915840"/>
                  <a:ext cx="1536840" cy="1170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4167360" y="915840"/>
                  <a:ext cx="1536480" cy="1170360"/>
                  <a:chOff x="4167360" y="915840"/>
                  <a:chExt cx="1536480" cy="117036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4224960" y="915840"/>
                    <a:ext cx="1420920" cy="1170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CAPACITA’ DI CAMMINA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167360" y="915840"/>
                    <a:ext cx="1536480" cy="117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5704560" y="915840"/>
                <a:ext cx="1665720" cy="1170720"/>
                <a:chOff x="5704560" y="915840"/>
                <a:chExt cx="1665720" cy="1170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704560" y="915840"/>
                  <a:ext cx="1665720" cy="1170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5704560" y="915840"/>
                  <a:ext cx="1665360" cy="1170360"/>
                  <a:chOff x="5704560" y="915840"/>
                  <a:chExt cx="1665360" cy="11703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761800" y="915840"/>
                    <a:ext cx="1550520" cy="1170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CAPACITA’ DI ALZARSI DAL LETT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704560" y="915840"/>
                    <a:ext cx="1665360" cy="117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7371000" y="915840"/>
                <a:ext cx="1536120" cy="1170720"/>
                <a:chOff x="7371000" y="915840"/>
                <a:chExt cx="1536120" cy="1170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371000" y="915840"/>
                  <a:ext cx="1536120" cy="1170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7371000" y="915840"/>
                  <a:ext cx="1535760" cy="1170360"/>
                  <a:chOff x="7371000" y="915840"/>
                  <a:chExt cx="1535760" cy="117036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7428240" y="915840"/>
                    <a:ext cx="1421280" cy="1170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INCONTINENZ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371000" y="915840"/>
                    <a:ext cx="1535760" cy="117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310680" y="2086920"/>
                <a:ext cx="1536120" cy="822960"/>
                <a:chOff x="310680" y="2086920"/>
                <a:chExt cx="1536120" cy="8229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67920" y="2086920"/>
                  <a:ext cx="142164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   2    3    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10680" y="2086920"/>
                  <a:ext cx="153612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847160" y="2086920"/>
                <a:ext cx="2319480" cy="822960"/>
                <a:chOff x="1847160" y="2086920"/>
                <a:chExt cx="2319480" cy="8229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904760" y="2086920"/>
                  <a:ext cx="220464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   2    3    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847160" y="2086920"/>
                  <a:ext cx="231948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167360" y="2086920"/>
                <a:ext cx="1536840" cy="822960"/>
                <a:chOff x="4167360" y="2086920"/>
                <a:chExt cx="1536840" cy="8229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224960" y="2086920"/>
                  <a:ext cx="14212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   2    3    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167360" y="2086920"/>
                  <a:ext cx="153684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704560" y="2086920"/>
                <a:ext cx="1665720" cy="822960"/>
                <a:chOff x="5704560" y="2086920"/>
                <a:chExt cx="1665720" cy="8229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761800" y="2086920"/>
                  <a:ext cx="15508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   2    3    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704560" y="2086920"/>
                  <a:ext cx="166572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371000" y="2086920"/>
                <a:ext cx="1536120" cy="822960"/>
                <a:chOff x="7371000" y="2086920"/>
                <a:chExt cx="1536120" cy="8229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428240" y="2086920"/>
                  <a:ext cx="142164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   2    3    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371000" y="2086920"/>
                  <a:ext cx="153612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10680" y="2910600"/>
                <a:ext cx="1536120" cy="823320"/>
                <a:chOff x="310680" y="2910600"/>
                <a:chExt cx="1536120" cy="823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67920" y="2910600"/>
                  <a:ext cx="1421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4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Buo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10680" y="2910600"/>
                  <a:ext cx="153612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847160" y="2910600"/>
                <a:ext cx="2319480" cy="823320"/>
                <a:chOff x="1847160" y="2910600"/>
                <a:chExt cx="2319480" cy="823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904760" y="2910600"/>
                  <a:ext cx="2204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4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Lucido e orienta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47160" y="2910600"/>
                  <a:ext cx="231948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167360" y="2910600"/>
                <a:ext cx="1536840" cy="823320"/>
                <a:chOff x="4167360" y="2910600"/>
                <a:chExt cx="1536840" cy="8233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224960" y="2910600"/>
                  <a:ext cx="14212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4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orma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67360" y="2910600"/>
                  <a:ext cx="153684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04560" y="2910600"/>
                <a:ext cx="1665720" cy="823320"/>
                <a:chOff x="5704560" y="2910600"/>
                <a:chExt cx="1665720" cy="8233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761800" y="2910600"/>
                  <a:ext cx="15508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4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orma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04560" y="2910600"/>
                  <a:ext cx="166572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371000" y="2910600"/>
                <a:ext cx="1536120" cy="823320"/>
                <a:chOff x="7371000" y="2910600"/>
                <a:chExt cx="1536120" cy="8233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7428240" y="2910600"/>
                  <a:ext cx="1421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4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Ass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71000" y="2910600"/>
                  <a:ext cx="1536120" cy="82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10680" y="3734280"/>
                <a:ext cx="1536120" cy="2734200"/>
                <a:chOff x="310680" y="3734280"/>
                <a:chExt cx="1536120" cy="27342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67920" y="3734280"/>
                  <a:ext cx="1421640" cy="27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3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iscr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2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cadent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Pess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0680" y="3734280"/>
                  <a:ext cx="1536120" cy="273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847160" y="3734280"/>
                <a:ext cx="2319480" cy="2734200"/>
                <a:chOff x="1847160" y="3734280"/>
                <a:chExt cx="2319480" cy="2734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904760" y="3734280"/>
                  <a:ext cx="2204640" cy="27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3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isorientato, perdita della nozione dello spazio e del tempo e a volte anche dello schema corpore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2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fuso, ridotto stato di coscienza, ideazione rallentata, obnubilamento mentale, spunti deliranti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tuporoso o comatoso stato di coscienza, pochissimo vigile fino al coma, perdita della memo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47160" y="3734280"/>
                  <a:ext cx="2319480" cy="273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167360" y="3734280"/>
                <a:ext cx="1536840" cy="2734200"/>
                <a:chOff x="4167360" y="3734280"/>
                <a:chExt cx="1536840" cy="2734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224960" y="3734280"/>
                  <a:ext cx="1421280" cy="27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3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ammina solo con appogg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2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Costretto su sed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stretto a</a:t>
                  </a:r>
                  <a:r>
                    <a:rPr b="0" i="1" lang="en-US" sz="10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let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67360" y="3734280"/>
                  <a:ext cx="1536840" cy="273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704560" y="3734280"/>
                <a:ext cx="1665720" cy="2734200"/>
                <a:chOff x="5704560" y="3734280"/>
                <a:chExt cx="1665720" cy="27342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761800" y="3734280"/>
                  <a:ext cx="1550880" cy="27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3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Leggermente limit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2</a:t>
                  </a: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olto limit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mmobi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04560" y="3734280"/>
                  <a:ext cx="1665720" cy="273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7371000" y="3734280"/>
                <a:ext cx="1536120" cy="2734200"/>
                <a:chOff x="7371000" y="3734280"/>
                <a:chExt cx="1536120" cy="2734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428240" y="3734280"/>
                  <a:ext cx="1421640" cy="27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4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Occasiona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2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Abituale (urin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1 </a:t>
                  </a:r>
                  <a:r>
                    <a:rPr b="0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oppia (urine e feci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71000" y="3734280"/>
                  <a:ext cx="1536120" cy="273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304920" y="0"/>
              <a:ext cx="8610120" cy="6476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4FE4-D2A9-469D-989A-6DBC3882E3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9CC4500-21B8-4B3F-A75F-1FE41BD6F8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380880" y="228600"/>
            <a:ext cx="8610480" cy="5866920"/>
            <a:chOff x="380880" y="228600"/>
            <a:chExt cx="8610480" cy="5866920"/>
          </a:xfrm>
        </p:grpSpPr>
        <p:grpSp>
          <p:nvGrpSpPr>
            <p:cNvPr id="207" name=""/>
            <p:cNvGrpSpPr/>
            <p:nvPr/>
          </p:nvGrpSpPr>
          <p:grpSpPr>
            <a:xfrm>
              <a:off x="386640" y="234000"/>
              <a:ext cx="8597160" cy="5854680"/>
              <a:chOff x="386640" y="234000"/>
              <a:chExt cx="8597160" cy="58546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386640" y="234000"/>
                <a:ext cx="7004880" cy="694800"/>
                <a:chOff x="386640" y="234000"/>
                <a:chExt cx="7004880" cy="6948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43880" y="234000"/>
                  <a:ext cx="688968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Attribuire 1 punto per ciascuna risposta 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86640" y="234000"/>
                  <a:ext cx="70048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7391880" y="234000"/>
                <a:ext cx="1591920" cy="694800"/>
                <a:chOff x="7391880" y="234000"/>
                <a:chExt cx="1591920" cy="694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391880" y="234000"/>
                  <a:ext cx="1591920" cy="694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7391880" y="234000"/>
                  <a:ext cx="1591560" cy="694440"/>
                  <a:chOff x="7391880" y="234000"/>
                  <a:chExt cx="1591560" cy="6944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449120" y="234000"/>
                    <a:ext cx="1477080" cy="6944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1200" spc="-1" strike="noStrike" u="sng">
                        <a:solidFill>
                          <a:srgbClr val="000080"/>
                        </a:solidFill>
                        <a:uFillTx/>
                        <a:latin typeface="Verdana"/>
                        <a:ea typeface="Arial Unicode MS"/>
                      </a:rPr>
                      <a:t>S C H E M A   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391880" y="234000"/>
                    <a:ext cx="1591560" cy="69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386640" y="929160"/>
                <a:ext cx="7004880" cy="694440"/>
                <a:chOff x="386640" y="929160"/>
                <a:chExt cx="7004880" cy="6944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43880" y="929160"/>
                  <a:ext cx="688968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iagnosi clinica di diab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6640" y="929160"/>
                  <a:ext cx="70048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391880" y="929160"/>
                <a:ext cx="1591920" cy="694440"/>
                <a:chOff x="7391880" y="929160"/>
                <a:chExt cx="1591920" cy="6944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449120" y="929160"/>
                  <a:ext cx="147744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91880" y="929160"/>
                  <a:ext cx="159192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86640" y="1624320"/>
                <a:ext cx="7004880" cy="694800"/>
                <a:chOff x="386640" y="1624320"/>
                <a:chExt cx="7004880" cy="6948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43880" y="1624320"/>
                  <a:ext cx="688968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iagnosi clinica di ipertensione arterio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86640" y="1624320"/>
                  <a:ext cx="70048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391880" y="1624320"/>
                <a:ext cx="1591920" cy="694800"/>
                <a:chOff x="7391880" y="1624320"/>
                <a:chExt cx="1591920" cy="6948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449120" y="1624320"/>
                  <a:ext cx="147744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91880" y="1624320"/>
                  <a:ext cx="159192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86640" y="2319840"/>
                <a:ext cx="7004880" cy="694440"/>
                <a:chOff x="386640" y="2319840"/>
                <a:chExt cx="7004880" cy="694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43880" y="2319840"/>
                  <a:ext cx="688968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Ematocrito basso (M: &lt;41%) (F: &lt;36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640" y="2319840"/>
                  <a:ext cx="70048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391880" y="2319840"/>
                <a:ext cx="1591920" cy="694440"/>
                <a:chOff x="7391880" y="2319840"/>
                <a:chExt cx="1591920" cy="6944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449120" y="2319840"/>
                  <a:ext cx="147744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391880" y="2319840"/>
                  <a:ext cx="159192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86640" y="3015000"/>
                <a:ext cx="7004880" cy="694800"/>
                <a:chOff x="386640" y="3015000"/>
                <a:chExt cx="7004880" cy="6948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" y="3015000"/>
                  <a:ext cx="688968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Albuminemia &lt; 3,3 g/d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6640" y="3015000"/>
                  <a:ext cx="70048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7391880" y="3015000"/>
                <a:ext cx="1591920" cy="694800"/>
                <a:chOff x="7391880" y="3015000"/>
                <a:chExt cx="1591920" cy="694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449120" y="3015000"/>
                  <a:ext cx="147744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391880" y="3015000"/>
                  <a:ext cx="159192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86640" y="3710160"/>
                <a:ext cx="7004880" cy="694440"/>
                <a:chOff x="386640" y="3710160"/>
                <a:chExt cx="7004880" cy="6944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" y="3710160"/>
                  <a:ext cx="688968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Temperatura Corporea &gt; 37,6° 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640" y="3710160"/>
                  <a:ext cx="700488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7391880" y="3710160"/>
                <a:ext cx="1591920" cy="694440"/>
                <a:chOff x="7391880" y="3710160"/>
                <a:chExt cx="1591920" cy="6944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449120" y="3710160"/>
                  <a:ext cx="147744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91880" y="3710160"/>
                  <a:ext cx="1591920" cy="69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86640" y="4405320"/>
                <a:ext cx="7004880" cy="694800"/>
                <a:chOff x="386640" y="4405320"/>
                <a:chExt cx="7004880" cy="694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" y="4405320"/>
                  <a:ext cx="688968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odificazione dello stato mentale nelle ultime 24 ore con comparsa di confusione mentale o letarg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6640" y="4405320"/>
                  <a:ext cx="700488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391880" y="4405320"/>
                <a:ext cx="1591920" cy="694800"/>
                <a:chOff x="7391880" y="4405320"/>
                <a:chExt cx="1591920" cy="6948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449120" y="4405320"/>
                  <a:ext cx="1477440" cy="69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91880" y="4405320"/>
                  <a:ext cx="1591920" cy="694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86640" y="5100840"/>
                <a:ext cx="7004880" cy="987840"/>
                <a:chOff x="386640" y="5100840"/>
                <a:chExt cx="7004880" cy="987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" y="5100840"/>
                  <a:ext cx="6889680" cy="9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PUNTEGGIO DELLA SCALA DI NORTON PLUS (Punteggio A - Punteggio 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Valori &lt;10 indicano un rischio elevato, valori tra 10 e 12 rischio medio, valori tra 13 e 14 rischio basso e valori superiori a 15  rischio null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86640" y="5100840"/>
                  <a:ext cx="7004880" cy="98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391880" y="5100840"/>
                <a:ext cx="1591920" cy="987840"/>
                <a:chOff x="7391880" y="5100840"/>
                <a:chExt cx="1591920" cy="9878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449120" y="5100840"/>
                  <a:ext cx="1477440" cy="9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TOTALE  A-B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391880" y="5100840"/>
                  <a:ext cx="1591920" cy="98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"/>
            <p:cNvSpPr/>
            <p:nvPr/>
          </p:nvSpPr>
          <p:spPr>
            <a:xfrm>
              <a:off x="380880" y="228600"/>
              <a:ext cx="8610480" cy="586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161-B64D-4E4D-8189-826A211313D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912B09-A545-4D79-A073-E9FDAB04C1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219320" y="533520"/>
            <a:ext cx="60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80"/>
                </a:solidFill>
                <a:uFillTx/>
                <a:latin typeface="Verdana"/>
                <a:ea typeface="Arial Unicode MS"/>
              </a:rPr>
              <a:t>STATO NUTRIZIONA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43000" y="1447920"/>
            <a:ext cx="7467120" cy="3732840"/>
            <a:chOff x="1143000" y="1447920"/>
            <a:chExt cx="7467120" cy="3732840"/>
          </a:xfrm>
        </p:grpSpPr>
        <p:grpSp>
          <p:nvGrpSpPr>
            <p:cNvPr id="261" name=""/>
            <p:cNvGrpSpPr/>
            <p:nvPr/>
          </p:nvGrpSpPr>
          <p:grpSpPr>
            <a:xfrm>
              <a:off x="1148040" y="1459440"/>
              <a:ext cx="7455600" cy="3707640"/>
              <a:chOff x="1148040" y="1459440"/>
              <a:chExt cx="7455600" cy="370764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148040" y="1459440"/>
                <a:ext cx="1480320" cy="849240"/>
                <a:chOff x="1148040" y="1459440"/>
                <a:chExt cx="1480320" cy="849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197720" y="1459440"/>
                  <a:ext cx="138096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Buo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148040" y="1459440"/>
                  <a:ext cx="148032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628720" y="1459440"/>
                <a:ext cx="2059560" cy="849240"/>
                <a:chOff x="2628720" y="1459440"/>
                <a:chExt cx="2059560" cy="8492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678760" y="1459440"/>
                  <a:ext cx="195984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 alim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628720" y="1459440"/>
                  <a:ext cx="205956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4689000" y="1459440"/>
                <a:ext cx="3914640" cy="849240"/>
                <a:chOff x="4689000" y="1459440"/>
                <a:chExt cx="3914640" cy="8492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739040" y="1459440"/>
                  <a:ext cx="381492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buClr>
                      <a:srgbClr val="000080"/>
                    </a:buClr>
                    <a:buFont typeface="Marlett" charset="2"/>
                    <a:buChar char="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Terapia Nutrizionale Entrale</a:t>
                  </a: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ieta idr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89000" y="1459440"/>
                  <a:ext cx="391464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1148040" y="2309400"/>
                <a:ext cx="1480320" cy="1157400"/>
                <a:chOff x="1148040" y="2309400"/>
                <a:chExt cx="1480320" cy="11574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197720" y="2309400"/>
                  <a:ext cx="1380960" cy="115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iscre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148040" y="2309400"/>
                  <a:ext cx="1480320" cy="115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628720" y="2309400"/>
                <a:ext cx="2059560" cy="1157400"/>
                <a:chOff x="2628720" y="2309400"/>
                <a:chExt cx="2059560" cy="11574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678760" y="2309400"/>
                  <a:ext cx="1959840" cy="115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on si alim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28720" y="2309400"/>
                  <a:ext cx="2059560" cy="115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689000" y="2309400"/>
                <a:ext cx="3914640" cy="1157400"/>
                <a:chOff x="4689000" y="2309400"/>
                <a:chExt cx="3914640" cy="1157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739040" y="2309400"/>
                  <a:ext cx="3814920" cy="115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Terapia Nutrizionale parentera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tato cachet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689000" y="2309400"/>
                  <a:ext cx="3914640" cy="115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1148040" y="3467520"/>
                <a:ext cx="1480320" cy="849240"/>
                <a:chOff x="1148040" y="3467520"/>
                <a:chExt cx="1480320" cy="849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197720" y="3467520"/>
                  <a:ext cx="138096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cad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148040" y="3467520"/>
                  <a:ext cx="148032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628720" y="3467520"/>
                <a:ext cx="2059560" cy="849240"/>
                <a:chOff x="2628720" y="3467520"/>
                <a:chExt cx="2059560" cy="8492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678760" y="3467520"/>
                  <a:ext cx="195984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 alimenta con aiuto</a:t>
                  </a:r>
                  <a:r>
                    <a:rPr b="1" lang="en-US" sz="10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628720" y="3467520"/>
                  <a:ext cx="205956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689000" y="3467520"/>
                <a:ext cx="3914640" cy="849240"/>
                <a:chOff x="4689000" y="3467520"/>
                <a:chExt cx="3914640" cy="8492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4739040" y="3467520"/>
                  <a:ext cx="381492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ieta libe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89000" y="3467520"/>
                  <a:ext cx="391464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148040" y="4317840"/>
                <a:ext cx="7455600" cy="849240"/>
                <a:chOff x="1148040" y="4317840"/>
                <a:chExt cx="7455600" cy="849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197720" y="4317840"/>
                  <a:ext cx="735624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Marlett"/>
                      <a:ea typeface="Marlett"/>
                    </a:rPr>
                    <a:t>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Altr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148040" y="4317840"/>
                  <a:ext cx="745560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>
              <a:off x="1143000" y="1447920"/>
              <a:ext cx="7467120" cy="373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34FA-46FD-46C4-B235-7C8C43CA3F9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3534EC-ACB9-4E26-B371-C719F363F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304920"/>
            <a:ext cx="8229600" cy="946440"/>
          </a:xfrm>
          <a:prstGeom prst="rect">
            <a:avLst/>
          </a:prstGeom>
          <a:solidFill>
            <a:srgbClr val="f2e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PROTOCOLLO: Prevenzione e cura della cute.  SCHEDA N°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        </a:t>
            </a: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Data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80880" y="1371600"/>
            <a:ext cx="8457840" cy="533520"/>
            <a:chOff x="380880" y="1371600"/>
            <a:chExt cx="8457840" cy="533520"/>
          </a:xfrm>
        </p:grpSpPr>
        <p:grpSp>
          <p:nvGrpSpPr>
            <p:cNvPr id="295" name=""/>
            <p:cNvGrpSpPr/>
            <p:nvPr/>
          </p:nvGrpSpPr>
          <p:grpSpPr>
            <a:xfrm>
              <a:off x="386280" y="1374840"/>
              <a:ext cx="8445600" cy="526320"/>
              <a:chOff x="386280" y="1374840"/>
              <a:chExt cx="8445600" cy="52632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86280" y="1374840"/>
                <a:ext cx="1441440" cy="526320"/>
                <a:chOff x="386280" y="1374840"/>
                <a:chExt cx="1441440" cy="526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86280" y="1374840"/>
                  <a:ext cx="14414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386280" y="1374840"/>
                  <a:ext cx="1441080" cy="526320"/>
                  <a:chOff x="386280" y="1374840"/>
                  <a:chExt cx="1441080" cy="5263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440280" y="1374840"/>
                    <a:ext cx="13323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Cambio posturale*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86280" y="1374840"/>
                    <a:ext cx="14410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1828080" y="1374840"/>
                <a:ext cx="291240" cy="526320"/>
                <a:chOff x="1828080" y="1374840"/>
                <a:chExt cx="291240" cy="5263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82808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1828080" y="1374840"/>
                  <a:ext cx="290880" cy="526320"/>
                  <a:chOff x="1828080" y="1374840"/>
                  <a:chExt cx="290880" cy="5263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88208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7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82808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2119680" y="1374840"/>
                <a:ext cx="291600" cy="526320"/>
                <a:chOff x="2119680" y="1374840"/>
                <a:chExt cx="291600" cy="526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11968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2119680" y="1374840"/>
                  <a:ext cx="291240" cy="526320"/>
                  <a:chOff x="2119680" y="1374840"/>
                  <a:chExt cx="291240" cy="5263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17404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1968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2411640" y="1374840"/>
                <a:ext cx="291240" cy="526320"/>
                <a:chOff x="2411640" y="1374840"/>
                <a:chExt cx="291240" cy="526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41164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2411640" y="1374840"/>
                  <a:ext cx="290880" cy="526320"/>
                  <a:chOff x="2411640" y="1374840"/>
                  <a:chExt cx="290880" cy="5263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46564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1164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" name=""/>
              <p:cNvGrpSpPr/>
              <p:nvPr/>
            </p:nvGrpSpPr>
            <p:grpSpPr>
              <a:xfrm>
                <a:off x="2703240" y="1374840"/>
                <a:ext cx="291240" cy="526320"/>
                <a:chOff x="2703240" y="1374840"/>
                <a:chExt cx="291240" cy="5263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70324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" name=""/>
                <p:cNvGrpSpPr/>
                <p:nvPr/>
              </p:nvGrpSpPr>
              <p:grpSpPr>
                <a:xfrm>
                  <a:off x="2703240" y="1374840"/>
                  <a:ext cx="290880" cy="526320"/>
                  <a:chOff x="2703240" y="1374840"/>
                  <a:chExt cx="290880" cy="5263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75724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0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324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2995200" y="1374840"/>
                <a:ext cx="291600" cy="526320"/>
                <a:chOff x="2995200" y="1374840"/>
                <a:chExt cx="291600" cy="526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99520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2995200" y="1374840"/>
                  <a:ext cx="291240" cy="526320"/>
                  <a:chOff x="2995200" y="1374840"/>
                  <a:chExt cx="291240" cy="5263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304956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99520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3287160" y="1374840"/>
                <a:ext cx="291240" cy="526320"/>
                <a:chOff x="3287160" y="1374840"/>
                <a:chExt cx="291240" cy="526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28716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3287160" y="1374840"/>
                  <a:ext cx="290880" cy="526320"/>
                  <a:chOff x="3287160" y="1374840"/>
                  <a:chExt cx="290880" cy="52632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334116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28716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" name=""/>
              <p:cNvGrpSpPr/>
              <p:nvPr/>
            </p:nvGrpSpPr>
            <p:grpSpPr>
              <a:xfrm>
                <a:off x="3578760" y="1374840"/>
                <a:ext cx="291600" cy="526320"/>
                <a:chOff x="3578760" y="1374840"/>
                <a:chExt cx="291600" cy="5263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57876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3578760" y="1374840"/>
                  <a:ext cx="291240" cy="526320"/>
                  <a:chOff x="3578760" y="1374840"/>
                  <a:chExt cx="291240" cy="5263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363312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57876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" name=""/>
              <p:cNvGrpSpPr/>
              <p:nvPr/>
            </p:nvGrpSpPr>
            <p:grpSpPr>
              <a:xfrm>
                <a:off x="3870720" y="1374840"/>
                <a:ext cx="291240" cy="526320"/>
                <a:chOff x="3870720" y="1374840"/>
                <a:chExt cx="291240" cy="5263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87072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3870720" y="1374840"/>
                  <a:ext cx="290880" cy="526320"/>
                  <a:chOff x="3870720" y="1374840"/>
                  <a:chExt cx="290880" cy="52632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392472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87072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" name=""/>
              <p:cNvGrpSpPr/>
              <p:nvPr/>
            </p:nvGrpSpPr>
            <p:grpSpPr>
              <a:xfrm>
                <a:off x="4162320" y="1374840"/>
                <a:ext cx="291600" cy="526320"/>
                <a:chOff x="4162320" y="1374840"/>
                <a:chExt cx="291600" cy="5263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16232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4162320" y="1374840"/>
                  <a:ext cx="291240" cy="526320"/>
                  <a:chOff x="4162320" y="1374840"/>
                  <a:chExt cx="291240" cy="5263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421668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5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416232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454640" y="1374840"/>
                <a:ext cx="291240" cy="526320"/>
                <a:chOff x="4454640" y="1374840"/>
                <a:chExt cx="291240" cy="5263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45464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454640" y="1374840"/>
                  <a:ext cx="290880" cy="526320"/>
                  <a:chOff x="4454640" y="1374840"/>
                  <a:chExt cx="290880" cy="5263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50864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6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45464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4746240" y="1374840"/>
                <a:ext cx="291600" cy="526320"/>
                <a:chOff x="4746240" y="1374840"/>
                <a:chExt cx="291600" cy="5263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74624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4746240" y="1374840"/>
                  <a:ext cx="291240" cy="526320"/>
                  <a:chOff x="4746240" y="1374840"/>
                  <a:chExt cx="291240" cy="5263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480060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7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74624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5038200" y="1374840"/>
                <a:ext cx="291240" cy="526320"/>
                <a:chOff x="5038200" y="1374840"/>
                <a:chExt cx="291240" cy="5263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03820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5038200" y="1374840"/>
                  <a:ext cx="290880" cy="526320"/>
                  <a:chOff x="5038200" y="1374840"/>
                  <a:chExt cx="290880" cy="5263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509220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03820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5329800" y="1374840"/>
                <a:ext cx="291600" cy="526320"/>
                <a:chOff x="5329800" y="1374840"/>
                <a:chExt cx="291600" cy="526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32980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5329800" y="1374840"/>
                  <a:ext cx="291240" cy="526320"/>
                  <a:chOff x="5329800" y="1374840"/>
                  <a:chExt cx="291240" cy="5263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538416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32980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5622120" y="1374840"/>
                <a:ext cx="291240" cy="526320"/>
                <a:chOff x="5622120" y="1374840"/>
                <a:chExt cx="291240" cy="5263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2212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5622120" y="1374840"/>
                  <a:ext cx="290880" cy="526320"/>
                  <a:chOff x="5622120" y="1374840"/>
                  <a:chExt cx="290880" cy="5263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67612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0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62212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5913720" y="1374840"/>
                <a:ext cx="291240" cy="526320"/>
                <a:chOff x="5913720" y="1374840"/>
                <a:chExt cx="291240" cy="5263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91372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5913720" y="1374840"/>
                  <a:ext cx="290880" cy="526320"/>
                  <a:chOff x="5913720" y="1374840"/>
                  <a:chExt cx="290880" cy="5263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596772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91372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6205320" y="1374840"/>
                <a:ext cx="291600" cy="526320"/>
                <a:chOff x="6205320" y="1374840"/>
                <a:chExt cx="291600" cy="5263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20532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" name=""/>
                <p:cNvGrpSpPr/>
                <p:nvPr/>
              </p:nvGrpSpPr>
              <p:grpSpPr>
                <a:xfrm>
                  <a:off x="6205320" y="1374840"/>
                  <a:ext cx="291240" cy="526320"/>
                  <a:chOff x="6205320" y="1374840"/>
                  <a:chExt cx="291240" cy="5263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625968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20532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6497280" y="1374840"/>
                <a:ext cx="291240" cy="526320"/>
                <a:chOff x="6497280" y="1374840"/>
                <a:chExt cx="291240" cy="5263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649728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6497280" y="1374840"/>
                  <a:ext cx="290880" cy="526320"/>
                  <a:chOff x="6497280" y="1374840"/>
                  <a:chExt cx="290880" cy="5263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55128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49728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6788880" y="1374840"/>
                <a:ext cx="291600" cy="526320"/>
                <a:chOff x="6788880" y="1374840"/>
                <a:chExt cx="291600" cy="5263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78888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6788880" y="1374840"/>
                  <a:ext cx="291240" cy="526320"/>
                  <a:chOff x="6788880" y="1374840"/>
                  <a:chExt cx="291240" cy="5263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684324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78888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7081200" y="1374840"/>
                <a:ext cx="291240" cy="526320"/>
                <a:chOff x="7081200" y="1374840"/>
                <a:chExt cx="291240" cy="5263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8120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7081200" y="1374840"/>
                  <a:ext cx="290880" cy="526320"/>
                  <a:chOff x="7081200" y="1374840"/>
                  <a:chExt cx="290880" cy="5263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713520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08120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"/>
              <p:cNvGrpSpPr/>
              <p:nvPr/>
            </p:nvGrpSpPr>
            <p:grpSpPr>
              <a:xfrm>
                <a:off x="7372800" y="1374840"/>
                <a:ext cx="291600" cy="526320"/>
                <a:chOff x="7372800" y="1374840"/>
                <a:chExt cx="291600" cy="5263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37280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7372800" y="1374840"/>
                  <a:ext cx="291240" cy="526320"/>
                  <a:chOff x="7372800" y="1374840"/>
                  <a:chExt cx="291240" cy="5263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742716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37280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7664760" y="1374840"/>
                <a:ext cx="291240" cy="526320"/>
                <a:chOff x="7664760" y="1374840"/>
                <a:chExt cx="291240" cy="5263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66476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7664760" y="1374840"/>
                  <a:ext cx="290880" cy="526320"/>
                  <a:chOff x="7664760" y="1374840"/>
                  <a:chExt cx="290880" cy="5263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771876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66476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7956360" y="1374840"/>
                <a:ext cx="291600" cy="526320"/>
                <a:chOff x="7956360" y="1374840"/>
                <a:chExt cx="291600" cy="5263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5636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7956360" y="1374840"/>
                  <a:ext cx="291240" cy="526320"/>
                  <a:chOff x="7956360" y="1374840"/>
                  <a:chExt cx="291240" cy="5263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801072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5636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8248680" y="1374840"/>
                <a:ext cx="291240" cy="526320"/>
                <a:chOff x="8248680" y="1374840"/>
                <a:chExt cx="291240" cy="5263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248680" y="1374840"/>
                  <a:ext cx="29124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8248680" y="1374840"/>
                  <a:ext cx="290880" cy="526320"/>
                  <a:chOff x="8248680" y="1374840"/>
                  <a:chExt cx="290880" cy="5263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8302680" y="1374840"/>
                    <a:ext cx="18252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5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8248680" y="1374840"/>
                    <a:ext cx="29088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8540280" y="1374840"/>
                <a:ext cx="291600" cy="526320"/>
                <a:chOff x="8540280" y="1374840"/>
                <a:chExt cx="291600" cy="526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540280" y="1374840"/>
                  <a:ext cx="291600" cy="526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8540280" y="1374840"/>
                  <a:ext cx="291240" cy="526320"/>
                  <a:chOff x="8540280" y="1374840"/>
                  <a:chExt cx="291240" cy="5263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8594640" y="1374840"/>
                    <a:ext cx="182160" cy="52632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6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8540280" y="1374840"/>
                    <a:ext cx="291240" cy="526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1" name=""/>
            <p:cNvSpPr/>
            <p:nvPr/>
          </p:nvSpPr>
          <p:spPr>
            <a:xfrm>
              <a:off x="380880" y="1371600"/>
              <a:ext cx="8457840" cy="533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80880" y="1981080"/>
            <a:ext cx="8480160" cy="3936600"/>
            <a:chOff x="380880" y="1981080"/>
            <a:chExt cx="8480160" cy="3936600"/>
          </a:xfrm>
        </p:grpSpPr>
        <p:grpSp>
          <p:nvGrpSpPr>
            <p:cNvPr id="423" name=""/>
            <p:cNvGrpSpPr/>
            <p:nvPr/>
          </p:nvGrpSpPr>
          <p:grpSpPr>
            <a:xfrm>
              <a:off x="386640" y="1985760"/>
              <a:ext cx="8467920" cy="3926520"/>
              <a:chOff x="386640" y="1985760"/>
              <a:chExt cx="8467920" cy="392652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386640" y="1985760"/>
                <a:ext cx="1289520" cy="643680"/>
                <a:chOff x="386640" y="1985760"/>
                <a:chExt cx="1289520" cy="643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42080" y="1985760"/>
                  <a:ext cx="117828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upi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86640" y="1985760"/>
                  <a:ext cx="128952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676520" y="1985760"/>
                <a:ext cx="298800" cy="643680"/>
                <a:chOff x="1676520" y="1985760"/>
                <a:chExt cx="298800" cy="643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3232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67652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976040" y="1985760"/>
                <a:ext cx="298440" cy="643680"/>
                <a:chOff x="1976040" y="1985760"/>
                <a:chExt cx="298440" cy="6436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03148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97604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274840" y="1985760"/>
                <a:ext cx="298440" cy="643680"/>
                <a:chOff x="2274840" y="1985760"/>
                <a:chExt cx="298440" cy="6436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33028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7484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573640" y="1985760"/>
                <a:ext cx="298800" cy="643680"/>
                <a:chOff x="2573640" y="1985760"/>
                <a:chExt cx="298800" cy="6436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2944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57364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873160" y="1985760"/>
                <a:ext cx="298440" cy="643680"/>
                <a:chOff x="2873160" y="1985760"/>
                <a:chExt cx="298440" cy="6436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92860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7316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171960" y="1985760"/>
                <a:ext cx="298800" cy="643680"/>
                <a:chOff x="3171960" y="1985760"/>
                <a:chExt cx="298800" cy="6436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22776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17196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471120" y="1985760"/>
                <a:ext cx="298440" cy="643680"/>
                <a:chOff x="3471120" y="1985760"/>
                <a:chExt cx="298440" cy="6436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52656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47112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770280" y="1985760"/>
                <a:ext cx="298800" cy="643680"/>
                <a:chOff x="3770280" y="1985760"/>
                <a:chExt cx="298800" cy="6436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82608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77028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069440" y="1985760"/>
                <a:ext cx="298440" cy="643680"/>
                <a:chOff x="4069440" y="1985760"/>
                <a:chExt cx="298440" cy="6436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12488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06944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368240" y="1985760"/>
                <a:ext cx="298800" cy="643680"/>
                <a:chOff x="4368240" y="1985760"/>
                <a:chExt cx="298800" cy="6436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42404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6824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667760" y="1985760"/>
                <a:ext cx="298440" cy="643680"/>
                <a:chOff x="4667760" y="1985760"/>
                <a:chExt cx="298440" cy="6436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72320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66776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966560" y="1985760"/>
                <a:ext cx="298800" cy="643680"/>
                <a:chOff x="4966560" y="1985760"/>
                <a:chExt cx="298800" cy="6436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02236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96656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266080" y="1985760"/>
                <a:ext cx="298440" cy="643680"/>
                <a:chOff x="5266080" y="1985760"/>
                <a:chExt cx="298440" cy="643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32152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26608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564880" y="1985760"/>
                <a:ext cx="298800" cy="643680"/>
                <a:chOff x="5564880" y="1985760"/>
                <a:chExt cx="298800" cy="643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62068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56488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864400" y="1985760"/>
                <a:ext cx="298440" cy="643680"/>
                <a:chOff x="5864400" y="1985760"/>
                <a:chExt cx="298440" cy="6436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91984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86440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163200" y="1985760"/>
                <a:ext cx="298440" cy="643680"/>
                <a:chOff x="6163200" y="1985760"/>
                <a:chExt cx="298440" cy="6436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21864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6320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462000" y="1985760"/>
                <a:ext cx="298800" cy="643680"/>
                <a:chOff x="6462000" y="1985760"/>
                <a:chExt cx="298800" cy="6436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51780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46200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761520" y="1985760"/>
                <a:ext cx="298440" cy="643680"/>
                <a:chOff x="6761520" y="1985760"/>
                <a:chExt cx="298440" cy="643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81696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76152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060320" y="1985760"/>
                <a:ext cx="298800" cy="643680"/>
                <a:chOff x="7060320" y="1985760"/>
                <a:chExt cx="298800" cy="6436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11612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06032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7359480" y="1985760"/>
                <a:ext cx="298440" cy="643680"/>
                <a:chOff x="7359480" y="1985760"/>
                <a:chExt cx="298440" cy="6436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741492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35948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7658640" y="1985760"/>
                <a:ext cx="298800" cy="643680"/>
                <a:chOff x="7658640" y="1985760"/>
                <a:chExt cx="298800" cy="643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71444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65864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7957800" y="1985760"/>
                <a:ext cx="298440" cy="643680"/>
                <a:chOff x="7957800" y="1985760"/>
                <a:chExt cx="298440" cy="6436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801324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5780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8256600" y="1985760"/>
                <a:ext cx="298800" cy="643680"/>
                <a:chOff x="8256600" y="1985760"/>
                <a:chExt cx="298800" cy="6436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8312400" y="198576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256600" y="198576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8556120" y="1985760"/>
                <a:ext cx="298440" cy="643680"/>
                <a:chOff x="8556120" y="1985760"/>
                <a:chExt cx="298440" cy="6436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8611560" y="198576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556120" y="198576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86640" y="2629800"/>
                <a:ext cx="1289520" cy="643680"/>
                <a:chOff x="386640" y="2629800"/>
                <a:chExt cx="1289520" cy="6436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42080" y="2629800"/>
                  <a:ext cx="117828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Laterale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86640" y="2629800"/>
                  <a:ext cx="128952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1676520" y="2629800"/>
                <a:ext cx="298800" cy="643680"/>
                <a:chOff x="1676520" y="2629800"/>
                <a:chExt cx="298800" cy="6436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73232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67652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976040" y="2629800"/>
                <a:ext cx="298440" cy="643680"/>
                <a:chOff x="1976040" y="2629800"/>
                <a:chExt cx="298440" cy="6436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03148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7604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2274840" y="2629800"/>
                <a:ext cx="298440" cy="643680"/>
                <a:chOff x="2274840" y="2629800"/>
                <a:chExt cx="298440" cy="6436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33028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7484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573640" y="2629800"/>
                <a:ext cx="298800" cy="643680"/>
                <a:chOff x="2573640" y="2629800"/>
                <a:chExt cx="298800" cy="6436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262944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7364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873160" y="2629800"/>
                <a:ext cx="298440" cy="643680"/>
                <a:chOff x="2873160" y="2629800"/>
                <a:chExt cx="298440" cy="6436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92860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87316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171960" y="2629800"/>
                <a:ext cx="298800" cy="643680"/>
                <a:chOff x="3171960" y="2629800"/>
                <a:chExt cx="298800" cy="6436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22776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7196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471120" y="2629800"/>
                <a:ext cx="298440" cy="643680"/>
                <a:chOff x="3471120" y="2629800"/>
                <a:chExt cx="298440" cy="6436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52656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47112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770280" y="2629800"/>
                <a:ext cx="298800" cy="643680"/>
                <a:chOff x="3770280" y="2629800"/>
                <a:chExt cx="298800" cy="6436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82608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77028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069440" y="2629800"/>
                <a:ext cx="298440" cy="643680"/>
                <a:chOff x="4069440" y="2629800"/>
                <a:chExt cx="298440" cy="643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12488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6944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368240" y="2629800"/>
                <a:ext cx="298800" cy="643680"/>
                <a:chOff x="4368240" y="2629800"/>
                <a:chExt cx="298800" cy="6436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42404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36824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667760" y="2629800"/>
                <a:ext cx="298440" cy="643680"/>
                <a:chOff x="4667760" y="2629800"/>
                <a:chExt cx="298440" cy="6436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72320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6776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966560" y="2629800"/>
                <a:ext cx="298800" cy="643680"/>
                <a:chOff x="4966560" y="2629800"/>
                <a:chExt cx="298800" cy="6436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02236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6656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266080" y="2629800"/>
                <a:ext cx="298440" cy="643680"/>
                <a:chOff x="5266080" y="2629800"/>
                <a:chExt cx="298440" cy="6436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32152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6608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64880" y="2629800"/>
                <a:ext cx="298800" cy="643680"/>
                <a:chOff x="5564880" y="2629800"/>
                <a:chExt cx="298800" cy="643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62068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56488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864400" y="2629800"/>
                <a:ext cx="298440" cy="643680"/>
                <a:chOff x="5864400" y="2629800"/>
                <a:chExt cx="298440" cy="6436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91984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6440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63200" y="2629800"/>
                <a:ext cx="298440" cy="643680"/>
                <a:chOff x="6163200" y="2629800"/>
                <a:chExt cx="298440" cy="6436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21864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6320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462000" y="2629800"/>
                <a:ext cx="298800" cy="643680"/>
                <a:chOff x="6462000" y="2629800"/>
                <a:chExt cx="298800" cy="6436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51780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46200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6761520" y="2629800"/>
                <a:ext cx="298440" cy="643680"/>
                <a:chOff x="6761520" y="2629800"/>
                <a:chExt cx="298440" cy="6436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681696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76152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060320" y="2629800"/>
                <a:ext cx="298800" cy="643680"/>
                <a:chOff x="7060320" y="2629800"/>
                <a:chExt cx="298800" cy="6436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711612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06032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359480" y="2629800"/>
                <a:ext cx="298440" cy="643680"/>
                <a:chOff x="7359480" y="2629800"/>
                <a:chExt cx="298440" cy="6436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741492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35948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7658640" y="2629800"/>
                <a:ext cx="298800" cy="643680"/>
                <a:chOff x="7658640" y="2629800"/>
                <a:chExt cx="298800" cy="6436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771444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65864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957800" y="2629800"/>
                <a:ext cx="298440" cy="643680"/>
                <a:chOff x="7957800" y="2629800"/>
                <a:chExt cx="298440" cy="643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801324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95780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8256600" y="2629800"/>
                <a:ext cx="298800" cy="643680"/>
                <a:chOff x="8256600" y="2629800"/>
                <a:chExt cx="298800" cy="6436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12400" y="262980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256600" y="262980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8556120" y="2629800"/>
                <a:ext cx="298440" cy="643680"/>
                <a:chOff x="8556120" y="2629800"/>
                <a:chExt cx="298440" cy="6436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8611560" y="262980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556120" y="262980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386640" y="3273840"/>
                <a:ext cx="1289520" cy="643680"/>
                <a:chOff x="386640" y="3273840"/>
                <a:chExt cx="1289520" cy="6436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42080" y="3273840"/>
                  <a:ext cx="117828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Laterale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86640" y="3273840"/>
                  <a:ext cx="128952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1676520" y="3273840"/>
                <a:ext cx="298800" cy="643680"/>
                <a:chOff x="1676520" y="3273840"/>
                <a:chExt cx="298800" cy="6436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73232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67652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1976040" y="3273840"/>
                <a:ext cx="298440" cy="643680"/>
                <a:chOff x="1976040" y="3273840"/>
                <a:chExt cx="298440" cy="6436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03148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97604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2274840" y="3273840"/>
                <a:ext cx="298440" cy="643680"/>
                <a:chOff x="2274840" y="3273840"/>
                <a:chExt cx="298440" cy="6436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33028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27484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573640" y="3273840"/>
                <a:ext cx="298800" cy="643680"/>
                <a:chOff x="2573640" y="3273840"/>
                <a:chExt cx="298800" cy="6436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62944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7364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2873160" y="3273840"/>
                <a:ext cx="298440" cy="643680"/>
                <a:chOff x="2873160" y="3273840"/>
                <a:chExt cx="298440" cy="6436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292860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87316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171960" y="3273840"/>
                <a:ext cx="298800" cy="643680"/>
                <a:chOff x="3171960" y="3273840"/>
                <a:chExt cx="298800" cy="6436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22776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7196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471120" y="3273840"/>
                <a:ext cx="298440" cy="643680"/>
                <a:chOff x="3471120" y="3273840"/>
                <a:chExt cx="298440" cy="6436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2656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47112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770280" y="3273840"/>
                <a:ext cx="298800" cy="643680"/>
                <a:chOff x="3770280" y="3273840"/>
                <a:chExt cx="298800" cy="6436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82608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77028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4069440" y="3273840"/>
                <a:ext cx="298440" cy="643680"/>
                <a:chOff x="4069440" y="3273840"/>
                <a:chExt cx="298440" cy="6436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412488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06944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368240" y="3273840"/>
                <a:ext cx="298800" cy="643680"/>
                <a:chOff x="4368240" y="3273840"/>
                <a:chExt cx="298800" cy="6436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42404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36824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667760" y="3273840"/>
                <a:ext cx="298440" cy="643680"/>
                <a:chOff x="4667760" y="3273840"/>
                <a:chExt cx="298440" cy="6436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72320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66776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966560" y="3273840"/>
                <a:ext cx="298800" cy="643680"/>
                <a:chOff x="4966560" y="3273840"/>
                <a:chExt cx="298800" cy="6436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502236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96656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5266080" y="3273840"/>
                <a:ext cx="298440" cy="643680"/>
                <a:chOff x="5266080" y="3273840"/>
                <a:chExt cx="298440" cy="6436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532152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26608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564880" y="3273840"/>
                <a:ext cx="298800" cy="643680"/>
                <a:chOff x="5564880" y="3273840"/>
                <a:chExt cx="298800" cy="6436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62068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56488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864400" y="3273840"/>
                <a:ext cx="298440" cy="643680"/>
                <a:chOff x="5864400" y="3273840"/>
                <a:chExt cx="298440" cy="6436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91984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86440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163200" y="3273840"/>
                <a:ext cx="298440" cy="643680"/>
                <a:chOff x="6163200" y="3273840"/>
                <a:chExt cx="298440" cy="6436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621864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16320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462000" y="3273840"/>
                <a:ext cx="298800" cy="643680"/>
                <a:chOff x="6462000" y="3273840"/>
                <a:chExt cx="298800" cy="6436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51780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46200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761520" y="3273840"/>
                <a:ext cx="298440" cy="643680"/>
                <a:chOff x="6761520" y="3273840"/>
                <a:chExt cx="298440" cy="64368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81696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76152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7060320" y="3273840"/>
                <a:ext cx="298800" cy="643680"/>
                <a:chOff x="7060320" y="3273840"/>
                <a:chExt cx="298800" cy="6436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711612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06032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7359480" y="3273840"/>
                <a:ext cx="298440" cy="643680"/>
                <a:chOff x="7359480" y="3273840"/>
                <a:chExt cx="298440" cy="6436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41492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35948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7658640" y="3273840"/>
                <a:ext cx="298800" cy="643680"/>
                <a:chOff x="7658640" y="3273840"/>
                <a:chExt cx="298800" cy="64368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771444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65864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7957800" y="3273840"/>
                <a:ext cx="298440" cy="643680"/>
                <a:chOff x="7957800" y="3273840"/>
                <a:chExt cx="298440" cy="643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801324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95780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8256600" y="3273840"/>
                <a:ext cx="298800" cy="643680"/>
                <a:chOff x="8256600" y="3273840"/>
                <a:chExt cx="298800" cy="64368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8312400" y="327384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256600" y="327384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8556120" y="3273840"/>
                <a:ext cx="298440" cy="643680"/>
                <a:chOff x="8556120" y="3273840"/>
                <a:chExt cx="298440" cy="6436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8611560" y="327384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556120" y="327384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386640" y="3917880"/>
                <a:ext cx="1289520" cy="643680"/>
                <a:chOff x="386640" y="3917880"/>
                <a:chExt cx="1289520" cy="643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42080" y="3917880"/>
                  <a:ext cx="117828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Pro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86640" y="3917880"/>
                  <a:ext cx="128952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1676520" y="3917880"/>
                <a:ext cx="298800" cy="643680"/>
                <a:chOff x="1676520" y="3917880"/>
                <a:chExt cx="298800" cy="64368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173232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67652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1976040" y="3917880"/>
                <a:ext cx="298440" cy="643680"/>
                <a:chOff x="1976040" y="3917880"/>
                <a:chExt cx="298440" cy="643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203148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97604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2274840" y="3917880"/>
                <a:ext cx="298440" cy="643680"/>
                <a:chOff x="2274840" y="3917880"/>
                <a:chExt cx="298440" cy="6436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233028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27484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2573640" y="3917880"/>
                <a:ext cx="298800" cy="643680"/>
                <a:chOff x="2573640" y="3917880"/>
                <a:chExt cx="298800" cy="643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262944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57364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2873160" y="3917880"/>
                <a:ext cx="298440" cy="643680"/>
                <a:chOff x="2873160" y="3917880"/>
                <a:chExt cx="298440" cy="6436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292860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87316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3171960" y="3917880"/>
                <a:ext cx="298800" cy="643680"/>
                <a:chOff x="3171960" y="3917880"/>
                <a:chExt cx="298800" cy="643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22776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17196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3471120" y="3917880"/>
                <a:ext cx="298440" cy="643680"/>
                <a:chOff x="3471120" y="3917880"/>
                <a:chExt cx="298440" cy="64368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52656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47112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3770280" y="3917880"/>
                <a:ext cx="298800" cy="643680"/>
                <a:chOff x="3770280" y="3917880"/>
                <a:chExt cx="298800" cy="64368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382608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028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069440" y="3917880"/>
                <a:ext cx="298440" cy="643680"/>
                <a:chOff x="4069440" y="3917880"/>
                <a:chExt cx="298440" cy="6436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412488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06944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368240" y="3917880"/>
                <a:ext cx="298800" cy="643680"/>
                <a:chOff x="4368240" y="3917880"/>
                <a:chExt cx="298800" cy="64368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42404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36824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667760" y="3917880"/>
                <a:ext cx="298440" cy="643680"/>
                <a:chOff x="4667760" y="3917880"/>
                <a:chExt cx="298440" cy="64368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72320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66776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4966560" y="3917880"/>
                <a:ext cx="298800" cy="643680"/>
                <a:chOff x="4966560" y="3917880"/>
                <a:chExt cx="298800" cy="64368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502236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96656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5266080" y="3917880"/>
                <a:ext cx="298440" cy="643680"/>
                <a:chOff x="5266080" y="3917880"/>
                <a:chExt cx="298440" cy="64368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32152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26608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5564880" y="3917880"/>
                <a:ext cx="298800" cy="643680"/>
                <a:chOff x="5564880" y="3917880"/>
                <a:chExt cx="298800" cy="6436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62068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6488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864400" y="3917880"/>
                <a:ext cx="298440" cy="643680"/>
                <a:chOff x="5864400" y="3917880"/>
                <a:chExt cx="298440" cy="6436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91984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86440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63200" y="3917880"/>
                <a:ext cx="298440" cy="643680"/>
                <a:chOff x="6163200" y="3917880"/>
                <a:chExt cx="298440" cy="6436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21864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16320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462000" y="3917880"/>
                <a:ext cx="298800" cy="643680"/>
                <a:chOff x="6462000" y="3917880"/>
                <a:chExt cx="298800" cy="64368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51780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46200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6761520" y="3917880"/>
                <a:ext cx="298440" cy="643680"/>
                <a:chOff x="6761520" y="3917880"/>
                <a:chExt cx="298440" cy="6436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81696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76152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060320" y="3917880"/>
                <a:ext cx="298800" cy="643680"/>
                <a:chOff x="7060320" y="3917880"/>
                <a:chExt cx="298800" cy="6436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711612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6032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7359480" y="3917880"/>
                <a:ext cx="298440" cy="643680"/>
                <a:chOff x="7359480" y="3917880"/>
                <a:chExt cx="298440" cy="6436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741492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35948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7658640" y="3917880"/>
                <a:ext cx="298800" cy="643680"/>
                <a:chOff x="7658640" y="3917880"/>
                <a:chExt cx="298800" cy="6436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771444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65864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7957800" y="3917880"/>
                <a:ext cx="298440" cy="643680"/>
                <a:chOff x="7957800" y="3917880"/>
                <a:chExt cx="298440" cy="6436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801324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95780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8256600" y="3917880"/>
                <a:ext cx="298800" cy="643680"/>
                <a:chOff x="8256600" y="3917880"/>
                <a:chExt cx="298800" cy="64368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8312400" y="3917880"/>
                  <a:ext cx="18684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256600" y="3917880"/>
                  <a:ext cx="29880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8556120" y="3917880"/>
                <a:ext cx="298440" cy="643680"/>
                <a:chOff x="8556120" y="3917880"/>
                <a:chExt cx="298440" cy="6436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8611560" y="3917880"/>
                  <a:ext cx="187200" cy="64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556120" y="3917880"/>
                  <a:ext cx="298440" cy="64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386640" y="4561920"/>
                <a:ext cx="1289520" cy="644040"/>
                <a:chOff x="386640" y="4561920"/>
                <a:chExt cx="1289520" cy="64404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442080" y="4561920"/>
                  <a:ext cx="117828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edu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86640" y="4561920"/>
                  <a:ext cx="128952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1676520" y="4561920"/>
                <a:ext cx="298800" cy="644040"/>
                <a:chOff x="1676520" y="4561920"/>
                <a:chExt cx="298800" cy="6440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173232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67652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1976040" y="4561920"/>
                <a:ext cx="298440" cy="644040"/>
                <a:chOff x="1976040" y="4561920"/>
                <a:chExt cx="298440" cy="6440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203148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97604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274840" y="4561920"/>
                <a:ext cx="298440" cy="644040"/>
                <a:chOff x="2274840" y="4561920"/>
                <a:chExt cx="298440" cy="64404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33028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27484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2573640" y="4561920"/>
                <a:ext cx="298800" cy="644040"/>
                <a:chOff x="2573640" y="4561920"/>
                <a:chExt cx="298800" cy="6440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62944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57364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873160" y="4561920"/>
                <a:ext cx="298440" cy="644040"/>
                <a:chOff x="2873160" y="4561920"/>
                <a:chExt cx="298440" cy="6440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292860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87316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3171960" y="4561920"/>
                <a:ext cx="298800" cy="644040"/>
                <a:chOff x="3171960" y="4561920"/>
                <a:chExt cx="298800" cy="64404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22776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7196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3471120" y="4561920"/>
                <a:ext cx="298440" cy="644040"/>
                <a:chOff x="3471120" y="4561920"/>
                <a:chExt cx="298440" cy="64404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352656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47112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3770280" y="4561920"/>
                <a:ext cx="298800" cy="644040"/>
                <a:chOff x="3770280" y="4561920"/>
                <a:chExt cx="298800" cy="64404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382608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77028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4069440" y="4561920"/>
                <a:ext cx="298440" cy="644040"/>
                <a:chOff x="4069440" y="4561920"/>
                <a:chExt cx="298440" cy="6440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412488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6944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4368240" y="4561920"/>
                <a:ext cx="298800" cy="644040"/>
                <a:chOff x="4368240" y="4561920"/>
                <a:chExt cx="298800" cy="64404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442404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36824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667760" y="4561920"/>
                <a:ext cx="298440" cy="644040"/>
                <a:chOff x="4667760" y="4561920"/>
                <a:chExt cx="298440" cy="6440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472320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66776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966560" y="4561920"/>
                <a:ext cx="298800" cy="644040"/>
                <a:chOff x="4966560" y="4561920"/>
                <a:chExt cx="298800" cy="6440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502236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96656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5266080" y="4561920"/>
                <a:ext cx="298440" cy="644040"/>
                <a:chOff x="5266080" y="4561920"/>
                <a:chExt cx="298440" cy="6440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32152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26608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564880" y="4561920"/>
                <a:ext cx="298800" cy="644040"/>
                <a:chOff x="5564880" y="4561920"/>
                <a:chExt cx="298800" cy="6440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62068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56488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5864400" y="4561920"/>
                <a:ext cx="298440" cy="644040"/>
                <a:chOff x="5864400" y="4561920"/>
                <a:chExt cx="298440" cy="6440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591984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86440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6163200" y="4561920"/>
                <a:ext cx="298440" cy="644040"/>
                <a:chOff x="6163200" y="4561920"/>
                <a:chExt cx="298440" cy="6440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621864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16320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6462000" y="4561920"/>
                <a:ext cx="298800" cy="644040"/>
                <a:chOff x="6462000" y="4561920"/>
                <a:chExt cx="298800" cy="6440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651780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46200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6761520" y="4561920"/>
                <a:ext cx="298440" cy="644040"/>
                <a:chOff x="6761520" y="4561920"/>
                <a:chExt cx="298440" cy="6440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681696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76152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7060320" y="4561920"/>
                <a:ext cx="298800" cy="644040"/>
                <a:chOff x="7060320" y="4561920"/>
                <a:chExt cx="298800" cy="6440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711612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06032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7359480" y="4561920"/>
                <a:ext cx="298440" cy="644040"/>
                <a:chOff x="7359480" y="4561920"/>
                <a:chExt cx="298440" cy="6440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741492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35948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7658640" y="4561920"/>
                <a:ext cx="298800" cy="644040"/>
                <a:chOff x="7658640" y="4561920"/>
                <a:chExt cx="298800" cy="6440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771444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65864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957800" y="4561920"/>
                <a:ext cx="298440" cy="644040"/>
                <a:chOff x="7957800" y="4561920"/>
                <a:chExt cx="298440" cy="6440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801324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95780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8256600" y="4561920"/>
                <a:ext cx="298800" cy="644040"/>
                <a:chOff x="8256600" y="4561920"/>
                <a:chExt cx="298800" cy="64404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8312400" y="4561920"/>
                  <a:ext cx="186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256600" y="4561920"/>
                  <a:ext cx="29880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8556120" y="4561920"/>
                <a:ext cx="298440" cy="644040"/>
                <a:chOff x="8556120" y="4561920"/>
                <a:chExt cx="298440" cy="6440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611560" y="4561920"/>
                  <a:ext cx="187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556120" y="4561920"/>
                  <a:ext cx="2984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386640" y="5206320"/>
                <a:ext cx="1289520" cy="705960"/>
                <a:chOff x="386640" y="5206320"/>
                <a:chExt cx="1289520" cy="7059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442080" y="5206320"/>
                  <a:ext cx="117828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GLA OPERA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86640" y="5206320"/>
                  <a:ext cx="128952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1676520" y="5206320"/>
                <a:ext cx="298800" cy="705960"/>
                <a:chOff x="1676520" y="5206320"/>
                <a:chExt cx="298800" cy="7059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73232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67652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1976040" y="5206320"/>
                <a:ext cx="298440" cy="705960"/>
                <a:chOff x="1976040" y="5206320"/>
                <a:chExt cx="298440" cy="70596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203148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97604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2274840" y="5206320"/>
                <a:ext cx="298440" cy="705960"/>
                <a:chOff x="2274840" y="5206320"/>
                <a:chExt cx="298440" cy="70596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233028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27484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73640" y="5206320"/>
                <a:ext cx="298800" cy="705960"/>
                <a:chOff x="2573640" y="5206320"/>
                <a:chExt cx="298800" cy="70596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262944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7364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2873160" y="5206320"/>
                <a:ext cx="298440" cy="705960"/>
                <a:chOff x="2873160" y="5206320"/>
                <a:chExt cx="298440" cy="70596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292860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87316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3171960" y="5206320"/>
                <a:ext cx="298800" cy="705960"/>
                <a:chOff x="3171960" y="5206320"/>
                <a:chExt cx="298800" cy="70596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22776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17196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3471120" y="5206320"/>
                <a:ext cx="298440" cy="705960"/>
                <a:chOff x="3471120" y="5206320"/>
                <a:chExt cx="298440" cy="70596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352656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47112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3770280" y="5206320"/>
                <a:ext cx="298800" cy="705960"/>
                <a:chOff x="3770280" y="5206320"/>
                <a:chExt cx="298800" cy="7059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382608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77028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4069440" y="5206320"/>
                <a:ext cx="298440" cy="705960"/>
                <a:chOff x="4069440" y="5206320"/>
                <a:chExt cx="298440" cy="7059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412488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06944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4368240" y="5206320"/>
                <a:ext cx="298800" cy="705960"/>
                <a:chOff x="4368240" y="5206320"/>
                <a:chExt cx="298800" cy="7059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442404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36824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4667760" y="5206320"/>
                <a:ext cx="298440" cy="705960"/>
                <a:chOff x="4667760" y="5206320"/>
                <a:chExt cx="298440" cy="70596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472320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66776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66560" y="5206320"/>
                <a:ext cx="298800" cy="705960"/>
                <a:chOff x="4966560" y="5206320"/>
                <a:chExt cx="298800" cy="70596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2236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6656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266080" y="5206320"/>
                <a:ext cx="298440" cy="705960"/>
                <a:chOff x="5266080" y="5206320"/>
                <a:chExt cx="298440" cy="7059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32152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6608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5564880" y="5206320"/>
                <a:ext cx="298800" cy="705960"/>
                <a:chOff x="5564880" y="5206320"/>
                <a:chExt cx="298800" cy="7059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562068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6488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5864400" y="5206320"/>
                <a:ext cx="298440" cy="705960"/>
                <a:chOff x="5864400" y="5206320"/>
                <a:chExt cx="298440" cy="70596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591984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86440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6163200" y="5206320"/>
                <a:ext cx="298440" cy="705960"/>
                <a:chOff x="6163200" y="5206320"/>
                <a:chExt cx="298440" cy="70596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621864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16320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6462000" y="5206320"/>
                <a:ext cx="298800" cy="705960"/>
                <a:chOff x="6462000" y="5206320"/>
                <a:chExt cx="298800" cy="7059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651780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46200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6761520" y="5206320"/>
                <a:ext cx="298440" cy="705960"/>
                <a:chOff x="6761520" y="5206320"/>
                <a:chExt cx="298440" cy="70596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681696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76152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7060320" y="5206320"/>
                <a:ext cx="298800" cy="705960"/>
                <a:chOff x="7060320" y="5206320"/>
                <a:chExt cx="298800" cy="70596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711612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06032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7359480" y="5206320"/>
                <a:ext cx="298440" cy="705960"/>
                <a:chOff x="7359480" y="5206320"/>
                <a:chExt cx="298440" cy="7059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41492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35948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658640" y="5206320"/>
                <a:ext cx="298800" cy="705960"/>
                <a:chOff x="7658640" y="5206320"/>
                <a:chExt cx="298800" cy="70596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71444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65864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7957800" y="5206320"/>
                <a:ext cx="298440" cy="705960"/>
                <a:chOff x="7957800" y="5206320"/>
                <a:chExt cx="298440" cy="7059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801324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95780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8256600" y="5206320"/>
                <a:ext cx="298800" cy="705960"/>
                <a:chOff x="8256600" y="5206320"/>
                <a:chExt cx="298800" cy="70596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312400" y="5206320"/>
                  <a:ext cx="18684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256600" y="5206320"/>
                  <a:ext cx="29880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8556120" y="5206320"/>
                <a:ext cx="298440" cy="705960"/>
                <a:chOff x="8556120" y="5206320"/>
                <a:chExt cx="298440" cy="70596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8611560" y="5206320"/>
                  <a:ext cx="18720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556120" y="5206320"/>
                  <a:ext cx="298440" cy="70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4" name=""/>
            <p:cNvSpPr/>
            <p:nvPr/>
          </p:nvSpPr>
          <p:spPr>
            <a:xfrm>
              <a:off x="380880" y="1981080"/>
              <a:ext cx="8480160" cy="3936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B625-8BC9-4871-B9D3-6C072FC0C44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FCCDCA-1339-408C-9AE7-6263D56F57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914400" y="457200"/>
            <a:ext cx="7924320" cy="711000"/>
            <a:chOff x="914400" y="457200"/>
            <a:chExt cx="7924320" cy="711000"/>
          </a:xfrm>
        </p:grpSpPr>
        <p:grpSp>
          <p:nvGrpSpPr>
            <p:cNvPr id="876" name=""/>
            <p:cNvGrpSpPr/>
            <p:nvPr/>
          </p:nvGrpSpPr>
          <p:grpSpPr>
            <a:xfrm>
              <a:off x="919440" y="461880"/>
              <a:ext cx="7912800" cy="701640"/>
              <a:chOff x="919440" y="461880"/>
              <a:chExt cx="7912800" cy="70164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919440" y="461880"/>
                <a:ext cx="1350360" cy="701640"/>
                <a:chOff x="919440" y="461880"/>
                <a:chExt cx="1350360" cy="7016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919440" y="461880"/>
                  <a:ext cx="135036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9" name=""/>
                <p:cNvGrpSpPr/>
                <p:nvPr/>
              </p:nvGrpSpPr>
              <p:grpSpPr>
                <a:xfrm>
                  <a:off x="919440" y="461880"/>
                  <a:ext cx="1350000" cy="701640"/>
                  <a:chOff x="919440" y="461880"/>
                  <a:chExt cx="1350000" cy="70164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970200" y="461880"/>
                    <a:ext cx="12481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Ispezione della cu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919440" y="461880"/>
                    <a:ext cx="135000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2270160" y="461880"/>
                <a:ext cx="272880" cy="701640"/>
                <a:chOff x="2270160" y="461880"/>
                <a:chExt cx="272880" cy="7016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227016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2270160" y="461880"/>
                  <a:ext cx="272520" cy="701640"/>
                  <a:chOff x="2270160" y="461880"/>
                  <a:chExt cx="272520" cy="70164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232092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7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27016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7" name=""/>
              <p:cNvGrpSpPr/>
              <p:nvPr/>
            </p:nvGrpSpPr>
            <p:grpSpPr>
              <a:xfrm>
                <a:off x="2543400" y="461880"/>
                <a:ext cx="273240" cy="701640"/>
                <a:chOff x="2543400" y="461880"/>
                <a:chExt cx="273240" cy="70164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254340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9" name=""/>
                <p:cNvGrpSpPr/>
                <p:nvPr/>
              </p:nvGrpSpPr>
              <p:grpSpPr>
                <a:xfrm>
                  <a:off x="2543400" y="461880"/>
                  <a:ext cx="272880" cy="701640"/>
                  <a:chOff x="2543400" y="461880"/>
                  <a:chExt cx="272880" cy="70164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259452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4340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2" name=""/>
              <p:cNvGrpSpPr/>
              <p:nvPr/>
            </p:nvGrpSpPr>
            <p:grpSpPr>
              <a:xfrm>
                <a:off x="2817000" y="461880"/>
                <a:ext cx="272880" cy="701640"/>
                <a:chOff x="2817000" y="461880"/>
                <a:chExt cx="272880" cy="7016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81700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4" name=""/>
                <p:cNvGrpSpPr/>
                <p:nvPr/>
              </p:nvGrpSpPr>
              <p:grpSpPr>
                <a:xfrm>
                  <a:off x="2817000" y="461880"/>
                  <a:ext cx="272520" cy="701640"/>
                  <a:chOff x="2817000" y="461880"/>
                  <a:chExt cx="272520" cy="70164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286776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81700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7" name=""/>
              <p:cNvGrpSpPr/>
              <p:nvPr/>
            </p:nvGrpSpPr>
            <p:grpSpPr>
              <a:xfrm>
                <a:off x="3090240" y="461880"/>
                <a:ext cx="272880" cy="701640"/>
                <a:chOff x="3090240" y="461880"/>
                <a:chExt cx="272880" cy="701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09024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9" name=""/>
                <p:cNvGrpSpPr/>
                <p:nvPr/>
              </p:nvGrpSpPr>
              <p:grpSpPr>
                <a:xfrm>
                  <a:off x="3090240" y="461880"/>
                  <a:ext cx="272520" cy="701640"/>
                  <a:chOff x="3090240" y="461880"/>
                  <a:chExt cx="272520" cy="7016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314100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0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09024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363480" y="461880"/>
                <a:ext cx="273240" cy="701640"/>
                <a:chOff x="3363480" y="461880"/>
                <a:chExt cx="273240" cy="70164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36348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363480" y="461880"/>
                  <a:ext cx="272880" cy="701640"/>
                  <a:chOff x="3363480" y="461880"/>
                  <a:chExt cx="272880" cy="7016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41460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36348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7" name=""/>
              <p:cNvGrpSpPr/>
              <p:nvPr/>
            </p:nvGrpSpPr>
            <p:grpSpPr>
              <a:xfrm>
                <a:off x="3637440" y="461880"/>
                <a:ext cx="272880" cy="701640"/>
                <a:chOff x="3637440" y="461880"/>
                <a:chExt cx="272880" cy="70164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363744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9" name=""/>
                <p:cNvGrpSpPr/>
                <p:nvPr/>
              </p:nvGrpSpPr>
              <p:grpSpPr>
                <a:xfrm>
                  <a:off x="3637440" y="461880"/>
                  <a:ext cx="272520" cy="701640"/>
                  <a:chOff x="3637440" y="461880"/>
                  <a:chExt cx="272520" cy="7016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368820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363744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2" name=""/>
              <p:cNvGrpSpPr/>
              <p:nvPr/>
            </p:nvGrpSpPr>
            <p:grpSpPr>
              <a:xfrm>
                <a:off x="3910680" y="461880"/>
                <a:ext cx="273240" cy="701640"/>
                <a:chOff x="3910680" y="461880"/>
                <a:chExt cx="273240" cy="70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91068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4" name=""/>
                <p:cNvGrpSpPr/>
                <p:nvPr/>
              </p:nvGrpSpPr>
              <p:grpSpPr>
                <a:xfrm>
                  <a:off x="3910680" y="461880"/>
                  <a:ext cx="272880" cy="701640"/>
                  <a:chOff x="3910680" y="461880"/>
                  <a:chExt cx="272880" cy="70164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396180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391068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4184280" y="461880"/>
                <a:ext cx="272880" cy="701640"/>
                <a:chOff x="4184280" y="461880"/>
                <a:chExt cx="272880" cy="70164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18428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4184280" y="461880"/>
                  <a:ext cx="272520" cy="701640"/>
                  <a:chOff x="4184280" y="461880"/>
                  <a:chExt cx="272520" cy="70164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423504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18428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2" name=""/>
              <p:cNvGrpSpPr/>
              <p:nvPr/>
            </p:nvGrpSpPr>
            <p:grpSpPr>
              <a:xfrm>
                <a:off x="4457520" y="461880"/>
                <a:ext cx="273240" cy="701640"/>
                <a:chOff x="4457520" y="461880"/>
                <a:chExt cx="273240" cy="70164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445752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4457520" y="461880"/>
                  <a:ext cx="272880" cy="701640"/>
                  <a:chOff x="4457520" y="461880"/>
                  <a:chExt cx="272880" cy="70164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450864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5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45752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7" name=""/>
              <p:cNvGrpSpPr/>
              <p:nvPr/>
            </p:nvGrpSpPr>
            <p:grpSpPr>
              <a:xfrm>
                <a:off x="4731120" y="461880"/>
                <a:ext cx="272880" cy="701640"/>
                <a:chOff x="4731120" y="461880"/>
                <a:chExt cx="272880" cy="701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473112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9" name=""/>
                <p:cNvGrpSpPr/>
                <p:nvPr/>
              </p:nvGrpSpPr>
              <p:grpSpPr>
                <a:xfrm>
                  <a:off x="4731120" y="461880"/>
                  <a:ext cx="272520" cy="701640"/>
                  <a:chOff x="4731120" y="461880"/>
                  <a:chExt cx="272520" cy="70164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478188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6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73112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2" name=""/>
              <p:cNvGrpSpPr/>
              <p:nvPr/>
            </p:nvGrpSpPr>
            <p:grpSpPr>
              <a:xfrm>
                <a:off x="5004360" y="461880"/>
                <a:ext cx="273240" cy="701640"/>
                <a:chOff x="5004360" y="461880"/>
                <a:chExt cx="273240" cy="70164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500436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5004360" y="461880"/>
                  <a:ext cx="272880" cy="701640"/>
                  <a:chOff x="5004360" y="461880"/>
                  <a:chExt cx="272880" cy="70164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>
                    <a:off x="505548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7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00436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7" name=""/>
              <p:cNvGrpSpPr/>
              <p:nvPr/>
            </p:nvGrpSpPr>
            <p:grpSpPr>
              <a:xfrm>
                <a:off x="5277960" y="461880"/>
                <a:ext cx="272880" cy="701640"/>
                <a:chOff x="5277960" y="461880"/>
                <a:chExt cx="272880" cy="7016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527796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9" name=""/>
                <p:cNvGrpSpPr/>
                <p:nvPr/>
              </p:nvGrpSpPr>
              <p:grpSpPr>
                <a:xfrm>
                  <a:off x="5277960" y="461880"/>
                  <a:ext cx="272520" cy="701640"/>
                  <a:chOff x="5277960" y="461880"/>
                  <a:chExt cx="272520" cy="7016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532872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27796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5551200" y="461880"/>
                <a:ext cx="273240" cy="701640"/>
                <a:chOff x="5551200" y="461880"/>
                <a:chExt cx="273240" cy="701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555120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5551200" y="461880"/>
                  <a:ext cx="272880" cy="701640"/>
                  <a:chOff x="5551200" y="461880"/>
                  <a:chExt cx="272880" cy="70164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560232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555120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5824800" y="461880"/>
                <a:ext cx="272880" cy="701640"/>
                <a:chOff x="5824800" y="461880"/>
                <a:chExt cx="272880" cy="70164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582480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9" name=""/>
                <p:cNvGrpSpPr/>
                <p:nvPr/>
              </p:nvGrpSpPr>
              <p:grpSpPr>
                <a:xfrm>
                  <a:off x="5824800" y="461880"/>
                  <a:ext cx="272520" cy="701640"/>
                  <a:chOff x="5824800" y="461880"/>
                  <a:chExt cx="272520" cy="70164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587556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0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82480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2" name=""/>
              <p:cNvGrpSpPr/>
              <p:nvPr/>
            </p:nvGrpSpPr>
            <p:grpSpPr>
              <a:xfrm>
                <a:off x="6098040" y="461880"/>
                <a:ext cx="272880" cy="701640"/>
                <a:chOff x="6098040" y="461880"/>
                <a:chExt cx="272880" cy="7016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609804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4" name=""/>
                <p:cNvGrpSpPr/>
                <p:nvPr/>
              </p:nvGrpSpPr>
              <p:grpSpPr>
                <a:xfrm>
                  <a:off x="6098040" y="461880"/>
                  <a:ext cx="272520" cy="701640"/>
                  <a:chOff x="6098040" y="461880"/>
                  <a:chExt cx="272520" cy="70164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614880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09804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6371280" y="461880"/>
                <a:ext cx="273240" cy="701640"/>
                <a:chOff x="6371280" y="461880"/>
                <a:chExt cx="273240" cy="7016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637128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6371280" y="461880"/>
                  <a:ext cx="272880" cy="701640"/>
                  <a:chOff x="6371280" y="461880"/>
                  <a:chExt cx="272880" cy="70164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642240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637128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2" name=""/>
              <p:cNvGrpSpPr/>
              <p:nvPr/>
            </p:nvGrpSpPr>
            <p:grpSpPr>
              <a:xfrm>
                <a:off x="6645240" y="461880"/>
                <a:ext cx="272880" cy="701640"/>
                <a:chOff x="6645240" y="461880"/>
                <a:chExt cx="272880" cy="70164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664524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6645240" y="461880"/>
                  <a:ext cx="272520" cy="701640"/>
                  <a:chOff x="6645240" y="461880"/>
                  <a:chExt cx="272520" cy="7016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669600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64524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7" name=""/>
              <p:cNvGrpSpPr/>
              <p:nvPr/>
            </p:nvGrpSpPr>
            <p:grpSpPr>
              <a:xfrm>
                <a:off x="6918480" y="461880"/>
                <a:ext cx="273240" cy="701640"/>
                <a:chOff x="6918480" y="461880"/>
                <a:chExt cx="273240" cy="70164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691848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9" name=""/>
                <p:cNvGrpSpPr/>
                <p:nvPr/>
              </p:nvGrpSpPr>
              <p:grpSpPr>
                <a:xfrm>
                  <a:off x="6918480" y="461880"/>
                  <a:ext cx="272880" cy="701640"/>
                  <a:chOff x="6918480" y="461880"/>
                  <a:chExt cx="272880" cy="70164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696960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91848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2" name=""/>
              <p:cNvGrpSpPr/>
              <p:nvPr/>
            </p:nvGrpSpPr>
            <p:grpSpPr>
              <a:xfrm>
                <a:off x="7192080" y="461880"/>
                <a:ext cx="272880" cy="701640"/>
                <a:chOff x="7192080" y="461880"/>
                <a:chExt cx="272880" cy="70164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719208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4" name=""/>
                <p:cNvGrpSpPr/>
                <p:nvPr/>
              </p:nvGrpSpPr>
              <p:grpSpPr>
                <a:xfrm>
                  <a:off x="7192080" y="461880"/>
                  <a:ext cx="272520" cy="701640"/>
                  <a:chOff x="7192080" y="461880"/>
                  <a:chExt cx="272520" cy="70164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724284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719208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7" name=""/>
              <p:cNvGrpSpPr/>
              <p:nvPr/>
            </p:nvGrpSpPr>
            <p:grpSpPr>
              <a:xfrm>
                <a:off x="7465320" y="461880"/>
                <a:ext cx="273240" cy="701640"/>
                <a:chOff x="7465320" y="461880"/>
                <a:chExt cx="273240" cy="70164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746532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9" name=""/>
                <p:cNvGrpSpPr/>
                <p:nvPr/>
              </p:nvGrpSpPr>
              <p:grpSpPr>
                <a:xfrm>
                  <a:off x="7465320" y="461880"/>
                  <a:ext cx="272880" cy="701640"/>
                  <a:chOff x="7465320" y="461880"/>
                  <a:chExt cx="272880" cy="7016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751644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746532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2" name=""/>
              <p:cNvGrpSpPr/>
              <p:nvPr/>
            </p:nvGrpSpPr>
            <p:grpSpPr>
              <a:xfrm>
                <a:off x="7738920" y="461880"/>
                <a:ext cx="272880" cy="701640"/>
                <a:chOff x="7738920" y="461880"/>
                <a:chExt cx="272880" cy="70164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773892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4" name=""/>
                <p:cNvGrpSpPr/>
                <p:nvPr/>
              </p:nvGrpSpPr>
              <p:grpSpPr>
                <a:xfrm>
                  <a:off x="7738920" y="461880"/>
                  <a:ext cx="272520" cy="701640"/>
                  <a:chOff x="7738920" y="461880"/>
                  <a:chExt cx="272520" cy="7016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778968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773892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7" name=""/>
              <p:cNvGrpSpPr/>
              <p:nvPr/>
            </p:nvGrpSpPr>
            <p:grpSpPr>
              <a:xfrm>
                <a:off x="8012160" y="461880"/>
                <a:ext cx="273240" cy="701640"/>
                <a:chOff x="8012160" y="461880"/>
                <a:chExt cx="273240" cy="70164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801216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9" name=""/>
                <p:cNvGrpSpPr/>
                <p:nvPr/>
              </p:nvGrpSpPr>
              <p:grpSpPr>
                <a:xfrm>
                  <a:off x="8012160" y="461880"/>
                  <a:ext cx="272880" cy="701640"/>
                  <a:chOff x="8012160" y="461880"/>
                  <a:chExt cx="272880" cy="70164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806328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801216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8285760" y="461880"/>
                <a:ext cx="272880" cy="701640"/>
                <a:chOff x="8285760" y="461880"/>
                <a:chExt cx="272880" cy="70164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8285760" y="461880"/>
                  <a:ext cx="27288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4" name=""/>
                <p:cNvGrpSpPr/>
                <p:nvPr/>
              </p:nvGrpSpPr>
              <p:grpSpPr>
                <a:xfrm>
                  <a:off x="8285760" y="461880"/>
                  <a:ext cx="272520" cy="701640"/>
                  <a:chOff x="8285760" y="461880"/>
                  <a:chExt cx="272520" cy="70164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8336520" y="461880"/>
                    <a:ext cx="17100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5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285760" y="461880"/>
                    <a:ext cx="272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7" name=""/>
              <p:cNvGrpSpPr/>
              <p:nvPr/>
            </p:nvGrpSpPr>
            <p:grpSpPr>
              <a:xfrm>
                <a:off x="8559000" y="461880"/>
                <a:ext cx="273240" cy="701640"/>
                <a:chOff x="8559000" y="461880"/>
                <a:chExt cx="273240" cy="7016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8559000" y="461880"/>
                  <a:ext cx="2732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9" name=""/>
                <p:cNvGrpSpPr/>
                <p:nvPr/>
              </p:nvGrpSpPr>
              <p:grpSpPr>
                <a:xfrm>
                  <a:off x="8559000" y="461880"/>
                  <a:ext cx="272880" cy="701640"/>
                  <a:chOff x="8559000" y="461880"/>
                  <a:chExt cx="272880" cy="70164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8610120" y="461880"/>
                    <a:ext cx="1706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6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8559000" y="461880"/>
                    <a:ext cx="2728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2" name=""/>
            <p:cNvSpPr/>
            <p:nvPr/>
          </p:nvSpPr>
          <p:spPr>
            <a:xfrm>
              <a:off x="914400" y="457200"/>
              <a:ext cx="7924320" cy="711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990720" y="1219320"/>
            <a:ext cx="7848000" cy="2644200"/>
            <a:chOff x="990720" y="1219320"/>
            <a:chExt cx="7848000" cy="2644200"/>
          </a:xfrm>
        </p:grpSpPr>
        <p:grpSp>
          <p:nvGrpSpPr>
            <p:cNvPr id="1004" name=""/>
            <p:cNvGrpSpPr/>
            <p:nvPr/>
          </p:nvGrpSpPr>
          <p:grpSpPr>
            <a:xfrm>
              <a:off x="996120" y="1224000"/>
              <a:ext cx="7836480" cy="2633760"/>
              <a:chOff x="996120" y="1224000"/>
              <a:chExt cx="7836480" cy="263376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996120" y="1224000"/>
                <a:ext cx="1235160" cy="658080"/>
                <a:chOff x="996120" y="1224000"/>
                <a:chExt cx="1235160" cy="65808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047240" y="1224000"/>
                  <a:ext cx="11329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Occip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96120" y="1224000"/>
                  <a:ext cx="12351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2231640" y="1224000"/>
                <a:ext cx="274680" cy="658080"/>
                <a:chOff x="2231640" y="1224000"/>
                <a:chExt cx="274680" cy="65808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228312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23164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2507040" y="1224000"/>
                <a:ext cx="274320" cy="658080"/>
                <a:chOff x="2507040" y="1224000"/>
                <a:chExt cx="274320" cy="65808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255780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50704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2782080" y="1224000"/>
                <a:ext cx="274680" cy="658080"/>
                <a:chOff x="2782080" y="1224000"/>
                <a:chExt cx="274680" cy="65808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283356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78208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3057120" y="1224000"/>
                <a:ext cx="274320" cy="658080"/>
                <a:chOff x="3057120" y="1224000"/>
                <a:chExt cx="274320" cy="65808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310788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05712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332160" y="1224000"/>
                <a:ext cx="274320" cy="658080"/>
                <a:chOff x="3332160" y="1224000"/>
                <a:chExt cx="274320" cy="6580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338292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33216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3606840" y="1224000"/>
                <a:ext cx="274680" cy="658080"/>
                <a:chOff x="3606840" y="1224000"/>
                <a:chExt cx="274680" cy="65808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65832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60684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3882240" y="1224000"/>
                <a:ext cx="274320" cy="658080"/>
                <a:chOff x="3882240" y="1224000"/>
                <a:chExt cx="274320" cy="65808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393300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88224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4156920" y="1224000"/>
                <a:ext cx="274680" cy="658080"/>
                <a:chOff x="4156920" y="1224000"/>
                <a:chExt cx="274680" cy="65808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420840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15692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4432320" y="1224000"/>
                <a:ext cx="274320" cy="658080"/>
                <a:chOff x="4432320" y="1224000"/>
                <a:chExt cx="274320" cy="658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48308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3232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4707360" y="1224000"/>
                <a:ext cx="274680" cy="658080"/>
                <a:chOff x="4707360" y="1224000"/>
                <a:chExt cx="274680" cy="65808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475884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70736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4982400" y="1224000"/>
                <a:ext cx="274320" cy="658080"/>
                <a:chOff x="4982400" y="1224000"/>
                <a:chExt cx="274320" cy="65808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503316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98240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5257440" y="1224000"/>
                <a:ext cx="274680" cy="658080"/>
                <a:chOff x="5257440" y="1224000"/>
                <a:chExt cx="274680" cy="65808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530892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25744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5532480" y="1224000"/>
                <a:ext cx="274320" cy="658080"/>
                <a:chOff x="5532480" y="1224000"/>
                <a:chExt cx="274320" cy="6580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58324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53248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807520" y="1224000"/>
                <a:ext cx="274680" cy="658080"/>
                <a:chOff x="5807520" y="1224000"/>
                <a:chExt cx="274680" cy="6580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85900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80752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082920" y="1224000"/>
                <a:ext cx="274320" cy="658080"/>
                <a:chOff x="6082920" y="1224000"/>
                <a:chExt cx="274320" cy="6580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13368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08292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6357600" y="1224000"/>
                <a:ext cx="274320" cy="658080"/>
                <a:chOff x="6357600" y="1224000"/>
                <a:chExt cx="274320" cy="6580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640908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35760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6632640" y="1224000"/>
                <a:ext cx="274680" cy="658080"/>
                <a:chOff x="6632640" y="1224000"/>
                <a:chExt cx="274680" cy="65808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668412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63264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6907680" y="1224000"/>
                <a:ext cx="274320" cy="658080"/>
                <a:chOff x="6907680" y="1224000"/>
                <a:chExt cx="274320" cy="65808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695844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90768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7182720" y="1224000"/>
                <a:ext cx="274680" cy="658080"/>
                <a:chOff x="7182720" y="1224000"/>
                <a:chExt cx="274680" cy="65808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723420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18272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7457760" y="1224000"/>
                <a:ext cx="274320" cy="658080"/>
                <a:chOff x="7457760" y="1224000"/>
                <a:chExt cx="274320" cy="65808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750852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45776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7732800" y="1224000"/>
                <a:ext cx="274680" cy="658080"/>
                <a:chOff x="7732800" y="1224000"/>
                <a:chExt cx="274680" cy="65808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778428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73280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8008200" y="1224000"/>
                <a:ext cx="274320" cy="658080"/>
                <a:chOff x="8008200" y="1224000"/>
                <a:chExt cx="274320" cy="65808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805896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800820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8282880" y="1224000"/>
                <a:ext cx="274680" cy="658080"/>
                <a:chOff x="8282880" y="1224000"/>
                <a:chExt cx="274680" cy="65808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8334360" y="122400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282880" y="122400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8558280" y="1224000"/>
                <a:ext cx="274320" cy="658080"/>
                <a:chOff x="8558280" y="1224000"/>
                <a:chExt cx="274320" cy="6580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8609040" y="122400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8558280" y="122400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996120" y="1882440"/>
                <a:ext cx="1235160" cy="658080"/>
                <a:chOff x="996120" y="1882440"/>
                <a:chExt cx="1235160" cy="6580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1047240" y="1882440"/>
                  <a:ext cx="11329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Scapola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996120" y="1882440"/>
                  <a:ext cx="12351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2231640" y="1882440"/>
                <a:ext cx="274680" cy="658080"/>
                <a:chOff x="2231640" y="1882440"/>
                <a:chExt cx="274680" cy="6580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228312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223164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507040" y="1882440"/>
                <a:ext cx="274320" cy="658080"/>
                <a:chOff x="2507040" y="1882440"/>
                <a:chExt cx="274320" cy="6580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255780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50704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782080" y="1882440"/>
                <a:ext cx="274680" cy="658080"/>
                <a:chOff x="2782080" y="1882440"/>
                <a:chExt cx="274680" cy="6580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83356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78208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057120" y="1882440"/>
                <a:ext cx="274320" cy="658080"/>
                <a:chOff x="3057120" y="1882440"/>
                <a:chExt cx="274320" cy="6580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10788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05712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3332160" y="1882440"/>
                <a:ext cx="274320" cy="658080"/>
                <a:chOff x="3332160" y="1882440"/>
                <a:chExt cx="274320" cy="6580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38292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33216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3606840" y="1882440"/>
                <a:ext cx="274680" cy="658080"/>
                <a:chOff x="3606840" y="1882440"/>
                <a:chExt cx="274680" cy="65808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365832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60684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3882240" y="1882440"/>
                <a:ext cx="274320" cy="658080"/>
                <a:chOff x="3882240" y="1882440"/>
                <a:chExt cx="274320" cy="6580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93300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88224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4156920" y="1882440"/>
                <a:ext cx="274680" cy="658080"/>
                <a:chOff x="4156920" y="1882440"/>
                <a:chExt cx="274680" cy="65808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420840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15692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4432320" y="1882440"/>
                <a:ext cx="274320" cy="658080"/>
                <a:chOff x="4432320" y="1882440"/>
                <a:chExt cx="274320" cy="6580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48308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3232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4707360" y="1882440"/>
                <a:ext cx="274680" cy="658080"/>
                <a:chOff x="4707360" y="1882440"/>
                <a:chExt cx="274680" cy="65808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75884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70736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4982400" y="1882440"/>
                <a:ext cx="274320" cy="658080"/>
                <a:chOff x="4982400" y="1882440"/>
                <a:chExt cx="274320" cy="65808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03316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98240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257440" y="1882440"/>
                <a:ext cx="274680" cy="658080"/>
                <a:chOff x="5257440" y="1882440"/>
                <a:chExt cx="274680" cy="6580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30892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25744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532480" y="1882440"/>
                <a:ext cx="274320" cy="658080"/>
                <a:chOff x="5532480" y="1882440"/>
                <a:chExt cx="274320" cy="65808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58324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53248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5807520" y="1882440"/>
                <a:ext cx="274680" cy="658080"/>
                <a:chOff x="5807520" y="1882440"/>
                <a:chExt cx="274680" cy="65808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585900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80752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082920" y="1882440"/>
                <a:ext cx="274320" cy="658080"/>
                <a:chOff x="6082920" y="1882440"/>
                <a:chExt cx="274320" cy="65808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13368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08292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357600" y="1882440"/>
                <a:ext cx="274320" cy="658080"/>
                <a:chOff x="6357600" y="1882440"/>
                <a:chExt cx="274320" cy="65808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40908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35760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632640" y="1882440"/>
                <a:ext cx="274680" cy="658080"/>
                <a:chOff x="6632640" y="1882440"/>
                <a:chExt cx="274680" cy="65808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68412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63264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6907680" y="1882440"/>
                <a:ext cx="274320" cy="658080"/>
                <a:chOff x="6907680" y="1882440"/>
                <a:chExt cx="274320" cy="65808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695844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90768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7182720" y="1882440"/>
                <a:ext cx="274680" cy="658080"/>
                <a:chOff x="7182720" y="1882440"/>
                <a:chExt cx="274680" cy="65808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723420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18272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7457760" y="1882440"/>
                <a:ext cx="274320" cy="658080"/>
                <a:chOff x="7457760" y="1882440"/>
                <a:chExt cx="274320" cy="65808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750852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45776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732800" y="1882440"/>
                <a:ext cx="274680" cy="658080"/>
                <a:chOff x="7732800" y="1882440"/>
                <a:chExt cx="274680" cy="65808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78428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73280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8008200" y="1882440"/>
                <a:ext cx="274320" cy="658080"/>
                <a:chOff x="8008200" y="1882440"/>
                <a:chExt cx="274320" cy="65808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805896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00820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8282880" y="1882440"/>
                <a:ext cx="274680" cy="658080"/>
                <a:chOff x="8282880" y="1882440"/>
                <a:chExt cx="274680" cy="65808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8334360" y="188244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282880" y="188244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8558280" y="1882440"/>
                <a:ext cx="274320" cy="658080"/>
                <a:chOff x="8558280" y="1882440"/>
                <a:chExt cx="274320" cy="658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8609040" y="188244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558280" y="188244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996120" y="2540880"/>
                <a:ext cx="1235160" cy="658080"/>
                <a:chOff x="996120" y="2540880"/>
                <a:chExt cx="1235160" cy="6580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047240" y="2540880"/>
                  <a:ext cx="11329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Scapola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996120" y="2540880"/>
                  <a:ext cx="12351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2231640" y="2540880"/>
                <a:ext cx="274680" cy="658080"/>
                <a:chOff x="2231640" y="2540880"/>
                <a:chExt cx="274680" cy="65808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228312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23164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2507040" y="2540880"/>
                <a:ext cx="274320" cy="658080"/>
                <a:chOff x="2507040" y="2540880"/>
                <a:chExt cx="274320" cy="65808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255780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50704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2782080" y="2540880"/>
                <a:ext cx="274680" cy="658080"/>
                <a:chOff x="2782080" y="2540880"/>
                <a:chExt cx="274680" cy="65808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283356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78208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3057120" y="2540880"/>
                <a:ext cx="274320" cy="658080"/>
                <a:chOff x="3057120" y="2540880"/>
                <a:chExt cx="274320" cy="65808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10788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05712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3332160" y="2540880"/>
                <a:ext cx="274320" cy="658080"/>
                <a:chOff x="3332160" y="2540880"/>
                <a:chExt cx="274320" cy="65808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338292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33216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3606840" y="2540880"/>
                <a:ext cx="274680" cy="658080"/>
                <a:chOff x="3606840" y="2540880"/>
                <a:chExt cx="274680" cy="6580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365832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60684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3882240" y="2540880"/>
                <a:ext cx="274320" cy="658080"/>
                <a:chOff x="3882240" y="2540880"/>
                <a:chExt cx="274320" cy="65808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393300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88224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4156920" y="2540880"/>
                <a:ext cx="274680" cy="658080"/>
                <a:chOff x="4156920" y="2540880"/>
                <a:chExt cx="274680" cy="65808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420840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15692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4432320" y="2540880"/>
                <a:ext cx="274320" cy="658080"/>
                <a:chOff x="4432320" y="2540880"/>
                <a:chExt cx="274320" cy="6580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448308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3232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4707360" y="2540880"/>
                <a:ext cx="274680" cy="658080"/>
                <a:chOff x="4707360" y="2540880"/>
                <a:chExt cx="274680" cy="65808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475884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70736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4982400" y="2540880"/>
                <a:ext cx="274320" cy="658080"/>
                <a:chOff x="4982400" y="2540880"/>
                <a:chExt cx="274320" cy="65808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503316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98240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5257440" y="2540880"/>
                <a:ext cx="274680" cy="658080"/>
                <a:chOff x="5257440" y="2540880"/>
                <a:chExt cx="274680" cy="6580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30892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25744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5532480" y="2540880"/>
                <a:ext cx="274320" cy="658080"/>
                <a:chOff x="5532480" y="2540880"/>
                <a:chExt cx="274320" cy="65808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558324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53248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5807520" y="2540880"/>
                <a:ext cx="274680" cy="658080"/>
                <a:chOff x="5807520" y="2540880"/>
                <a:chExt cx="274680" cy="6580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85900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80752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6082920" y="2540880"/>
                <a:ext cx="274320" cy="658080"/>
                <a:chOff x="6082920" y="2540880"/>
                <a:chExt cx="274320" cy="6580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13368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08292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6357600" y="2540880"/>
                <a:ext cx="274320" cy="658080"/>
                <a:chOff x="6357600" y="2540880"/>
                <a:chExt cx="274320" cy="65808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640908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635760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6632640" y="2540880"/>
                <a:ext cx="274680" cy="658080"/>
                <a:chOff x="6632640" y="2540880"/>
                <a:chExt cx="274680" cy="65808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668412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63264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6907680" y="2540880"/>
                <a:ext cx="274320" cy="658080"/>
                <a:chOff x="6907680" y="2540880"/>
                <a:chExt cx="274320" cy="65808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695844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90768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7182720" y="2540880"/>
                <a:ext cx="274680" cy="658080"/>
                <a:chOff x="7182720" y="2540880"/>
                <a:chExt cx="274680" cy="6580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723420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718272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7457760" y="2540880"/>
                <a:ext cx="274320" cy="658080"/>
                <a:chOff x="7457760" y="2540880"/>
                <a:chExt cx="274320" cy="65808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50852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45776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7732800" y="2540880"/>
                <a:ext cx="274680" cy="658080"/>
                <a:chOff x="7732800" y="2540880"/>
                <a:chExt cx="274680" cy="65808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778428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773280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8008200" y="2540880"/>
                <a:ext cx="274320" cy="658080"/>
                <a:chOff x="8008200" y="2540880"/>
                <a:chExt cx="274320" cy="658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805896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00820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8282880" y="2540880"/>
                <a:ext cx="274680" cy="658080"/>
                <a:chOff x="8282880" y="2540880"/>
                <a:chExt cx="274680" cy="65808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8334360" y="25408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282880" y="25408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8558280" y="2540880"/>
                <a:ext cx="274320" cy="658080"/>
                <a:chOff x="8558280" y="2540880"/>
                <a:chExt cx="274320" cy="658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8609040" y="25408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558280" y="25408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996120" y="3199680"/>
                <a:ext cx="1235160" cy="658080"/>
                <a:chOff x="996120" y="3199680"/>
                <a:chExt cx="1235160" cy="6580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1047240" y="3199680"/>
                  <a:ext cx="11329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Proc.Spin. Ve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996120" y="3199680"/>
                  <a:ext cx="12351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2231640" y="3199680"/>
                <a:ext cx="274680" cy="658080"/>
                <a:chOff x="2231640" y="3199680"/>
                <a:chExt cx="274680" cy="6580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228312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23164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507040" y="3199680"/>
                <a:ext cx="274320" cy="658080"/>
                <a:chOff x="2507040" y="3199680"/>
                <a:chExt cx="274320" cy="65808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55780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50704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2782080" y="3199680"/>
                <a:ext cx="274680" cy="658080"/>
                <a:chOff x="2782080" y="3199680"/>
                <a:chExt cx="274680" cy="65808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283356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208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3057120" y="3199680"/>
                <a:ext cx="274320" cy="658080"/>
                <a:chOff x="3057120" y="3199680"/>
                <a:chExt cx="274320" cy="65808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310788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305712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3332160" y="3199680"/>
                <a:ext cx="274320" cy="658080"/>
                <a:chOff x="3332160" y="3199680"/>
                <a:chExt cx="274320" cy="6580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338292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33216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3606840" y="3199680"/>
                <a:ext cx="274680" cy="658080"/>
                <a:chOff x="3606840" y="3199680"/>
                <a:chExt cx="274680" cy="65808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365832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60684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3882240" y="3199680"/>
                <a:ext cx="274320" cy="658080"/>
                <a:chOff x="3882240" y="3199680"/>
                <a:chExt cx="274320" cy="65808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393300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88224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4156920" y="3199680"/>
                <a:ext cx="274680" cy="658080"/>
                <a:chOff x="4156920" y="3199680"/>
                <a:chExt cx="274680" cy="6580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420840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15692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4432320" y="3199680"/>
                <a:ext cx="274320" cy="658080"/>
                <a:chOff x="4432320" y="3199680"/>
                <a:chExt cx="274320" cy="6580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448308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43232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4707360" y="3199680"/>
                <a:ext cx="274680" cy="658080"/>
                <a:chOff x="4707360" y="3199680"/>
                <a:chExt cx="274680" cy="6580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75884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70736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4982400" y="3199680"/>
                <a:ext cx="274320" cy="658080"/>
                <a:chOff x="4982400" y="3199680"/>
                <a:chExt cx="274320" cy="6580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503316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8240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5257440" y="3199680"/>
                <a:ext cx="274680" cy="658080"/>
                <a:chOff x="5257440" y="3199680"/>
                <a:chExt cx="274680" cy="6580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530892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25744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5532480" y="3199680"/>
                <a:ext cx="274320" cy="658080"/>
                <a:chOff x="5532480" y="3199680"/>
                <a:chExt cx="274320" cy="6580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558324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53248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5807520" y="3199680"/>
                <a:ext cx="274680" cy="658080"/>
                <a:chOff x="5807520" y="3199680"/>
                <a:chExt cx="274680" cy="6580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85900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80752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082920" y="3199680"/>
                <a:ext cx="274320" cy="658080"/>
                <a:chOff x="6082920" y="3199680"/>
                <a:chExt cx="274320" cy="6580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13368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08292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6357600" y="3199680"/>
                <a:ext cx="274320" cy="658080"/>
                <a:chOff x="6357600" y="3199680"/>
                <a:chExt cx="274320" cy="6580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640908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35760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6632640" y="3199680"/>
                <a:ext cx="274680" cy="658080"/>
                <a:chOff x="6632640" y="3199680"/>
                <a:chExt cx="274680" cy="6580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668412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663264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6907680" y="3199680"/>
                <a:ext cx="274320" cy="658080"/>
                <a:chOff x="6907680" y="3199680"/>
                <a:chExt cx="274320" cy="6580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695844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90768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7182720" y="3199680"/>
                <a:ext cx="274680" cy="658080"/>
                <a:chOff x="7182720" y="3199680"/>
                <a:chExt cx="274680" cy="6580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723420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18272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7457760" y="3199680"/>
                <a:ext cx="274320" cy="658080"/>
                <a:chOff x="7457760" y="3199680"/>
                <a:chExt cx="274320" cy="6580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750852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45776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732800" y="3199680"/>
                <a:ext cx="274680" cy="658080"/>
                <a:chOff x="7732800" y="3199680"/>
                <a:chExt cx="274680" cy="6580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78428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73280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8008200" y="3199680"/>
                <a:ext cx="274320" cy="658080"/>
                <a:chOff x="8008200" y="3199680"/>
                <a:chExt cx="274320" cy="65808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805896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00820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8282880" y="3199680"/>
                <a:ext cx="274680" cy="658080"/>
                <a:chOff x="8282880" y="3199680"/>
                <a:chExt cx="274680" cy="65808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8334360" y="3199680"/>
                  <a:ext cx="1717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8282880" y="3199680"/>
                  <a:ext cx="274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8558280" y="3199680"/>
                <a:ext cx="274320" cy="658080"/>
                <a:chOff x="8558280" y="3199680"/>
                <a:chExt cx="274320" cy="65808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8609040" y="3199680"/>
                  <a:ext cx="17208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558280" y="3199680"/>
                  <a:ext cx="2743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5" name=""/>
            <p:cNvSpPr/>
            <p:nvPr/>
          </p:nvSpPr>
          <p:spPr>
            <a:xfrm>
              <a:off x="990720" y="1219320"/>
              <a:ext cx="7848000" cy="264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990720" y="3886200"/>
            <a:ext cx="7848000" cy="2385720"/>
            <a:chOff x="990720" y="3886200"/>
            <a:chExt cx="7848000" cy="2385720"/>
          </a:xfrm>
        </p:grpSpPr>
        <p:grpSp>
          <p:nvGrpSpPr>
            <p:cNvPr id="1307" name=""/>
            <p:cNvGrpSpPr/>
            <p:nvPr/>
          </p:nvGrpSpPr>
          <p:grpSpPr>
            <a:xfrm>
              <a:off x="995760" y="3891960"/>
              <a:ext cx="7836480" cy="2372760"/>
              <a:chOff x="995760" y="3891960"/>
              <a:chExt cx="7836480" cy="2372760"/>
            </a:xfrm>
          </p:grpSpPr>
          <p:grpSp>
            <p:nvGrpSpPr>
              <p:cNvPr id="1308" name=""/>
              <p:cNvGrpSpPr/>
              <p:nvPr/>
            </p:nvGrpSpPr>
            <p:grpSpPr>
              <a:xfrm>
                <a:off x="995760" y="3891960"/>
                <a:ext cx="1263240" cy="790560"/>
                <a:chOff x="995760" y="3891960"/>
                <a:chExt cx="1263240" cy="79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1046520" y="3891960"/>
                  <a:ext cx="116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Sacr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995760" y="3891960"/>
                  <a:ext cx="126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2259360" y="3891960"/>
                <a:ext cx="273240" cy="790560"/>
                <a:chOff x="2259360" y="3891960"/>
                <a:chExt cx="273240" cy="790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231012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25936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2532960" y="3891960"/>
                <a:ext cx="273240" cy="790560"/>
                <a:chOff x="2532960" y="3891960"/>
                <a:chExt cx="273240" cy="790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258372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3296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2806560" y="3891960"/>
                <a:ext cx="273600" cy="790560"/>
                <a:chOff x="2806560" y="3891960"/>
                <a:chExt cx="273600" cy="790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285768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80656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3080880" y="3891960"/>
                <a:ext cx="273240" cy="790560"/>
                <a:chOff x="3080880" y="3891960"/>
                <a:chExt cx="273240" cy="790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313164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08088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3354480" y="3891960"/>
                <a:ext cx="273600" cy="790560"/>
                <a:chOff x="3354480" y="3891960"/>
                <a:chExt cx="273600" cy="790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40560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448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3628800" y="3891960"/>
                <a:ext cx="273240" cy="790560"/>
                <a:chOff x="3628800" y="3891960"/>
                <a:chExt cx="273240" cy="79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367956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362880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3902400" y="3891960"/>
                <a:ext cx="273600" cy="790560"/>
                <a:chOff x="3902400" y="3891960"/>
                <a:chExt cx="273600" cy="790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395352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90240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4176360" y="3891960"/>
                <a:ext cx="273240" cy="790560"/>
                <a:chOff x="4176360" y="3891960"/>
                <a:chExt cx="273240" cy="790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422712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17636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4450320" y="3891960"/>
                <a:ext cx="273600" cy="790560"/>
                <a:chOff x="4450320" y="3891960"/>
                <a:chExt cx="273600" cy="790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50144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45032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4724280" y="3891960"/>
                <a:ext cx="273240" cy="790560"/>
                <a:chOff x="4724280" y="3891960"/>
                <a:chExt cx="273240" cy="790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477504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72428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4997880" y="3891960"/>
                <a:ext cx="273600" cy="790560"/>
                <a:chOff x="4997880" y="3891960"/>
                <a:chExt cx="273600" cy="790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04900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99788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272200" y="3891960"/>
                <a:ext cx="273240" cy="790560"/>
                <a:chOff x="5272200" y="3891960"/>
                <a:chExt cx="273240" cy="790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32296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27220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5545800" y="3891960"/>
                <a:ext cx="273240" cy="790560"/>
                <a:chOff x="5545800" y="3891960"/>
                <a:chExt cx="273240" cy="790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559692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54580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5819400" y="3891960"/>
                <a:ext cx="273600" cy="790560"/>
                <a:chOff x="5819400" y="3891960"/>
                <a:chExt cx="273600" cy="790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587052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81940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3720" y="3891960"/>
                <a:ext cx="273240" cy="790560"/>
                <a:chOff x="6093720" y="3891960"/>
                <a:chExt cx="273240" cy="79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14448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09372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367320" y="3891960"/>
                <a:ext cx="273600" cy="790560"/>
                <a:chOff x="6367320" y="3891960"/>
                <a:chExt cx="273600" cy="790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41844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36732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6641280" y="3891960"/>
                <a:ext cx="273240" cy="790560"/>
                <a:chOff x="6641280" y="3891960"/>
                <a:chExt cx="273240" cy="79056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669204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664128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6915240" y="3891960"/>
                <a:ext cx="273600" cy="790560"/>
                <a:chOff x="6915240" y="3891960"/>
                <a:chExt cx="273600" cy="79056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696636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691524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7189200" y="3891960"/>
                <a:ext cx="273240" cy="790560"/>
                <a:chOff x="7189200" y="3891960"/>
                <a:chExt cx="273240" cy="79056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723996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18920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7462800" y="3891960"/>
                <a:ext cx="273600" cy="790560"/>
                <a:chOff x="7462800" y="3891960"/>
                <a:chExt cx="273600" cy="79056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751392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46280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7737120" y="3891960"/>
                <a:ext cx="273240" cy="790560"/>
                <a:chOff x="7737120" y="3891960"/>
                <a:chExt cx="273240" cy="79056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778788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73712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8010720" y="3891960"/>
                <a:ext cx="273600" cy="790560"/>
                <a:chOff x="8010720" y="3891960"/>
                <a:chExt cx="273600" cy="79056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806184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801072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8285040" y="3891960"/>
                <a:ext cx="273240" cy="790560"/>
                <a:chOff x="8285040" y="3891960"/>
                <a:chExt cx="273240" cy="7905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8335800" y="38919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8285040" y="38919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8558640" y="3891960"/>
                <a:ext cx="273600" cy="790560"/>
                <a:chOff x="8558640" y="3891960"/>
                <a:chExt cx="273600" cy="79056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8609760" y="38919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558640" y="38919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995760" y="4682880"/>
                <a:ext cx="1263240" cy="790560"/>
                <a:chOff x="995760" y="4682880"/>
                <a:chExt cx="1263240" cy="79056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1046520" y="4682880"/>
                  <a:ext cx="116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Malleolo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995760" y="4682880"/>
                  <a:ext cx="126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2259360" y="4682880"/>
                <a:ext cx="273240" cy="790560"/>
                <a:chOff x="2259360" y="4682880"/>
                <a:chExt cx="273240" cy="79056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231012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25936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2532960" y="4682880"/>
                <a:ext cx="273240" cy="790560"/>
                <a:chOff x="2532960" y="4682880"/>
                <a:chExt cx="273240" cy="79056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258372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53296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2806560" y="4682880"/>
                <a:ext cx="273600" cy="790560"/>
                <a:chOff x="2806560" y="4682880"/>
                <a:chExt cx="273600" cy="79056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285768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80656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3080880" y="4682880"/>
                <a:ext cx="273240" cy="790560"/>
                <a:chOff x="3080880" y="4682880"/>
                <a:chExt cx="273240" cy="79056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313164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08088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3354480" y="4682880"/>
                <a:ext cx="273600" cy="790560"/>
                <a:chOff x="3354480" y="4682880"/>
                <a:chExt cx="273600" cy="79056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340560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35448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3628800" y="4682880"/>
                <a:ext cx="273240" cy="790560"/>
                <a:chOff x="3628800" y="4682880"/>
                <a:chExt cx="273240" cy="79056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367956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362880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3902400" y="4682880"/>
                <a:ext cx="273600" cy="790560"/>
                <a:chOff x="3902400" y="4682880"/>
                <a:chExt cx="273600" cy="79056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395352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390240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176360" y="4682880"/>
                <a:ext cx="273240" cy="790560"/>
                <a:chOff x="4176360" y="4682880"/>
                <a:chExt cx="273240" cy="79056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422712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17636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4450320" y="4682880"/>
                <a:ext cx="273600" cy="790560"/>
                <a:chOff x="4450320" y="4682880"/>
                <a:chExt cx="273600" cy="79056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450144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45032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4724280" y="4682880"/>
                <a:ext cx="273240" cy="790560"/>
                <a:chOff x="4724280" y="4682880"/>
                <a:chExt cx="273240" cy="79056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477504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72428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4997880" y="4682880"/>
                <a:ext cx="273600" cy="790560"/>
                <a:chOff x="4997880" y="4682880"/>
                <a:chExt cx="273600" cy="79056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504900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499788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5272200" y="4682880"/>
                <a:ext cx="273240" cy="790560"/>
                <a:chOff x="5272200" y="4682880"/>
                <a:chExt cx="273240" cy="79056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532296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27220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5545800" y="4682880"/>
                <a:ext cx="273240" cy="790560"/>
                <a:chOff x="5545800" y="4682880"/>
                <a:chExt cx="273240" cy="79056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559692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54580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5819400" y="4682880"/>
                <a:ext cx="273600" cy="790560"/>
                <a:chOff x="5819400" y="4682880"/>
                <a:chExt cx="273600" cy="79056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587052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581940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6093720" y="4682880"/>
                <a:ext cx="273240" cy="790560"/>
                <a:chOff x="6093720" y="4682880"/>
                <a:chExt cx="273240" cy="79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614448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09372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6367320" y="4682880"/>
                <a:ext cx="273600" cy="790560"/>
                <a:chOff x="6367320" y="4682880"/>
                <a:chExt cx="273600" cy="79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41844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636732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6641280" y="4682880"/>
                <a:ext cx="273240" cy="790560"/>
                <a:chOff x="6641280" y="4682880"/>
                <a:chExt cx="273240" cy="79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669204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64128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6915240" y="4682880"/>
                <a:ext cx="273600" cy="790560"/>
                <a:chOff x="6915240" y="4682880"/>
                <a:chExt cx="273600" cy="79056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696636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691524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7189200" y="4682880"/>
                <a:ext cx="273240" cy="790560"/>
                <a:chOff x="7189200" y="4682880"/>
                <a:chExt cx="273240" cy="79056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723996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18920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7462800" y="4682880"/>
                <a:ext cx="273600" cy="790560"/>
                <a:chOff x="7462800" y="4682880"/>
                <a:chExt cx="273600" cy="79056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751392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46280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7737120" y="4682880"/>
                <a:ext cx="273240" cy="790560"/>
                <a:chOff x="7737120" y="4682880"/>
                <a:chExt cx="273240" cy="79056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778788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73712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8010720" y="4682880"/>
                <a:ext cx="273600" cy="790560"/>
                <a:chOff x="8010720" y="4682880"/>
                <a:chExt cx="273600" cy="79056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806184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01072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8285040" y="4682880"/>
                <a:ext cx="273240" cy="790560"/>
                <a:chOff x="8285040" y="4682880"/>
                <a:chExt cx="273240" cy="79056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8335800" y="468288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285040" y="468288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8558640" y="4682880"/>
                <a:ext cx="273600" cy="790560"/>
                <a:chOff x="8558640" y="4682880"/>
                <a:chExt cx="273600" cy="79056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8609760" y="468288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558640" y="468288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995760" y="5474160"/>
                <a:ext cx="1263240" cy="790560"/>
                <a:chOff x="995760" y="5474160"/>
                <a:chExt cx="1263240" cy="79056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1046520" y="5474160"/>
                  <a:ext cx="116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Malleolo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995760" y="5474160"/>
                  <a:ext cx="126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2259360" y="5474160"/>
                <a:ext cx="273240" cy="790560"/>
                <a:chOff x="2259360" y="5474160"/>
                <a:chExt cx="273240" cy="79056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231012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225936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2532960" y="5474160"/>
                <a:ext cx="273240" cy="790560"/>
                <a:chOff x="2532960" y="5474160"/>
                <a:chExt cx="273240" cy="79056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258372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53296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2806560" y="5474160"/>
                <a:ext cx="273600" cy="790560"/>
                <a:chOff x="2806560" y="5474160"/>
                <a:chExt cx="273600" cy="79056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285768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80656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3080880" y="5474160"/>
                <a:ext cx="273240" cy="790560"/>
                <a:chOff x="3080880" y="5474160"/>
                <a:chExt cx="273240" cy="79056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313164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308088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3354480" y="5474160"/>
                <a:ext cx="273600" cy="790560"/>
                <a:chOff x="3354480" y="5474160"/>
                <a:chExt cx="273600" cy="79056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40560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5448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3628800" y="5474160"/>
                <a:ext cx="273240" cy="790560"/>
                <a:chOff x="3628800" y="5474160"/>
                <a:chExt cx="273240" cy="79056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367956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362880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902400" y="5474160"/>
                <a:ext cx="273600" cy="790560"/>
                <a:chOff x="3902400" y="5474160"/>
                <a:chExt cx="273600" cy="79056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95352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90240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4176360" y="5474160"/>
                <a:ext cx="273240" cy="790560"/>
                <a:chOff x="4176360" y="5474160"/>
                <a:chExt cx="273240" cy="79056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422712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17636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4450320" y="5474160"/>
                <a:ext cx="273600" cy="790560"/>
                <a:chOff x="4450320" y="5474160"/>
                <a:chExt cx="273600" cy="79056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450144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45032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4724280" y="5474160"/>
                <a:ext cx="273240" cy="790560"/>
                <a:chOff x="4724280" y="5474160"/>
                <a:chExt cx="273240" cy="79056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477504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72428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4997880" y="5474160"/>
                <a:ext cx="273600" cy="790560"/>
                <a:chOff x="4997880" y="5474160"/>
                <a:chExt cx="273600" cy="79056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504900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499788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272200" y="5474160"/>
                <a:ext cx="273240" cy="790560"/>
                <a:chOff x="5272200" y="5474160"/>
                <a:chExt cx="273240" cy="79056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32296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27220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5545800" y="5474160"/>
                <a:ext cx="273240" cy="790560"/>
                <a:chOff x="5545800" y="5474160"/>
                <a:chExt cx="273240" cy="79056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559692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554580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5819400" y="5474160"/>
                <a:ext cx="273600" cy="790560"/>
                <a:chOff x="5819400" y="5474160"/>
                <a:chExt cx="273600" cy="79056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587052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581940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6093720" y="5474160"/>
                <a:ext cx="273240" cy="790560"/>
                <a:chOff x="6093720" y="5474160"/>
                <a:chExt cx="273240" cy="79056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614448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09372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6367320" y="5474160"/>
                <a:ext cx="273600" cy="790560"/>
                <a:chOff x="6367320" y="5474160"/>
                <a:chExt cx="273600" cy="7905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641844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636732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641280" y="5474160"/>
                <a:ext cx="273240" cy="790560"/>
                <a:chOff x="6641280" y="5474160"/>
                <a:chExt cx="273240" cy="79056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69204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64128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915240" y="5474160"/>
                <a:ext cx="273600" cy="790560"/>
                <a:chOff x="6915240" y="5474160"/>
                <a:chExt cx="273600" cy="79056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696636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91524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7189200" y="5474160"/>
                <a:ext cx="273240" cy="790560"/>
                <a:chOff x="7189200" y="5474160"/>
                <a:chExt cx="273240" cy="79056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723996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18920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"/>
              <p:cNvGrpSpPr/>
              <p:nvPr/>
            </p:nvGrpSpPr>
            <p:grpSpPr>
              <a:xfrm>
                <a:off x="7462800" y="5474160"/>
                <a:ext cx="273600" cy="790560"/>
                <a:chOff x="7462800" y="5474160"/>
                <a:chExt cx="273600" cy="79056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751392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46280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7737120" y="5474160"/>
                <a:ext cx="273240" cy="790560"/>
                <a:chOff x="7737120" y="5474160"/>
                <a:chExt cx="273240" cy="79056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778788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773712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8010720" y="5474160"/>
                <a:ext cx="273600" cy="790560"/>
                <a:chOff x="8010720" y="5474160"/>
                <a:chExt cx="273600" cy="79056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806184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01072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8285040" y="5474160"/>
                <a:ext cx="273240" cy="790560"/>
                <a:chOff x="8285040" y="5474160"/>
                <a:chExt cx="273240" cy="79056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8335800" y="5474160"/>
                  <a:ext cx="17172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285040" y="5474160"/>
                  <a:ext cx="27324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8558640" y="5474160"/>
                <a:ext cx="273600" cy="790560"/>
                <a:chOff x="8558640" y="5474160"/>
                <a:chExt cx="273600" cy="7905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8609760" y="5474160"/>
                  <a:ext cx="171000" cy="7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558640" y="5474160"/>
                  <a:ext cx="273600" cy="79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3" name=""/>
            <p:cNvSpPr/>
            <p:nvPr/>
          </p:nvSpPr>
          <p:spPr>
            <a:xfrm>
              <a:off x="990720" y="3886200"/>
              <a:ext cx="7848000" cy="238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ED01-E6BF-4B80-A21A-0A3349CF4B4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7C1108-1E04-43FE-912E-5BDDB5032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4" name=""/>
          <p:cNvGrpSpPr/>
          <p:nvPr/>
        </p:nvGrpSpPr>
        <p:grpSpPr>
          <a:xfrm>
            <a:off x="457200" y="914400"/>
            <a:ext cx="8229600" cy="5409720"/>
            <a:chOff x="457200" y="914400"/>
            <a:chExt cx="8229600" cy="5409720"/>
          </a:xfrm>
        </p:grpSpPr>
        <p:grpSp>
          <p:nvGrpSpPr>
            <p:cNvPr id="1535" name=""/>
            <p:cNvGrpSpPr/>
            <p:nvPr/>
          </p:nvGrpSpPr>
          <p:grpSpPr>
            <a:xfrm>
              <a:off x="461520" y="919080"/>
              <a:ext cx="8220240" cy="5399280"/>
              <a:chOff x="461520" y="919080"/>
              <a:chExt cx="8220240" cy="5399280"/>
            </a:xfrm>
          </p:grpSpPr>
          <p:grpSp>
            <p:nvGrpSpPr>
              <p:cNvPr id="1536" name=""/>
              <p:cNvGrpSpPr/>
              <p:nvPr/>
            </p:nvGrpSpPr>
            <p:grpSpPr>
              <a:xfrm>
                <a:off x="461520" y="919080"/>
                <a:ext cx="1334160" cy="673920"/>
                <a:chOff x="461520" y="919080"/>
                <a:chExt cx="1334160" cy="67392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505080" y="919080"/>
                  <a:ext cx="1246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Trocantere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61520" y="919080"/>
                  <a:ext cx="13341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1795680" y="919080"/>
                <a:ext cx="258480" cy="673920"/>
                <a:chOff x="1795680" y="919080"/>
                <a:chExt cx="258480" cy="67392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1839600" y="91908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179568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2054520" y="919080"/>
                <a:ext cx="234720" cy="673920"/>
                <a:chOff x="2054520" y="919080"/>
                <a:chExt cx="234720" cy="67392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2098080" y="919080"/>
                  <a:ext cx="147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2054520" y="919080"/>
                  <a:ext cx="234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2289240" y="919080"/>
                <a:ext cx="258480" cy="673920"/>
                <a:chOff x="2289240" y="919080"/>
                <a:chExt cx="258480" cy="67392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2333160" y="91908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28924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2547720" y="919080"/>
                <a:ext cx="258120" cy="673920"/>
                <a:chOff x="2547720" y="919080"/>
                <a:chExt cx="258120" cy="6739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259128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2547720" y="91908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2806200" y="919080"/>
                <a:ext cx="258480" cy="673920"/>
                <a:chOff x="2806200" y="919080"/>
                <a:chExt cx="258480" cy="67392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2850120" y="91908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280620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3064680" y="919080"/>
                <a:ext cx="306720" cy="673920"/>
                <a:chOff x="3064680" y="919080"/>
                <a:chExt cx="306720" cy="67392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108240" y="919080"/>
                  <a:ext cx="219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3064680" y="919080"/>
                  <a:ext cx="306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7" name=""/>
              <p:cNvGrpSpPr/>
              <p:nvPr/>
            </p:nvGrpSpPr>
            <p:grpSpPr>
              <a:xfrm>
                <a:off x="3371400" y="919080"/>
                <a:ext cx="416520" cy="673920"/>
                <a:chOff x="3371400" y="919080"/>
                <a:chExt cx="416520" cy="67392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3415320" y="919080"/>
                  <a:ext cx="328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3371400" y="919080"/>
                  <a:ext cx="4165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3788280" y="919080"/>
                <a:ext cx="307080" cy="673920"/>
                <a:chOff x="3788280" y="919080"/>
                <a:chExt cx="307080" cy="67392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3832200" y="919080"/>
                  <a:ext cx="2188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788280" y="919080"/>
                  <a:ext cx="3070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4095360" y="919080"/>
                <a:ext cx="258120" cy="673920"/>
                <a:chOff x="4095360" y="919080"/>
                <a:chExt cx="258120" cy="673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413892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095360" y="91908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4353840" y="919080"/>
                <a:ext cx="258480" cy="673920"/>
                <a:chOff x="4353840" y="919080"/>
                <a:chExt cx="258480" cy="6739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397760" y="91908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5384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612320" y="919080"/>
                <a:ext cx="258120" cy="673920"/>
                <a:chOff x="4612320" y="919080"/>
                <a:chExt cx="258120" cy="673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465588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612320" y="91908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4870440" y="919080"/>
                <a:ext cx="258480" cy="673920"/>
                <a:chOff x="4870440" y="919080"/>
                <a:chExt cx="258480" cy="673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491436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487044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5129280" y="919080"/>
                <a:ext cx="516600" cy="673920"/>
                <a:chOff x="5129280" y="919080"/>
                <a:chExt cx="516600" cy="673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5172840" y="919080"/>
                  <a:ext cx="4291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5129280" y="919080"/>
                  <a:ext cx="5166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5645880" y="919080"/>
                <a:ext cx="258480" cy="673920"/>
                <a:chOff x="5645880" y="919080"/>
                <a:chExt cx="258480" cy="67392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5689800" y="91908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564588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5904720" y="919080"/>
                <a:ext cx="258120" cy="673920"/>
                <a:chOff x="5904720" y="919080"/>
                <a:chExt cx="258120" cy="673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594828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5904720" y="91908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162840" y="919080"/>
                <a:ext cx="258480" cy="673920"/>
                <a:chOff x="6162840" y="919080"/>
                <a:chExt cx="258480" cy="673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20676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16284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6421320" y="919080"/>
                <a:ext cx="258480" cy="673920"/>
                <a:chOff x="6421320" y="919080"/>
                <a:chExt cx="258480" cy="673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646488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42132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6680160" y="919080"/>
                <a:ext cx="258120" cy="673920"/>
                <a:chOff x="6680160" y="919080"/>
                <a:chExt cx="258120" cy="67392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672372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680160" y="91908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6938280" y="919080"/>
                <a:ext cx="258480" cy="673920"/>
                <a:chOff x="6938280" y="919080"/>
                <a:chExt cx="258480" cy="673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6982200" y="91908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93828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196760" y="919080"/>
                <a:ext cx="258120" cy="673920"/>
                <a:chOff x="7196760" y="919080"/>
                <a:chExt cx="258120" cy="673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24032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196760" y="91908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454880" y="919080"/>
                <a:ext cx="258480" cy="673920"/>
                <a:chOff x="7454880" y="919080"/>
                <a:chExt cx="258480" cy="673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498800" y="91908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454880" y="91908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713720" y="919080"/>
                <a:ext cx="322200" cy="673920"/>
                <a:chOff x="7713720" y="919080"/>
                <a:chExt cx="322200" cy="67392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757280" y="91908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713720" y="91908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8036280" y="919080"/>
                <a:ext cx="322560" cy="673920"/>
                <a:chOff x="8036280" y="919080"/>
                <a:chExt cx="322560" cy="673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8080200" y="919080"/>
                  <a:ext cx="23436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036280" y="919080"/>
                  <a:ext cx="3225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8359200" y="919080"/>
                <a:ext cx="322200" cy="673920"/>
                <a:chOff x="8359200" y="919080"/>
                <a:chExt cx="322200" cy="673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8402760" y="91908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359200" y="91908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461520" y="1593360"/>
                <a:ext cx="1334160" cy="673920"/>
                <a:chOff x="461520" y="1593360"/>
                <a:chExt cx="1334160" cy="673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505080" y="1593360"/>
                  <a:ext cx="1246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Trocantere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461520" y="1593360"/>
                  <a:ext cx="13341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1795680" y="1593360"/>
                <a:ext cx="258480" cy="673920"/>
                <a:chOff x="1795680" y="1593360"/>
                <a:chExt cx="258480" cy="67392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1839600" y="159336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179568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2054520" y="1593360"/>
                <a:ext cx="234720" cy="673920"/>
                <a:chOff x="2054520" y="1593360"/>
                <a:chExt cx="234720" cy="673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2098080" y="1593360"/>
                  <a:ext cx="147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2054520" y="1593360"/>
                  <a:ext cx="234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2289240" y="1593360"/>
                <a:ext cx="258480" cy="673920"/>
                <a:chOff x="2289240" y="1593360"/>
                <a:chExt cx="258480" cy="673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2333160" y="159336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228924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2547720" y="1593360"/>
                <a:ext cx="258120" cy="673920"/>
                <a:chOff x="2547720" y="1593360"/>
                <a:chExt cx="258120" cy="673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259128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2547720" y="159336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2806200" y="1593360"/>
                <a:ext cx="258480" cy="673920"/>
                <a:chOff x="2806200" y="1593360"/>
                <a:chExt cx="258480" cy="67392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2850120" y="159336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280620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3064680" y="1593360"/>
                <a:ext cx="306720" cy="673920"/>
                <a:chOff x="3064680" y="1593360"/>
                <a:chExt cx="306720" cy="673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3108240" y="1593360"/>
                  <a:ext cx="219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064680" y="1593360"/>
                  <a:ext cx="306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3371400" y="1593360"/>
                <a:ext cx="416520" cy="673920"/>
                <a:chOff x="3371400" y="1593360"/>
                <a:chExt cx="416520" cy="673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3415320" y="1593360"/>
                  <a:ext cx="328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371400" y="1593360"/>
                  <a:ext cx="4165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3788280" y="1593360"/>
                <a:ext cx="307080" cy="673920"/>
                <a:chOff x="3788280" y="1593360"/>
                <a:chExt cx="307080" cy="673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3832200" y="1593360"/>
                  <a:ext cx="2188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788280" y="1593360"/>
                  <a:ext cx="3070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4095360" y="1593360"/>
                <a:ext cx="258120" cy="673920"/>
                <a:chOff x="4095360" y="1593360"/>
                <a:chExt cx="258120" cy="67392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413892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095360" y="159336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4353840" y="1593360"/>
                <a:ext cx="258480" cy="673920"/>
                <a:chOff x="4353840" y="1593360"/>
                <a:chExt cx="258480" cy="673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4397760" y="159336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435384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4612320" y="1593360"/>
                <a:ext cx="258120" cy="673920"/>
                <a:chOff x="4612320" y="1593360"/>
                <a:chExt cx="258120" cy="673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465588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4612320" y="159336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4870440" y="1593360"/>
                <a:ext cx="258480" cy="673920"/>
                <a:chOff x="4870440" y="1593360"/>
                <a:chExt cx="258480" cy="673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491436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487044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5129280" y="1593360"/>
                <a:ext cx="516600" cy="673920"/>
                <a:chOff x="5129280" y="1593360"/>
                <a:chExt cx="516600" cy="67392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5172840" y="1593360"/>
                  <a:ext cx="4291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5129280" y="1593360"/>
                  <a:ext cx="5166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5645880" y="1593360"/>
                <a:ext cx="258480" cy="673920"/>
                <a:chOff x="5645880" y="1593360"/>
                <a:chExt cx="258480" cy="673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5689800" y="159336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64588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5904720" y="1593360"/>
                <a:ext cx="258120" cy="673920"/>
                <a:chOff x="5904720" y="1593360"/>
                <a:chExt cx="258120" cy="673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594828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5904720" y="159336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6162840" y="1593360"/>
                <a:ext cx="258480" cy="673920"/>
                <a:chOff x="6162840" y="1593360"/>
                <a:chExt cx="258480" cy="67392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620676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616284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6421320" y="1593360"/>
                <a:ext cx="258480" cy="673920"/>
                <a:chOff x="6421320" y="1593360"/>
                <a:chExt cx="258480" cy="67392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646488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42132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6680160" y="1593360"/>
                <a:ext cx="258120" cy="673920"/>
                <a:chOff x="6680160" y="1593360"/>
                <a:chExt cx="258120" cy="673920"/>
              </a:xfrm>
            </p:grpSpPr>
            <p:sp>
              <p:nvSpPr>
                <p:cNvPr id="1666" name=""/>
                <p:cNvSpPr/>
                <p:nvPr/>
              </p:nvSpPr>
              <p:spPr>
                <a:xfrm>
                  <a:off x="672372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6680160" y="159336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6938280" y="1593360"/>
                <a:ext cx="258480" cy="673920"/>
                <a:chOff x="6938280" y="1593360"/>
                <a:chExt cx="258480" cy="67392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6982200" y="159336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693828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7196760" y="1593360"/>
                <a:ext cx="258120" cy="673920"/>
                <a:chOff x="7196760" y="1593360"/>
                <a:chExt cx="258120" cy="67392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724032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196760" y="159336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4" name=""/>
              <p:cNvGrpSpPr/>
              <p:nvPr/>
            </p:nvGrpSpPr>
            <p:grpSpPr>
              <a:xfrm>
                <a:off x="7454880" y="1593360"/>
                <a:ext cx="258480" cy="673920"/>
                <a:chOff x="7454880" y="1593360"/>
                <a:chExt cx="258480" cy="67392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7498800" y="159336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7454880" y="159336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7713720" y="1593360"/>
                <a:ext cx="322200" cy="673920"/>
                <a:chOff x="7713720" y="1593360"/>
                <a:chExt cx="322200" cy="67392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7757280" y="159336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7713720" y="159336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8036280" y="1593360"/>
                <a:ext cx="322560" cy="673920"/>
                <a:chOff x="8036280" y="1593360"/>
                <a:chExt cx="322560" cy="67392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8080200" y="1593360"/>
                  <a:ext cx="23436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8036280" y="1593360"/>
                  <a:ext cx="3225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8359200" y="1593360"/>
                <a:ext cx="322200" cy="673920"/>
                <a:chOff x="8359200" y="1593360"/>
                <a:chExt cx="322200" cy="67392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8402760" y="159336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8359200" y="159336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61520" y="2268000"/>
                <a:ext cx="1334160" cy="673920"/>
                <a:chOff x="461520" y="2268000"/>
                <a:chExt cx="1334160" cy="67392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505080" y="2268000"/>
                  <a:ext cx="1246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Tallone d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461520" y="2268000"/>
                  <a:ext cx="13341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1795680" y="2268000"/>
                <a:ext cx="258480" cy="673920"/>
                <a:chOff x="1795680" y="2268000"/>
                <a:chExt cx="258480" cy="67392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1839600" y="226800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179568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2054520" y="2268000"/>
                <a:ext cx="234720" cy="673920"/>
                <a:chOff x="2054520" y="2268000"/>
                <a:chExt cx="234720" cy="67392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2098080" y="2268000"/>
                  <a:ext cx="147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054520" y="2268000"/>
                  <a:ext cx="234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2289240" y="2268000"/>
                <a:ext cx="258480" cy="673920"/>
                <a:chOff x="2289240" y="2268000"/>
                <a:chExt cx="258480" cy="673920"/>
              </a:xfrm>
            </p:grpSpPr>
            <p:sp>
              <p:nvSpPr>
                <p:cNvPr id="1696" name=""/>
                <p:cNvSpPr/>
                <p:nvPr/>
              </p:nvSpPr>
              <p:spPr>
                <a:xfrm>
                  <a:off x="2333160" y="226800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228924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2547720" y="2268000"/>
                <a:ext cx="258120" cy="673920"/>
                <a:chOff x="2547720" y="2268000"/>
                <a:chExt cx="258120" cy="67392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259128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547720" y="226800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2806200" y="2268000"/>
                <a:ext cx="258480" cy="673920"/>
                <a:chOff x="2806200" y="2268000"/>
                <a:chExt cx="258480" cy="67392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2850120" y="226800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80620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3064680" y="2268000"/>
                <a:ext cx="306720" cy="673920"/>
                <a:chOff x="3064680" y="2268000"/>
                <a:chExt cx="306720" cy="6739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3108240" y="2268000"/>
                  <a:ext cx="219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3064680" y="2268000"/>
                  <a:ext cx="306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3371400" y="2268000"/>
                <a:ext cx="416520" cy="673920"/>
                <a:chOff x="3371400" y="2268000"/>
                <a:chExt cx="416520" cy="6739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3415320" y="2268000"/>
                  <a:ext cx="328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3371400" y="2268000"/>
                  <a:ext cx="4165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3788280" y="2268000"/>
                <a:ext cx="307080" cy="673920"/>
                <a:chOff x="3788280" y="2268000"/>
                <a:chExt cx="307080" cy="67392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3832200" y="2268000"/>
                  <a:ext cx="2188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3788280" y="2268000"/>
                  <a:ext cx="3070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4095360" y="2268000"/>
                <a:ext cx="258120" cy="673920"/>
                <a:chOff x="4095360" y="2268000"/>
                <a:chExt cx="258120" cy="6739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413892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095360" y="226800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4353840" y="2268000"/>
                <a:ext cx="258480" cy="673920"/>
                <a:chOff x="4353840" y="2268000"/>
                <a:chExt cx="258480" cy="67392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4397760" y="226800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35384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4612320" y="2268000"/>
                <a:ext cx="258120" cy="673920"/>
                <a:chOff x="4612320" y="2268000"/>
                <a:chExt cx="258120" cy="67392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465588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4612320" y="226800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4870440" y="2268000"/>
                <a:ext cx="258480" cy="673920"/>
                <a:chOff x="4870440" y="2268000"/>
                <a:chExt cx="258480" cy="67392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491436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87044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5129280" y="2268000"/>
                <a:ext cx="516600" cy="673920"/>
                <a:chOff x="5129280" y="2268000"/>
                <a:chExt cx="516600" cy="67392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5172840" y="2268000"/>
                  <a:ext cx="4291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5129280" y="2268000"/>
                  <a:ext cx="5166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5645880" y="2268000"/>
                <a:ext cx="258480" cy="673920"/>
                <a:chOff x="5645880" y="2268000"/>
                <a:chExt cx="258480" cy="67392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5689800" y="226800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564588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"/>
              <p:cNvGrpSpPr/>
              <p:nvPr/>
            </p:nvGrpSpPr>
            <p:grpSpPr>
              <a:xfrm>
                <a:off x="5904720" y="2268000"/>
                <a:ext cx="258120" cy="673920"/>
                <a:chOff x="5904720" y="2268000"/>
                <a:chExt cx="258120" cy="673920"/>
              </a:xfrm>
            </p:grpSpPr>
            <p:sp>
              <p:nvSpPr>
                <p:cNvPr id="1732" name=""/>
                <p:cNvSpPr/>
                <p:nvPr/>
              </p:nvSpPr>
              <p:spPr>
                <a:xfrm>
                  <a:off x="594828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904720" y="226800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4" name=""/>
              <p:cNvGrpSpPr/>
              <p:nvPr/>
            </p:nvGrpSpPr>
            <p:grpSpPr>
              <a:xfrm>
                <a:off x="6162840" y="2268000"/>
                <a:ext cx="258480" cy="673920"/>
                <a:chOff x="6162840" y="2268000"/>
                <a:chExt cx="258480" cy="67392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620676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616284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7" name=""/>
              <p:cNvGrpSpPr/>
              <p:nvPr/>
            </p:nvGrpSpPr>
            <p:grpSpPr>
              <a:xfrm>
                <a:off x="6421320" y="2268000"/>
                <a:ext cx="258480" cy="673920"/>
                <a:chOff x="6421320" y="2268000"/>
                <a:chExt cx="258480" cy="67392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646488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42132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6680160" y="2268000"/>
                <a:ext cx="258120" cy="673920"/>
                <a:chOff x="6680160" y="2268000"/>
                <a:chExt cx="258120" cy="67392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672372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6680160" y="226800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3" name=""/>
              <p:cNvGrpSpPr/>
              <p:nvPr/>
            </p:nvGrpSpPr>
            <p:grpSpPr>
              <a:xfrm>
                <a:off x="6938280" y="2268000"/>
                <a:ext cx="258480" cy="673920"/>
                <a:chOff x="6938280" y="2268000"/>
                <a:chExt cx="258480" cy="67392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6982200" y="226800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693828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6" name=""/>
              <p:cNvGrpSpPr/>
              <p:nvPr/>
            </p:nvGrpSpPr>
            <p:grpSpPr>
              <a:xfrm>
                <a:off x="7196760" y="2268000"/>
                <a:ext cx="258120" cy="673920"/>
                <a:chOff x="7196760" y="2268000"/>
                <a:chExt cx="258120" cy="67392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724032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7196760" y="226800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9" name=""/>
              <p:cNvGrpSpPr/>
              <p:nvPr/>
            </p:nvGrpSpPr>
            <p:grpSpPr>
              <a:xfrm>
                <a:off x="7454880" y="2268000"/>
                <a:ext cx="258480" cy="673920"/>
                <a:chOff x="7454880" y="2268000"/>
                <a:chExt cx="258480" cy="67392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7498800" y="226800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7454880" y="226800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7713720" y="2268000"/>
                <a:ext cx="322200" cy="673920"/>
                <a:chOff x="7713720" y="2268000"/>
                <a:chExt cx="322200" cy="6739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7757280" y="226800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7713720" y="226800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8036280" y="2268000"/>
                <a:ext cx="322560" cy="673920"/>
                <a:chOff x="8036280" y="2268000"/>
                <a:chExt cx="322560" cy="67392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8080200" y="2268000"/>
                  <a:ext cx="23436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036280" y="2268000"/>
                  <a:ext cx="3225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8359200" y="2268000"/>
                <a:ext cx="322200" cy="673920"/>
                <a:chOff x="8359200" y="2268000"/>
                <a:chExt cx="322200" cy="67392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8402760" y="226800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359200" y="226800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1" name=""/>
              <p:cNvGrpSpPr/>
              <p:nvPr/>
            </p:nvGrpSpPr>
            <p:grpSpPr>
              <a:xfrm>
                <a:off x="461520" y="2942640"/>
                <a:ext cx="1334160" cy="673920"/>
                <a:chOff x="461520" y="2942640"/>
                <a:chExt cx="1334160" cy="67392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505080" y="2942640"/>
                  <a:ext cx="1246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Tallone s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461520" y="2942640"/>
                  <a:ext cx="13341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4" name=""/>
              <p:cNvGrpSpPr/>
              <p:nvPr/>
            </p:nvGrpSpPr>
            <p:grpSpPr>
              <a:xfrm>
                <a:off x="1795680" y="2942640"/>
                <a:ext cx="258480" cy="673920"/>
                <a:chOff x="1795680" y="2942640"/>
                <a:chExt cx="258480" cy="67392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1839600" y="294264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179568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7" name=""/>
              <p:cNvGrpSpPr/>
              <p:nvPr/>
            </p:nvGrpSpPr>
            <p:grpSpPr>
              <a:xfrm>
                <a:off x="2054520" y="2942640"/>
                <a:ext cx="234720" cy="673920"/>
                <a:chOff x="2054520" y="2942640"/>
                <a:chExt cx="234720" cy="67392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2098080" y="2942640"/>
                  <a:ext cx="147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2054520" y="2942640"/>
                  <a:ext cx="234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2289240" y="2942640"/>
                <a:ext cx="258480" cy="673920"/>
                <a:chOff x="2289240" y="2942640"/>
                <a:chExt cx="258480" cy="67392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2333160" y="294264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228924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3" name=""/>
              <p:cNvGrpSpPr/>
              <p:nvPr/>
            </p:nvGrpSpPr>
            <p:grpSpPr>
              <a:xfrm>
                <a:off x="2547720" y="2942640"/>
                <a:ext cx="258120" cy="673920"/>
                <a:chOff x="2547720" y="2942640"/>
                <a:chExt cx="258120" cy="67392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259128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2547720" y="294264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2806200" y="2942640"/>
                <a:ext cx="258480" cy="673920"/>
                <a:chOff x="2806200" y="2942640"/>
                <a:chExt cx="258480" cy="67392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2850120" y="294264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280620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9" name=""/>
              <p:cNvGrpSpPr/>
              <p:nvPr/>
            </p:nvGrpSpPr>
            <p:grpSpPr>
              <a:xfrm>
                <a:off x="3064680" y="2942640"/>
                <a:ext cx="306720" cy="673920"/>
                <a:chOff x="3064680" y="2942640"/>
                <a:chExt cx="306720" cy="67392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3108240" y="2942640"/>
                  <a:ext cx="2192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3064680" y="2942640"/>
                  <a:ext cx="3067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3371400" y="2942640"/>
                <a:ext cx="416520" cy="673920"/>
                <a:chOff x="3371400" y="2942640"/>
                <a:chExt cx="416520" cy="67392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3415320" y="2942640"/>
                  <a:ext cx="3286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3371400" y="2942640"/>
                  <a:ext cx="4165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5" name=""/>
              <p:cNvGrpSpPr/>
              <p:nvPr/>
            </p:nvGrpSpPr>
            <p:grpSpPr>
              <a:xfrm>
                <a:off x="3788280" y="2942640"/>
                <a:ext cx="307080" cy="673920"/>
                <a:chOff x="3788280" y="2942640"/>
                <a:chExt cx="307080" cy="67392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3832200" y="2942640"/>
                  <a:ext cx="2188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3788280" y="2942640"/>
                  <a:ext cx="3070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8" name=""/>
              <p:cNvGrpSpPr/>
              <p:nvPr/>
            </p:nvGrpSpPr>
            <p:grpSpPr>
              <a:xfrm>
                <a:off x="4095360" y="2942640"/>
                <a:ext cx="258120" cy="673920"/>
                <a:chOff x="4095360" y="2942640"/>
                <a:chExt cx="258120" cy="67392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413892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095360" y="294264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1" name=""/>
              <p:cNvGrpSpPr/>
              <p:nvPr/>
            </p:nvGrpSpPr>
            <p:grpSpPr>
              <a:xfrm>
                <a:off x="4353840" y="2942640"/>
                <a:ext cx="258480" cy="673920"/>
                <a:chOff x="4353840" y="2942640"/>
                <a:chExt cx="258480" cy="673920"/>
              </a:xfrm>
            </p:grpSpPr>
            <p:sp>
              <p:nvSpPr>
                <p:cNvPr id="1792" name=""/>
                <p:cNvSpPr/>
                <p:nvPr/>
              </p:nvSpPr>
              <p:spPr>
                <a:xfrm>
                  <a:off x="4397760" y="294264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435384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4612320" y="2942640"/>
                <a:ext cx="258120" cy="673920"/>
                <a:chOff x="4612320" y="2942640"/>
                <a:chExt cx="258120" cy="673920"/>
              </a:xfrm>
            </p:grpSpPr>
            <p:sp>
              <p:nvSpPr>
                <p:cNvPr id="1795" name=""/>
                <p:cNvSpPr/>
                <p:nvPr/>
              </p:nvSpPr>
              <p:spPr>
                <a:xfrm>
                  <a:off x="465588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4612320" y="294264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4870440" y="2942640"/>
                <a:ext cx="258480" cy="673920"/>
                <a:chOff x="4870440" y="2942640"/>
                <a:chExt cx="258480" cy="673920"/>
              </a:xfrm>
            </p:grpSpPr>
            <p:sp>
              <p:nvSpPr>
                <p:cNvPr id="1798" name=""/>
                <p:cNvSpPr/>
                <p:nvPr/>
              </p:nvSpPr>
              <p:spPr>
                <a:xfrm>
                  <a:off x="491436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87044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5129280" y="2942640"/>
                <a:ext cx="516600" cy="673920"/>
                <a:chOff x="5129280" y="2942640"/>
                <a:chExt cx="516600" cy="67392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5172840" y="2942640"/>
                  <a:ext cx="4291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129280" y="2942640"/>
                  <a:ext cx="5166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3" name=""/>
              <p:cNvGrpSpPr/>
              <p:nvPr/>
            </p:nvGrpSpPr>
            <p:grpSpPr>
              <a:xfrm>
                <a:off x="5645880" y="2942640"/>
                <a:ext cx="258480" cy="673920"/>
                <a:chOff x="5645880" y="2942640"/>
                <a:chExt cx="258480" cy="673920"/>
              </a:xfrm>
            </p:grpSpPr>
            <p:sp>
              <p:nvSpPr>
                <p:cNvPr id="1804" name=""/>
                <p:cNvSpPr/>
                <p:nvPr/>
              </p:nvSpPr>
              <p:spPr>
                <a:xfrm>
                  <a:off x="5689800" y="294264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64588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5904720" y="2942640"/>
                <a:ext cx="258120" cy="673920"/>
                <a:chOff x="5904720" y="2942640"/>
                <a:chExt cx="258120" cy="67392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594828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904720" y="294264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6162840" y="2942640"/>
                <a:ext cx="258480" cy="673920"/>
                <a:chOff x="6162840" y="2942640"/>
                <a:chExt cx="258480" cy="6739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620676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616284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2" name=""/>
              <p:cNvGrpSpPr/>
              <p:nvPr/>
            </p:nvGrpSpPr>
            <p:grpSpPr>
              <a:xfrm>
                <a:off x="6421320" y="2942640"/>
                <a:ext cx="258480" cy="673920"/>
                <a:chOff x="6421320" y="2942640"/>
                <a:chExt cx="258480" cy="67392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646488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42132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6680160" y="2942640"/>
                <a:ext cx="258120" cy="673920"/>
                <a:chOff x="6680160" y="2942640"/>
                <a:chExt cx="258120" cy="67392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672372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6680160" y="294264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8" name=""/>
              <p:cNvGrpSpPr/>
              <p:nvPr/>
            </p:nvGrpSpPr>
            <p:grpSpPr>
              <a:xfrm>
                <a:off x="6938280" y="2942640"/>
                <a:ext cx="258480" cy="673920"/>
                <a:chOff x="6938280" y="2942640"/>
                <a:chExt cx="258480" cy="67392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6982200" y="2942640"/>
                  <a:ext cx="1702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93828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7196760" y="2942640"/>
                <a:ext cx="258120" cy="673920"/>
                <a:chOff x="7196760" y="2942640"/>
                <a:chExt cx="258120" cy="67392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724032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196760" y="2942640"/>
                  <a:ext cx="25812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4" name=""/>
              <p:cNvGrpSpPr/>
              <p:nvPr/>
            </p:nvGrpSpPr>
            <p:grpSpPr>
              <a:xfrm>
                <a:off x="7454880" y="2942640"/>
                <a:ext cx="258480" cy="673920"/>
                <a:chOff x="7454880" y="2942640"/>
                <a:chExt cx="258480" cy="67392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7498800" y="2942640"/>
                  <a:ext cx="1706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454880" y="2942640"/>
                  <a:ext cx="25848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7713720" y="2942640"/>
                <a:ext cx="322200" cy="673920"/>
                <a:chOff x="7713720" y="2942640"/>
                <a:chExt cx="322200" cy="67392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7757280" y="294264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713720" y="294264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0" name=""/>
              <p:cNvGrpSpPr/>
              <p:nvPr/>
            </p:nvGrpSpPr>
            <p:grpSpPr>
              <a:xfrm>
                <a:off x="8036280" y="2942640"/>
                <a:ext cx="322560" cy="673920"/>
                <a:chOff x="8036280" y="2942640"/>
                <a:chExt cx="322560" cy="673920"/>
              </a:xfrm>
            </p:grpSpPr>
            <p:sp>
              <p:nvSpPr>
                <p:cNvPr id="1831" name=""/>
                <p:cNvSpPr/>
                <p:nvPr/>
              </p:nvSpPr>
              <p:spPr>
                <a:xfrm>
                  <a:off x="8080200" y="2942640"/>
                  <a:ext cx="23436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8036280" y="2942640"/>
                  <a:ext cx="32256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3" name=""/>
              <p:cNvGrpSpPr/>
              <p:nvPr/>
            </p:nvGrpSpPr>
            <p:grpSpPr>
              <a:xfrm>
                <a:off x="8359200" y="2942640"/>
                <a:ext cx="322200" cy="673920"/>
                <a:chOff x="8359200" y="2942640"/>
                <a:chExt cx="322200" cy="67392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8402760" y="2942640"/>
                  <a:ext cx="234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8359200" y="2942640"/>
                  <a:ext cx="322200" cy="67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6" name=""/>
              <p:cNvGrpSpPr/>
              <p:nvPr/>
            </p:nvGrpSpPr>
            <p:grpSpPr>
              <a:xfrm>
                <a:off x="461520" y="3616920"/>
                <a:ext cx="1334160" cy="674280"/>
                <a:chOff x="461520" y="3616920"/>
                <a:chExt cx="1334160" cy="67428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505080" y="3616920"/>
                  <a:ext cx="12466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SIGLA OPERAT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461520" y="3616920"/>
                  <a:ext cx="133416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9" name=""/>
              <p:cNvGrpSpPr/>
              <p:nvPr/>
            </p:nvGrpSpPr>
            <p:grpSpPr>
              <a:xfrm>
                <a:off x="1795680" y="3616920"/>
                <a:ext cx="258480" cy="674280"/>
                <a:chOff x="1795680" y="3616920"/>
                <a:chExt cx="258480" cy="674280"/>
              </a:xfrm>
            </p:grpSpPr>
            <p:sp>
              <p:nvSpPr>
                <p:cNvPr id="1840" name=""/>
                <p:cNvSpPr/>
                <p:nvPr/>
              </p:nvSpPr>
              <p:spPr>
                <a:xfrm>
                  <a:off x="1839600" y="3616920"/>
                  <a:ext cx="1702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179568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2" name=""/>
              <p:cNvGrpSpPr/>
              <p:nvPr/>
            </p:nvGrpSpPr>
            <p:grpSpPr>
              <a:xfrm>
                <a:off x="2054520" y="3616920"/>
                <a:ext cx="234720" cy="674280"/>
                <a:chOff x="2054520" y="3616920"/>
                <a:chExt cx="234720" cy="674280"/>
              </a:xfrm>
            </p:grpSpPr>
            <p:sp>
              <p:nvSpPr>
                <p:cNvPr id="1843" name=""/>
                <p:cNvSpPr/>
                <p:nvPr/>
              </p:nvSpPr>
              <p:spPr>
                <a:xfrm>
                  <a:off x="2098080" y="3616920"/>
                  <a:ext cx="1472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2054520" y="3616920"/>
                  <a:ext cx="2347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5" name=""/>
              <p:cNvGrpSpPr/>
              <p:nvPr/>
            </p:nvGrpSpPr>
            <p:grpSpPr>
              <a:xfrm>
                <a:off x="2289240" y="3616920"/>
                <a:ext cx="258480" cy="674280"/>
                <a:chOff x="2289240" y="3616920"/>
                <a:chExt cx="258480" cy="67428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2333160" y="3616920"/>
                  <a:ext cx="1702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228924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8" name=""/>
              <p:cNvGrpSpPr/>
              <p:nvPr/>
            </p:nvGrpSpPr>
            <p:grpSpPr>
              <a:xfrm>
                <a:off x="2547720" y="3616920"/>
                <a:ext cx="258120" cy="674280"/>
                <a:chOff x="2547720" y="3616920"/>
                <a:chExt cx="258120" cy="674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259128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2547720" y="3616920"/>
                  <a:ext cx="2581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2806200" y="3616920"/>
                <a:ext cx="258480" cy="674280"/>
                <a:chOff x="2806200" y="3616920"/>
                <a:chExt cx="258480" cy="67428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2850120" y="3616920"/>
                  <a:ext cx="1702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280620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4" name=""/>
              <p:cNvGrpSpPr/>
              <p:nvPr/>
            </p:nvGrpSpPr>
            <p:grpSpPr>
              <a:xfrm>
                <a:off x="3064680" y="3616920"/>
                <a:ext cx="306720" cy="674280"/>
                <a:chOff x="3064680" y="3616920"/>
                <a:chExt cx="306720" cy="674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3108240" y="3616920"/>
                  <a:ext cx="2192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3064680" y="3616920"/>
                  <a:ext cx="3067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3371400" y="3616920"/>
                <a:ext cx="416520" cy="674280"/>
                <a:chOff x="3371400" y="3616920"/>
                <a:chExt cx="416520" cy="67428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3415320" y="3616920"/>
                  <a:ext cx="3286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3371400" y="3616920"/>
                  <a:ext cx="4165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0" name=""/>
              <p:cNvGrpSpPr/>
              <p:nvPr/>
            </p:nvGrpSpPr>
            <p:grpSpPr>
              <a:xfrm>
                <a:off x="3788280" y="3616920"/>
                <a:ext cx="307080" cy="674280"/>
                <a:chOff x="3788280" y="3616920"/>
                <a:chExt cx="307080" cy="67428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3832200" y="3616920"/>
                  <a:ext cx="2188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3788280" y="3616920"/>
                  <a:ext cx="3070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3" name=""/>
              <p:cNvGrpSpPr/>
              <p:nvPr/>
            </p:nvGrpSpPr>
            <p:grpSpPr>
              <a:xfrm>
                <a:off x="4095360" y="3616920"/>
                <a:ext cx="258120" cy="674280"/>
                <a:chOff x="4095360" y="3616920"/>
                <a:chExt cx="258120" cy="674280"/>
              </a:xfrm>
            </p:grpSpPr>
            <p:sp>
              <p:nvSpPr>
                <p:cNvPr id="1864" name=""/>
                <p:cNvSpPr/>
                <p:nvPr/>
              </p:nvSpPr>
              <p:spPr>
                <a:xfrm>
                  <a:off x="413892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095360" y="3616920"/>
                  <a:ext cx="2581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6" name=""/>
              <p:cNvGrpSpPr/>
              <p:nvPr/>
            </p:nvGrpSpPr>
            <p:grpSpPr>
              <a:xfrm>
                <a:off x="4353840" y="3616920"/>
                <a:ext cx="258480" cy="674280"/>
                <a:chOff x="4353840" y="3616920"/>
                <a:chExt cx="258480" cy="67428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4397760" y="3616920"/>
                  <a:ext cx="1702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435384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9" name=""/>
              <p:cNvGrpSpPr/>
              <p:nvPr/>
            </p:nvGrpSpPr>
            <p:grpSpPr>
              <a:xfrm>
                <a:off x="4612320" y="3616920"/>
                <a:ext cx="258120" cy="674280"/>
                <a:chOff x="4612320" y="3616920"/>
                <a:chExt cx="258120" cy="674280"/>
              </a:xfrm>
            </p:grpSpPr>
            <p:sp>
              <p:nvSpPr>
                <p:cNvPr id="1870" name=""/>
                <p:cNvSpPr/>
                <p:nvPr/>
              </p:nvSpPr>
              <p:spPr>
                <a:xfrm>
                  <a:off x="465588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4612320" y="3616920"/>
                  <a:ext cx="2581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2" name=""/>
              <p:cNvGrpSpPr/>
              <p:nvPr/>
            </p:nvGrpSpPr>
            <p:grpSpPr>
              <a:xfrm>
                <a:off x="4870440" y="3616920"/>
                <a:ext cx="258480" cy="674280"/>
                <a:chOff x="4870440" y="3616920"/>
                <a:chExt cx="258480" cy="6742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491436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487044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5" name=""/>
              <p:cNvGrpSpPr/>
              <p:nvPr/>
            </p:nvGrpSpPr>
            <p:grpSpPr>
              <a:xfrm>
                <a:off x="5129280" y="3616920"/>
                <a:ext cx="516600" cy="674280"/>
                <a:chOff x="5129280" y="3616920"/>
                <a:chExt cx="516600" cy="67428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5172840" y="3616920"/>
                  <a:ext cx="4291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129280" y="3616920"/>
                  <a:ext cx="51660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8" name=""/>
              <p:cNvGrpSpPr/>
              <p:nvPr/>
            </p:nvGrpSpPr>
            <p:grpSpPr>
              <a:xfrm>
                <a:off x="5645880" y="3616920"/>
                <a:ext cx="258480" cy="674280"/>
                <a:chOff x="5645880" y="3616920"/>
                <a:chExt cx="258480" cy="67428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5689800" y="3616920"/>
                  <a:ext cx="1702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64588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1" name=""/>
              <p:cNvGrpSpPr/>
              <p:nvPr/>
            </p:nvGrpSpPr>
            <p:grpSpPr>
              <a:xfrm>
                <a:off x="5904720" y="3616920"/>
                <a:ext cx="258120" cy="674280"/>
                <a:chOff x="5904720" y="3616920"/>
                <a:chExt cx="258120" cy="6742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594828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5904720" y="3616920"/>
                  <a:ext cx="2581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6162840" y="3616920"/>
                <a:ext cx="258480" cy="674280"/>
                <a:chOff x="6162840" y="3616920"/>
                <a:chExt cx="258480" cy="67428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620676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616284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7" name=""/>
              <p:cNvGrpSpPr/>
              <p:nvPr/>
            </p:nvGrpSpPr>
            <p:grpSpPr>
              <a:xfrm>
                <a:off x="6421320" y="3616920"/>
                <a:ext cx="258480" cy="674280"/>
                <a:chOff x="6421320" y="3616920"/>
                <a:chExt cx="258480" cy="67428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646488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642132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0" name=""/>
              <p:cNvGrpSpPr/>
              <p:nvPr/>
            </p:nvGrpSpPr>
            <p:grpSpPr>
              <a:xfrm>
                <a:off x="6680160" y="3616920"/>
                <a:ext cx="258120" cy="674280"/>
                <a:chOff x="6680160" y="3616920"/>
                <a:chExt cx="258120" cy="67428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672372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680160" y="3616920"/>
                  <a:ext cx="2581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6938280" y="3616920"/>
                <a:ext cx="258480" cy="674280"/>
                <a:chOff x="6938280" y="3616920"/>
                <a:chExt cx="258480" cy="67428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6982200" y="3616920"/>
                  <a:ext cx="17028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93828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6" name=""/>
              <p:cNvGrpSpPr/>
              <p:nvPr/>
            </p:nvGrpSpPr>
            <p:grpSpPr>
              <a:xfrm>
                <a:off x="7196760" y="3616920"/>
                <a:ext cx="258120" cy="674280"/>
                <a:chOff x="7196760" y="3616920"/>
                <a:chExt cx="258120" cy="674280"/>
              </a:xfrm>
            </p:grpSpPr>
            <p:sp>
              <p:nvSpPr>
                <p:cNvPr id="1897" name=""/>
                <p:cNvSpPr/>
                <p:nvPr/>
              </p:nvSpPr>
              <p:spPr>
                <a:xfrm>
                  <a:off x="724032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7196760" y="3616920"/>
                  <a:ext cx="2581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9" name=""/>
              <p:cNvGrpSpPr/>
              <p:nvPr/>
            </p:nvGrpSpPr>
            <p:grpSpPr>
              <a:xfrm>
                <a:off x="7454880" y="3616920"/>
                <a:ext cx="258480" cy="674280"/>
                <a:chOff x="7454880" y="3616920"/>
                <a:chExt cx="258480" cy="674280"/>
              </a:xfrm>
            </p:grpSpPr>
            <p:sp>
              <p:nvSpPr>
                <p:cNvPr id="1900" name=""/>
                <p:cNvSpPr/>
                <p:nvPr/>
              </p:nvSpPr>
              <p:spPr>
                <a:xfrm>
                  <a:off x="7498800" y="3616920"/>
                  <a:ext cx="1706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7454880" y="3616920"/>
                  <a:ext cx="25848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2" name=""/>
              <p:cNvGrpSpPr/>
              <p:nvPr/>
            </p:nvGrpSpPr>
            <p:grpSpPr>
              <a:xfrm>
                <a:off x="7713720" y="3616920"/>
                <a:ext cx="322200" cy="674280"/>
                <a:chOff x="7713720" y="3616920"/>
                <a:chExt cx="322200" cy="674280"/>
              </a:xfrm>
            </p:grpSpPr>
            <p:sp>
              <p:nvSpPr>
                <p:cNvPr id="1903" name=""/>
                <p:cNvSpPr/>
                <p:nvPr/>
              </p:nvSpPr>
              <p:spPr>
                <a:xfrm>
                  <a:off x="7757280" y="3616920"/>
                  <a:ext cx="234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7713720" y="3616920"/>
                  <a:ext cx="32220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8036280" y="3616920"/>
                <a:ext cx="322560" cy="674280"/>
                <a:chOff x="8036280" y="3616920"/>
                <a:chExt cx="322560" cy="6742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8080200" y="3616920"/>
                  <a:ext cx="23436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8036280" y="3616920"/>
                  <a:ext cx="32256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8359200" y="3616920"/>
                <a:ext cx="322200" cy="674280"/>
                <a:chOff x="8359200" y="3616920"/>
                <a:chExt cx="322200" cy="67428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8402760" y="3616920"/>
                  <a:ext cx="234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8359200" y="3616920"/>
                  <a:ext cx="32220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1" name=""/>
              <p:cNvGrpSpPr/>
              <p:nvPr/>
            </p:nvGrpSpPr>
            <p:grpSpPr>
              <a:xfrm>
                <a:off x="461520" y="4291920"/>
                <a:ext cx="8220240" cy="610200"/>
                <a:chOff x="461520" y="4291920"/>
                <a:chExt cx="8220240" cy="61020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505080" y="4291920"/>
                  <a:ext cx="813276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 u="sng">
                      <a:solidFill>
                        <a:srgbClr val="000080"/>
                      </a:solidFill>
                      <a:uFillTx/>
                      <a:latin typeface="Verdana"/>
                      <a:ea typeface="Arial Unicode MS"/>
                    </a:rPr>
                    <a:t>LEGENDA:</a:t>
                  </a: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    ER eritematosa       IN integra      SE secca        MA macerata                   ED edematosa                       IP iperemia        DS desquam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61520" y="4291920"/>
                  <a:ext cx="822024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461520" y="4902480"/>
                <a:ext cx="1334160" cy="675720"/>
                <a:chOff x="461520" y="4902480"/>
                <a:chExt cx="1334160" cy="67572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461520" y="4902480"/>
                  <a:ext cx="133416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6" name=""/>
                <p:cNvGrpSpPr/>
                <p:nvPr/>
              </p:nvGrpSpPr>
              <p:grpSpPr>
                <a:xfrm>
                  <a:off x="461520" y="4902480"/>
                  <a:ext cx="1334160" cy="675360"/>
                  <a:chOff x="461520" y="4902480"/>
                  <a:chExt cx="1334160" cy="675360"/>
                </a:xfrm>
              </p:grpSpPr>
              <p:sp>
                <p:nvSpPr>
                  <p:cNvPr id="1917" name=""/>
                  <p:cNvSpPr/>
                  <p:nvPr/>
                </p:nvSpPr>
                <p:spPr>
                  <a:xfrm>
                    <a:off x="505080" y="4902480"/>
                    <a:ext cx="12466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Alimentazio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461520" y="4902480"/>
                    <a:ext cx="133416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9" name=""/>
              <p:cNvGrpSpPr/>
              <p:nvPr/>
            </p:nvGrpSpPr>
            <p:grpSpPr>
              <a:xfrm>
                <a:off x="1795680" y="4902480"/>
                <a:ext cx="258480" cy="675720"/>
                <a:chOff x="1795680" y="4902480"/>
                <a:chExt cx="258480" cy="67572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179568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1" name=""/>
                <p:cNvGrpSpPr/>
                <p:nvPr/>
              </p:nvGrpSpPr>
              <p:grpSpPr>
                <a:xfrm>
                  <a:off x="1795680" y="4902480"/>
                  <a:ext cx="258480" cy="675360"/>
                  <a:chOff x="1795680" y="4902480"/>
                  <a:chExt cx="258480" cy="675360"/>
                </a:xfrm>
              </p:grpSpPr>
              <p:sp>
                <p:nvSpPr>
                  <p:cNvPr id="1922" name=""/>
                  <p:cNvSpPr/>
                  <p:nvPr/>
                </p:nvSpPr>
                <p:spPr>
                  <a:xfrm>
                    <a:off x="1839600" y="4902480"/>
                    <a:ext cx="1702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7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79568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4" name=""/>
              <p:cNvGrpSpPr/>
              <p:nvPr/>
            </p:nvGrpSpPr>
            <p:grpSpPr>
              <a:xfrm>
                <a:off x="2054520" y="4902480"/>
                <a:ext cx="234720" cy="675720"/>
                <a:chOff x="2054520" y="4902480"/>
                <a:chExt cx="234720" cy="67572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2054520" y="4902480"/>
                  <a:ext cx="2347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6" name=""/>
                <p:cNvGrpSpPr/>
                <p:nvPr/>
              </p:nvGrpSpPr>
              <p:grpSpPr>
                <a:xfrm>
                  <a:off x="2054520" y="4902480"/>
                  <a:ext cx="234720" cy="675360"/>
                  <a:chOff x="2054520" y="4902480"/>
                  <a:chExt cx="234720" cy="675360"/>
                </a:xfrm>
              </p:grpSpPr>
              <p:sp>
                <p:nvSpPr>
                  <p:cNvPr id="1927" name=""/>
                  <p:cNvSpPr/>
                  <p:nvPr/>
                </p:nvSpPr>
                <p:spPr>
                  <a:xfrm>
                    <a:off x="2098080" y="4902480"/>
                    <a:ext cx="1472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2054520" y="4902480"/>
                    <a:ext cx="2347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9" name=""/>
              <p:cNvGrpSpPr/>
              <p:nvPr/>
            </p:nvGrpSpPr>
            <p:grpSpPr>
              <a:xfrm>
                <a:off x="2289240" y="4902480"/>
                <a:ext cx="258480" cy="675720"/>
                <a:chOff x="2289240" y="4902480"/>
                <a:chExt cx="258480" cy="675720"/>
              </a:xfrm>
            </p:grpSpPr>
            <p:sp>
              <p:nvSpPr>
                <p:cNvPr id="1930" name=""/>
                <p:cNvSpPr/>
                <p:nvPr/>
              </p:nvSpPr>
              <p:spPr>
                <a:xfrm>
                  <a:off x="228924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1" name=""/>
                <p:cNvGrpSpPr/>
                <p:nvPr/>
              </p:nvGrpSpPr>
              <p:grpSpPr>
                <a:xfrm>
                  <a:off x="2289240" y="4902480"/>
                  <a:ext cx="258480" cy="675360"/>
                  <a:chOff x="2289240" y="4902480"/>
                  <a:chExt cx="258480" cy="675360"/>
                </a:xfrm>
              </p:grpSpPr>
              <p:sp>
                <p:nvSpPr>
                  <p:cNvPr id="1932" name=""/>
                  <p:cNvSpPr/>
                  <p:nvPr/>
                </p:nvSpPr>
                <p:spPr>
                  <a:xfrm>
                    <a:off x="2333160" y="4902480"/>
                    <a:ext cx="1702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228924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4" name=""/>
              <p:cNvGrpSpPr/>
              <p:nvPr/>
            </p:nvGrpSpPr>
            <p:grpSpPr>
              <a:xfrm>
                <a:off x="2547720" y="4902480"/>
                <a:ext cx="258120" cy="675720"/>
                <a:chOff x="2547720" y="4902480"/>
                <a:chExt cx="258120" cy="67572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2547720" y="4902480"/>
                  <a:ext cx="2581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6" name=""/>
                <p:cNvGrpSpPr/>
                <p:nvPr/>
              </p:nvGrpSpPr>
              <p:grpSpPr>
                <a:xfrm>
                  <a:off x="2547720" y="4902480"/>
                  <a:ext cx="258120" cy="675360"/>
                  <a:chOff x="2547720" y="4902480"/>
                  <a:chExt cx="258120" cy="675360"/>
                </a:xfrm>
              </p:grpSpPr>
              <p:sp>
                <p:nvSpPr>
                  <p:cNvPr id="1937" name=""/>
                  <p:cNvSpPr/>
                  <p:nvPr/>
                </p:nvSpPr>
                <p:spPr>
                  <a:xfrm>
                    <a:off x="259128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2547720" y="4902480"/>
                    <a:ext cx="2581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9" name=""/>
              <p:cNvGrpSpPr/>
              <p:nvPr/>
            </p:nvGrpSpPr>
            <p:grpSpPr>
              <a:xfrm>
                <a:off x="2806200" y="4902480"/>
                <a:ext cx="258480" cy="675720"/>
                <a:chOff x="2806200" y="4902480"/>
                <a:chExt cx="258480" cy="6757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80620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1" name=""/>
                <p:cNvGrpSpPr/>
                <p:nvPr/>
              </p:nvGrpSpPr>
              <p:grpSpPr>
                <a:xfrm>
                  <a:off x="2806200" y="4902480"/>
                  <a:ext cx="258480" cy="675360"/>
                  <a:chOff x="2806200" y="4902480"/>
                  <a:chExt cx="258480" cy="675360"/>
                </a:xfrm>
              </p:grpSpPr>
              <p:sp>
                <p:nvSpPr>
                  <p:cNvPr id="1942" name=""/>
                  <p:cNvSpPr/>
                  <p:nvPr/>
                </p:nvSpPr>
                <p:spPr>
                  <a:xfrm>
                    <a:off x="2850120" y="4902480"/>
                    <a:ext cx="1702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280620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4" name=""/>
              <p:cNvGrpSpPr/>
              <p:nvPr/>
            </p:nvGrpSpPr>
            <p:grpSpPr>
              <a:xfrm>
                <a:off x="3064680" y="4902480"/>
                <a:ext cx="306720" cy="675720"/>
                <a:chOff x="3064680" y="4902480"/>
                <a:chExt cx="306720" cy="67572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3064680" y="4902480"/>
                  <a:ext cx="3067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6" name=""/>
                <p:cNvGrpSpPr/>
                <p:nvPr/>
              </p:nvGrpSpPr>
              <p:grpSpPr>
                <a:xfrm>
                  <a:off x="3064680" y="4902480"/>
                  <a:ext cx="306720" cy="675360"/>
                  <a:chOff x="3064680" y="4902480"/>
                  <a:chExt cx="306720" cy="675360"/>
                </a:xfrm>
              </p:grpSpPr>
              <p:sp>
                <p:nvSpPr>
                  <p:cNvPr id="1947" name=""/>
                  <p:cNvSpPr/>
                  <p:nvPr/>
                </p:nvSpPr>
                <p:spPr>
                  <a:xfrm>
                    <a:off x="3108240" y="4902480"/>
                    <a:ext cx="2192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3064680" y="4902480"/>
                    <a:ext cx="3067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9" name=""/>
              <p:cNvGrpSpPr/>
              <p:nvPr/>
            </p:nvGrpSpPr>
            <p:grpSpPr>
              <a:xfrm>
                <a:off x="3371400" y="4902480"/>
                <a:ext cx="416520" cy="675720"/>
                <a:chOff x="3371400" y="4902480"/>
                <a:chExt cx="416520" cy="67572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3371400" y="4902480"/>
                  <a:ext cx="4165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1" name=""/>
                <p:cNvGrpSpPr/>
                <p:nvPr/>
              </p:nvGrpSpPr>
              <p:grpSpPr>
                <a:xfrm>
                  <a:off x="3371400" y="4902480"/>
                  <a:ext cx="416520" cy="675360"/>
                  <a:chOff x="3371400" y="4902480"/>
                  <a:chExt cx="416520" cy="675360"/>
                </a:xfrm>
              </p:grpSpPr>
              <p:sp>
                <p:nvSpPr>
                  <p:cNvPr id="1952" name=""/>
                  <p:cNvSpPr/>
                  <p:nvPr/>
                </p:nvSpPr>
                <p:spPr>
                  <a:xfrm>
                    <a:off x="3415320" y="4902480"/>
                    <a:ext cx="3286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3371400" y="4902480"/>
                    <a:ext cx="4165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4" name=""/>
              <p:cNvGrpSpPr/>
              <p:nvPr/>
            </p:nvGrpSpPr>
            <p:grpSpPr>
              <a:xfrm>
                <a:off x="3788280" y="4902480"/>
                <a:ext cx="307080" cy="675720"/>
                <a:chOff x="3788280" y="4902480"/>
                <a:chExt cx="307080" cy="67572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788280" y="4902480"/>
                  <a:ext cx="3070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788280" y="4902480"/>
                  <a:ext cx="307080" cy="675360"/>
                  <a:chOff x="3788280" y="4902480"/>
                  <a:chExt cx="307080" cy="67536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832200" y="4902480"/>
                    <a:ext cx="2188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788280" y="4902480"/>
                    <a:ext cx="3070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4095360" y="4902480"/>
                <a:ext cx="258120" cy="675720"/>
                <a:chOff x="4095360" y="4902480"/>
                <a:chExt cx="258120" cy="67572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4095360" y="4902480"/>
                  <a:ext cx="2581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4095360" y="4902480"/>
                  <a:ext cx="258120" cy="675360"/>
                  <a:chOff x="4095360" y="4902480"/>
                  <a:chExt cx="258120" cy="67536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413892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4095360" y="4902480"/>
                    <a:ext cx="2581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4" name=""/>
              <p:cNvGrpSpPr/>
              <p:nvPr/>
            </p:nvGrpSpPr>
            <p:grpSpPr>
              <a:xfrm>
                <a:off x="4353840" y="4902480"/>
                <a:ext cx="258480" cy="675720"/>
                <a:chOff x="4353840" y="4902480"/>
                <a:chExt cx="258480" cy="675720"/>
              </a:xfrm>
            </p:grpSpPr>
            <p:sp>
              <p:nvSpPr>
                <p:cNvPr id="1965" name=""/>
                <p:cNvSpPr/>
                <p:nvPr/>
              </p:nvSpPr>
              <p:spPr>
                <a:xfrm>
                  <a:off x="435384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6" name=""/>
                <p:cNvGrpSpPr/>
                <p:nvPr/>
              </p:nvGrpSpPr>
              <p:grpSpPr>
                <a:xfrm>
                  <a:off x="4353840" y="4902480"/>
                  <a:ext cx="258480" cy="675360"/>
                  <a:chOff x="4353840" y="4902480"/>
                  <a:chExt cx="258480" cy="675360"/>
                </a:xfrm>
              </p:grpSpPr>
              <p:sp>
                <p:nvSpPr>
                  <p:cNvPr id="1967" name=""/>
                  <p:cNvSpPr/>
                  <p:nvPr/>
                </p:nvSpPr>
                <p:spPr>
                  <a:xfrm>
                    <a:off x="4397760" y="4902480"/>
                    <a:ext cx="1702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435384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9" name=""/>
              <p:cNvGrpSpPr/>
              <p:nvPr/>
            </p:nvGrpSpPr>
            <p:grpSpPr>
              <a:xfrm>
                <a:off x="4612320" y="4902480"/>
                <a:ext cx="258120" cy="675720"/>
                <a:chOff x="4612320" y="4902480"/>
                <a:chExt cx="258120" cy="675720"/>
              </a:xfrm>
            </p:grpSpPr>
            <p:sp>
              <p:nvSpPr>
                <p:cNvPr id="1970" name=""/>
                <p:cNvSpPr/>
                <p:nvPr/>
              </p:nvSpPr>
              <p:spPr>
                <a:xfrm>
                  <a:off x="4612320" y="4902480"/>
                  <a:ext cx="2581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1" name=""/>
                <p:cNvGrpSpPr/>
                <p:nvPr/>
              </p:nvGrpSpPr>
              <p:grpSpPr>
                <a:xfrm>
                  <a:off x="4612320" y="4902480"/>
                  <a:ext cx="258120" cy="675360"/>
                  <a:chOff x="4612320" y="4902480"/>
                  <a:chExt cx="258120" cy="67536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>
                    <a:off x="465588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4612320" y="4902480"/>
                    <a:ext cx="2581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4" name=""/>
              <p:cNvGrpSpPr/>
              <p:nvPr/>
            </p:nvGrpSpPr>
            <p:grpSpPr>
              <a:xfrm>
                <a:off x="4870440" y="4902480"/>
                <a:ext cx="258480" cy="675720"/>
                <a:chOff x="4870440" y="4902480"/>
                <a:chExt cx="258480" cy="6757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487044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6" name=""/>
                <p:cNvGrpSpPr/>
                <p:nvPr/>
              </p:nvGrpSpPr>
              <p:grpSpPr>
                <a:xfrm>
                  <a:off x="4870440" y="4902480"/>
                  <a:ext cx="258480" cy="675360"/>
                  <a:chOff x="4870440" y="4902480"/>
                  <a:chExt cx="258480" cy="675360"/>
                </a:xfrm>
              </p:grpSpPr>
              <p:sp>
                <p:nvSpPr>
                  <p:cNvPr id="1977" name=""/>
                  <p:cNvSpPr/>
                  <p:nvPr/>
                </p:nvSpPr>
                <p:spPr>
                  <a:xfrm>
                    <a:off x="491436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487044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9" name=""/>
              <p:cNvGrpSpPr/>
              <p:nvPr/>
            </p:nvGrpSpPr>
            <p:grpSpPr>
              <a:xfrm>
                <a:off x="5129280" y="4902480"/>
                <a:ext cx="516600" cy="675720"/>
                <a:chOff x="5129280" y="4902480"/>
                <a:chExt cx="516600" cy="67572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5129280" y="4902480"/>
                  <a:ext cx="51660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5129280" y="4902480"/>
                  <a:ext cx="516600" cy="675360"/>
                  <a:chOff x="5129280" y="4902480"/>
                  <a:chExt cx="516600" cy="67536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5172840" y="4902480"/>
                    <a:ext cx="42912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5129280" y="4902480"/>
                    <a:ext cx="51660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4" name=""/>
              <p:cNvGrpSpPr/>
              <p:nvPr/>
            </p:nvGrpSpPr>
            <p:grpSpPr>
              <a:xfrm>
                <a:off x="5645880" y="4902480"/>
                <a:ext cx="258480" cy="675720"/>
                <a:chOff x="5645880" y="4902480"/>
                <a:chExt cx="258480" cy="67572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564588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6" name=""/>
                <p:cNvGrpSpPr/>
                <p:nvPr/>
              </p:nvGrpSpPr>
              <p:grpSpPr>
                <a:xfrm>
                  <a:off x="5645880" y="4902480"/>
                  <a:ext cx="258480" cy="675360"/>
                  <a:chOff x="5645880" y="4902480"/>
                  <a:chExt cx="258480" cy="675360"/>
                </a:xfrm>
              </p:grpSpPr>
              <p:sp>
                <p:nvSpPr>
                  <p:cNvPr id="1987" name=""/>
                  <p:cNvSpPr/>
                  <p:nvPr/>
                </p:nvSpPr>
                <p:spPr>
                  <a:xfrm>
                    <a:off x="5689800" y="4902480"/>
                    <a:ext cx="1702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0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564588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9" name=""/>
              <p:cNvGrpSpPr/>
              <p:nvPr/>
            </p:nvGrpSpPr>
            <p:grpSpPr>
              <a:xfrm>
                <a:off x="5904720" y="4902480"/>
                <a:ext cx="258120" cy="675720"/>
                <a:chOff x="5904720" y="4902480"/>
                <a:chExt cx="258120" cy="67572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5904720" y="4902480"/>
                  <a:ext cx="2581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1" name=""/>
                <p:cNvGrpSpPr/>
                <p:nvPr/>
              </p:nvGrpSpPr>
              <p:grpSpPr>
                <a:xfrm>
                  <a:off x="5904720" y="4902480"/>
                  <a:ext cx="258120" cy="675360"/>
                  <a:chOff x="5904720" y="4902480"/>
                  <a:chExt cx="258120" cy="67536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594828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5904720" y="4902480"/>
                    <a:ext cx="2581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4" name=""/>
              <p:cNvGrpSpPr/>
              <p:nvPr/>
            </p:nvGrpSpPr>
            <p:grpSpPr>
              <a:xfrm>
                <a:off x="6162840" y="4902480"/>
                <a:ext cx="258480" cy="675720"/>
                <a:chOff x="6162840" y="4902480"/>
                <a:chExt cx="258480" cy="675720"/>
              </a:xfrm>
            </p:grpSpPr>
            <p:sp>
              <p:nvSpPr>
                <p:cNvPr id="1995" name=""/>
                <p:cNvSpPr/>
                <p:nvPr/>
              </p:nvSpPr>
              <p:spPr>
                <a:xfrm>
                  <a:off x="616284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6" name=""/>
                <p:cNvGrpSpPr/>
                <p:nvPr/>
              </p:nvGrpSpPr>
              <p:grpSpPr>
                <a:xfrm>
                  <a:off x="6162840" y="4902480"/>
                  <a:ext cx="258480" cy="675360"/>
                  <a:chOff x="6162840" y="4902480"/>
                  <a:chExt cx="258480" cy="675360"/>
                </a:xfrm>
              </p:grpSpPr>
              <p:sp>
                <p:nvSpPr>
                  <p:cNvPr id="1997" name=""/>
                  <p:cNvSpPr/>
                  <p:nvPr/>
                </p:nvSpPr>
                <p:spPr>
                  <a:xfrm>
                    <a:off x="620676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616284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9" name=""/>
              <p:cNvGrpSpPr/>
              <p:nvPr/>
            </p:nvGrpSpPr>
            <p:grpSpPr>
              <a:xfrm>
                <a:off x="6421320" y="4902480"/>
                <a:ext cx="258480" cy="675720"/>
                <a:chOff x="6421320" y="4902480"/>
                <a:chExt cx="258480" cy="6757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42132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1" name=""/>
                <p:cNvGrpSpPr/>
                <p:nvPr/>
              </p:nvGrpSpPr>
              <p:grpSpPr>
                <a:xfrm>
                  <a:off x="6421320" y="4902480"/>
                  <a:ext cx="258480" cy="675360"/>
                  <a:chOff x="6421320" y="4902480"/>
                  <a:chExt cx="258480" cy="67536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646488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642132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"/>
              <p:cNvGrpSpPr/>
              <p:nvPr/>
            </p:nvGrpSpPr>
            <p:grpSpPr>
              <a:xfrm>
                <a:off x="6680160" y="4902480"/>
                <a:ext cx="258120" cy="675720"/>
                <a:chOff x="6680160" y="4902480"/>
                <a:chExt cx="258120" cy="675720"/>
              </a:xfrm>
            </p:grpSpPr>
            <p:sp>
              <p:nvSpPr>
                <p:cNvPr id="2005" name=""/>
                <p:cNvSpPr/>
                <p:nvPr/>
              </p:nvSpPr>
              <p:spPr>
                <a:xfrm>
                  <a:off x="6680160" y="4902480"/>
                  <a:ext cx="2581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6" name=""/>
                <p:cNvGrpSpPr/>
                <p:nvPr/>
              </p:nvGrpSpPr>
              <p:grpSpPr>
                <a:xfrm>
                  <a:off x="6680160" y="4902480"/>
                  <a:ext cx="258120" cy="675360"/>
                  <a:chOff x="6680160" y="4902480"/>
                  <a:chExt cx="258120" cy="67536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>
                    <a:off x="672372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6680160" y="4902480"/>
                    <a:ext cx="2581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9" name=""/>
              <p:cNvGrpSpPr/>
              <p:nvPr/>
            </p:nvGrpSpPr>
            <p:grpSpPr>
              <a:xfrm>
                <a:off x="6938280" y="4902480"/>
                <a:ext cx="258480" cy="675720"/>
                <a:chOff x="6938280" y="4902480"/>
                <a:chExt cx="258480" cy="67572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693828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1" name=""/>
                <p:cNvGrpSpPr/>
                <p:nvPr/>
              </p:nvGrpSpPr>
              <p:grpSpPr>
                <a:xfrm>
                  <a:off x="6938280" y="4902480"/>
                  <a:ext cx="258480" cy="675360"/>
                  <a:chOff x="6938280" y="4902480"/>
                  <a:chExt cx="258480" cy="67536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6982200" y="4902480"/>
                    <a:ext cx="17028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693828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4" name=""/>
              <p:cNvGrpSpPr/>
              <p:nvPr/>
            </p:nvGrpSpPr>
            <p:grpSpPr>
              <a:xfrm>
                <a:off x="7196760" y="4902480"/>
                <a:ext cx="258120" cy="675720"/>
                <a:chOff x="7196760" y="4902480"/>
                <a:chExt cx="258120" cy="67572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7196760" y="4902480"/>
                  <a:ext cx="25812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6" name=""/>
                <p:cNvGrpSpPr/>
                <p:nvPr/>
              </p:nvGrpSpPr>
              <p:grpSpPr>
                <a:xfrm>
                  <a:off x="7196760" y="4902480"/>
                  <a:ext cx="258120" cy="675360"/>
                  <a:chOff x="7196760" y="4902480"/>
                  <a:chExt cx="258120" cy="675360"/>
                </a:xfrm>
              </p:grpSpPr>
              <p:sp>
                <p:nvSpPr>
                  <p:cNvPr id="2017" name=""/>
                  <p:cNvSpPr/>
                  <p:nvPr/>
                </p:nvSpPr>
                <p:spPr>
                  <a:xfrm>
                    <a:off x="724032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7196760" y="4902480"/>
                    <a:ext cx="25812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9" name=""/>
              <p:cNvGrpSpPr/>
              <p:nvPr/>
            </p:nvGrpSpPr>
            <p:grpSpPr>
              <a:xfrm>
                <a:off x="7454880" y="4902480"/>
                <a:ext cx="258480" cy="675720"/>
                <a:chOff x="7454880" y="4902480"/>
                <a:chExt cx="258480" cy="67572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7454880" y="4902480"/>
                  <a:ext cx="25848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1" name=""/>
                <p:cNvGrpSpPr/>
                <p:nvPr/>
              </p:nvGrpSpPr>
              <p:grpSpPr>
                <a:xfrm>
                  <a:off x="7454880" y="4902480"/>
                  <a:ext cx="258480" cy="675360"/>
                  <a:chOff x="7454880" y="4902480"/>
                  <a:chExt cx="258480" cy="675360"/>
                </a:xfrm>
              </p:grpSpPr>
              <p:sp>
                <p:nvSpPr>
                  <p:cNvPr id="2022" name=""/>
                  <p:cNvSpPr/>
                  <p:nvPr/>
                </p:nvSpPr>
                <p:spPr>
                  <a:xfrm>
                    <a:off x="7498800" y="4902480"/>
                    <a:ext cx="17064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7454880" y="4902480"/>
                    <a:ext cx="25848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4" name=""/>
              <p:cNvGrpSpPr/>
              <p:nvPr/>
            </p:nvGrpSpPr>
            <p:grpSpPr>
              <a:xfrm>
                <a:off x="7713720" y="4902480"/>
                <a:ext cx="322200" cy="675720"/>
                <a:chOff x="7713720" y="4902480"/>
                <a:chExt cx="322200" cy="67572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7713720" y="4902480"/>
                  <a:ext cx="32220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7713720" y="4902480"/>
                  <a:ext cx="322200" cy="675360"/>
                  <a:chOff x="7713720" y="4902480"/>
                  <a:chExt cx="322200" cy="67536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7757280" y="4902480"/>
                    <a:ext cx="23472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7713720" y="4902480"/>
                    <a:ext cx="32220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9" name=""/>
              <p:cNvGrpSpPr/>
              <p:nvPr/>
            </p:nvGrpSpPr>
            <p:grpSpPr>
              <a:xfrm>
                <a:off x="8036280" y="4902480"/>
                <a:ext cx="322560" cy="675720"/>
                <a:chOff x="8036280" y="4902480"/>
                <a:chExt cx="322560" cy="675720"/>
              </a:xfrm>
            </p:grpSpPr>
            <p:sp>
              <p:nvSpPr>
                <p:cNvPr id="2030" name=""/>
                <p:cNvSpPr/>
                <p:nvPr/>
              </p:nvSpPr>
              <p:spPr>
                <a:xfrm>
                  <a:off x="8036280" y="4902480"/>
                  <a:ext cx="32256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1" name=""/>
                <p:cNvGrpSpPr/>
                <p:nvPr/>
              </p:nvGrpSpPr>
              <p:grpSpPr>
                <a:xfrm>
                  <a:off x="8036280" y="4902480"/>
                  <a:ext cx="322560" cy="675360"/>
                  <a:chOff x="8036280" y="4902480"/>
                  <a:chExt cx="322560" cy="675360"/>
                </a:xfrm>
              </p:grpSpPr>
              <p:sp>
                <p:nvSpPr>
                  <p:cNvPr id="2032" name=""/>
                  <p:cNvSpPr/>
                  <p:nvPr/>
                </p:nvSpPr>
                <p:spPr>
                  <a:xfrm>
                    <a:off x="8080200" y="4902480"/>
                    <a:ext cx="23436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8036280" y="4902480"/>
                    <a:ext cx="32256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4" name=""/>
              <p:cNvGrpSpPr/>
              <p:nvPr/>
            </p:nvGrpSpPr>
            <p:grpSpPr>
              <a:xfrm>
                <a:off x="8359200" y="4902480"/>
                <a:ext cx="322200" cy="675720"/>
                <a:chOff x="8359200" y="4902480"/>
                <a:chExt cx="322200" cy="67572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8359200" y="4902480"/>
                  <a:ext cx="322200" cy="6757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6" name=""/>
                <p:cNvGrpSpPr/>
                <p:nvPr/>
              </p:nvGrpSpPr>
              <p:grpSpPr>
                <a:xfrm>
                  <a:off x="8359200" y="4902480"/>
                  <a:ext cx="322200" cy="675360"/>
                  <a:chOff x="8359200" y="4902480"/>
                  <a:chExt cx="322200" cy="675360"/>
                </a:xfrm>
              </p:grpSpPr>
              <p:sp>
                <p:nvSpPr>
                  <p:cNvPr id="2037" name=""/>
                  <p:cNvSpPr/>
                  <p:nvPr/>
                </p:nvSpPr>
                <p:spPr>
                  <a:xfrm>
                    <a:off x="8402760" y="4902480"/>
                    <a:ext cx="234720" cy="675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8359200" y="4902480"/>
                    <a:ext cx="322200" cy="67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9" name=""/>
              <p:cNvGrpSpPr/>
              <p:nvPr/>
            </p:nvGrpSpPr>
            <p:grpSpPr>
              <a:xfrm>
                <a:off x="461520" y="5578920"/>
                <a:ext cx="1334160" cy="739440"/>
                <a:chOff x="461520" y="5578920"/>
                <a:chExt cx="1334160" cy="73944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505080" y="5578920"/>
                  <a:ext cx="12466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Arial Unicode MS"/>
                      <a:ea typeface="Arial Unicode MS"/>
                    </a:rPr>
                    <a:t>Assume almeno metà pas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61520" y="5578920"/>
                  <a:ext cx="1334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2" name=""/>
              <p:cNvGrpSpPr/>
              <p:nvPr/>
            </p:nvGrpSpPr>
            <p:grpSpPr>
              <a:xfrm>
                <a:off x="1795680" y="5578920"/>
                <a:ext cx="375480" cy="739440"/>
                <a:chOff x="1795680" y="5578920"/>
                <a:chExt cx="375480" cy="739440"/>
              </a:xfrm>
            </p:grpSpPr>
            <p:sp>
              <p:nvSpPr>
                <p:cNvPr id="2043" name=""/>
                <p:cNvSpPr/>
                <p:nvPr/>
              </p:nvSpPr>
              <p:spPr>
                <a:xfrm>
                  <a:off x="1839600" y="5578920"/>
                  <a:ext cx="2876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795680" y="5578920"/>
                  <a:ext cx="37548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5" name=""/>
              <p:cNvGrpSpPr/>
              <p:nvPr/>
            </p:nvGrpSpPr>
            <p:grpSpPr>
              <a:xfrm>
                <a:off x="2171520" y="5578920"/>
                <a:ext cx="375840" cy="739440"/>
                <a:chOff x="2171520" y="5578920"/>
                <a:chExt cx="375840" cy="73944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2215440" y="5578920"/>
                  <a:ext cx="2876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171520" y="5578920"/>
                  <a:ext cx="37584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8" name=""/>
              <p:cNvGrpSpPr/>
              <p:nvPr/>
            </p:nvGrpSpPr>
            <p:grpSpPr>
              <a:xfrm>
                <a:off x="2547720" y="5578920"/>
                <a:ext cx="258120" cy="739440"/>
                <a:chOff x="2547720" y="5578920"/>
                <a:chExt cx="258120" cy="739440"/>
              </a:xfrm>
            </p:grpSpPr>
            <p:sp>
              <p:nvSpPr>
                <p:cNvPr id="2049" name=""/>
                <p:cNvSpPr/>
                <p:nvPr/>
              </p:nvSpPr>
              <p:spPr>
                <a:xfrm>
                  <a:off x="2547720" y="5578920"/>
                  <a:ext cx="25812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0" name=""/>
                <p:cNvGrpSpPr/>
                <p:nvPr/>
              </p:nvGrpSpPr>
              <p:grpSpPr>
                <a:xfrm>
                  <a:off x="2547720" y="5578920"/>
                  <a:ext cx="258120" cy="739080"/>
                  <a:chOff x="2547720" y="5578920"/>
                  <a:chExt cx="258120" cy="73908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259128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2547720" y="5578920"/>
                    <a:ext cx="25812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"/>
              <p:cNvGrpSpPr/>
              <p:nvPr/>
            </p:nvGrpSpPr>
            <p:grpSpPr>
              <a:xfrm>
                <a:off x="2806200" y="5578920"/>
                <a:ext cx="258480" cy="739440"/>
                <a:chOff x="2806200" y="5578920"/>
                <a:chExt cx="258480" cy="739440"/>
              </a:xfrm>
            </p:grpSpPr>
            <p:sp>
              <p:nvSpPr>
                <p:cNvPr id="2054" name=""/>
                <p:cNvSpPr/>
                <p:nvPr/>
              </p:nvSpPr>
              <p:spPr>
                <a:xfrm>
                  <a:off x="2806200" y="5578920"/>
                  <a:ext cx="25848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5" name=""/>
                <p:cNvGrpSpPr/>
                <p:nvPr/>
              </p:nvGrpSpPr>
              <p:grpSpPr>
                <a:xfrm>
                  <a:off x="2806200" y="5578920"/>
                  <a:ext cx="258480" cy="739080"/>
                  <a:chOff x="2806200" y="5578920"/>
                  <a:chExt cx="258480" cy="73908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>
                    <a:off x="2850120" y="5578920"/>
                    <a:ext cx="17028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2806200" y="5578920"/>
                    <a:ext cx="25848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8" name=""/>
              <p:cNvGrpSpPr/>
              <p:nvPr/>
            </p:nvGrpSpPr>
            <p:grpSpPr>
              <a:xfrm>
                <a:off x="3064680" y="5578920"/>
                <a:ext cx="515160" cy="739440"/>
                <a:chOff x="3064680" y="5578920"/>
                <a:chExt cx="515160" cy="73944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3108240" y="5578920"/>
                  <a:ext cx="42732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064680" y="5578920"/>
                  <a:ext cx="515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3580200" y="5578920"/>
                <a:ext cx="515160" cy="739440"/>
                <a:chOff x="3580200" y="5578920"/>
                <a:chExt cx="515160" cy="73944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3623760" y="5578920"/>
                  <a:ext cx="42732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580200" y="5578920"/>
                  <a:ext cx="515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4" name=""/>
              <p:cNvGrpSpPr/>
              <p:nvPr/>
            </p:nvGrpSpPr>
            <p:grpSpPr>
              <a:xfrm>
                <a:off x="4095360" y="5578920"/>
                <a:ext cx="258120" cy="739440"/>
                <a:chOff x="4095360" y="5578920"/>
                <a:chExt cx="258120" cy="739440"/>
              </a:xfrm>
            </p:grpSpPr>
            <p:sp>
              <p:nvSpPr>
                <p:cNvPr id="2065" name=""/>
                <p:cNvSpPr/>
                <p:nvPr/>
              </p:nvSpPr>
              <p:spPr>
                <a:xfrm>
                  <a:off x="4095360" y="5578920"/>
                  <a:ext cx="25812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6" name=""/>
                <p:cNvGrpSpPr/>
                <p:nvPr/>
              </p:nvGrpSpPr>
              <p:grpSpPr>
                <a:xfrm>
                  <a:off x="4095360" y="5578920"/>
                  <a:ext cx="258120" cy="739080"/>
                  <a:chOff x="4095360" y="5578920"/>
                  <a:chExt cx="258120" cy="739080"/>
                </a:xfrm>
              </p:grpSpPr>
              <p:sp>
                <p:nvSpPr>
                  <p:cNvPr id="2067" name=""/>
                  <p:cNvSpPr/>
                  <p:nvPr/>
                </p:nvSpPr>
                <p:spPr>
                  <a:xfrm>
                    <a:off x="413892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4095360" y="5578920"/>
                    <a:ext cx="25812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9" name=""/>
              <p:cNvGrpSpPr/>
              <p:nvPr/>
            </p:nvGrpSpPr>
            <p:grpSpPr>
              <a:xfrm>
                <a:off x="4353840" y="5578920"/>
                <a:ext cx="258480" cy="739440"/>
                <a:chOff x="4353840" y="5578920"/>
                <a:chExt cx="258480" cy="739440"/>
              </a:xfrm>
            </p:grpSpPr>
            <p:sp>
              <p:nvSpPr>
                <p:cNvPr id="2070" name=""/>
                <p:cNvSpPr/>
                <p:nvPr/>
              </p:nvSpPr>
              <p:spPr>
                <a:xfrm>
                  <a:off x="4353840" y="5578920"/>
                  <a:ext cx="25848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1" name=""/>
                <p:cNvGrpSpPr/>
                <p:nvPr/>
              </p:nvGrpSpPr>
              <p:grpSpPr>
                <a:xfrm>
                  <a:off x="4353840" y="5578920"/>
                  <a:ext cx="258480" cy="739080"/>
                  <a:chOff x="4353840" y="5578920"/>
                  <a:chExt cx="258480" cy="739080"/>
                </a:xfrm>
              </p:grpSpPr>
              <p:sp>
                <p:nvSpPr>
                  <p:cNvPr id="2072" name=""/>
                  <p:cNvSpPr/>
                  <p:nvPr/>
                </p:nvSpPr>
                <p:spPr>
                  <a:xfrm>
                    <a:off x="4397760" y="5578920"/>
                    <a:ext cx="17028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4353840" y="5578920"/>
                    <a:ext cx="25848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"/>
              <p:cNvGrpSpPr/>
              <p:nvPr/>
            </p:nvGrpSpPr>
            <p:grpSpPr>
              <a:xfrm>
                <a:off x="4612320" y="5578920"/>
                <a:ext cx="258120" cy="739440"/>
                <a:chOff x="4612320" y="5578920"/>
                <a:chExt cx="258120" cy="73944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4612320" y="5578920"/>
                  <a:ext cx="25812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6" name=""/>
                <p:cNvGrpSpPr/>
                <p:nvPr/>
              </p:nvGrpSpPr>
              <p:grpSpPr>
                <a:xfrm>
                  <a:off x="4612320" y="5578920"/>
                  <a:ext cx="258120" cy="739080"/>
                  <a:chOff x="4612320" y="5578920"/>
                  <a:chExt cx="258120" cy="739080"/>
                </a:xfrm>
              </p:grpSpPr>
              <p:sp>
                <p:nvSpPr>
                  <p:cNvPr id="2077" name=""/>
                  <p:cNvSpPr/>
                  <p:nvPr/>
                </p:nvSpPr>
                <p:spPr>
                  <a:xfrm>
                    <a:off x="465588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4612320" y="5578920"/>
                    <a:ext cx="25812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9" name=""/>
              <p:cNvGrpSpPr/>
              <p:nvPr/>
            </p:nvGrpSpPr>
            <p:grpSpPr>
              <a:xfrm>
                <a:off x="4870440" y="5578920"/>
                <a:ext cx="516960" cy="739440"/>
                <a:chOff x="4870440" y="5578920"/>
                <a:chExt cx="516960" cy="739440"/>
              </a:xfrm>
            </p:grpSpPr>
            <p:sp>
              <p:nvSpPr>
                <p:cNvPr id="2080" name=""/>
                <p:cNvSpPr/>
                <p:nvPr/>
              </p:nvSpPr>
              <p:spPr>
                <a:xfrm>
                  <a:off x="4914360" y="5578920"/>
                  <a:ext cx="4287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870440" y="5578920"/>
                  <a:ext cx="5169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5387760" y="5578920"/>
                <a:ext cx="516600" cy="739440"/>
                <a:chOff x="5387760" y="5578920"/>
                <a:chExt cx="516600" cy="73944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5431320" y="5578920"/>
                  <a:ext cx="4287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5387760" y="5578920"/>
                  <a:ext cx="5166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5904720" y="5578920"/>
                <a:ext cx="258120" cy="739440"/>
                <a:chOff x="5904720" y="5578920"/>
                <a:chExt cx="258120" cy="73944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5904720" y="5578920"/>
                  <a:ext cx="25812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7" name=""/>
                <p:cNvGrpSpPr/>
                <p:nvPr/>
              </p:nvGrpSpPr>
              <p:grpSpPr>
                <a:xfrm>
                  <a:off x="5904720" y="5578920"/>
                  <a:ext cx="258120" cy="739080"/>
                  <a:chOff x="5904720" y="5578920"/>
                  <a:chExt cx="258120" cy="739080"/>
                </a:xfrm>
              </p:grpSpPr>
              <p:sp>
                <p:nvSpPr>
                  <p:cNvPr id="2088" name=""/>
                  <p:cNvSpPr/>
                  <p:nvPr/>
                </p:nvSpPr>
                <p:spPr>
                  <a:xfrm>
                    <a:off x="594828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5904720" y="5578920"/>
                    <a:ext cx="25812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0" name=""/>
              <p:cNvGrpSpPr/>
              <p:nvPr/>
            </p:nvGrpSpPr>
            <p:grpSpPr>
              <a:xfrm>
                <a:off x="6162840" y="5578920"/>
                <a:ext cx="258480" cy="739440"/>
                <a:chOff x="6162840" y="5578920"/>
                <a:chExt cx="258480" cy="739440"/>
              </a:xfrm>
            </p:grpSpPr>
            <p:sp>
              <p:nvSpPr>
                <p:cNvPr id="2091" name=""/>
                <p:cNvSpPr/>
                <p:nvPr/>
              </p:nvSpPr>
              <p:spPr>
                <a:xfrm>
                  <a:off x="6162840" y="5578920"/>
                  <a:ext cx="25848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2" name=""/>
                <p:cNvGrpSpPr/>
                <p:nvPr/>
              </p:nvGrpSpPr>
              <p:grpSpPr>
                <a:xfrm>
                  <a:off x="6162840" y="5578920"/>
                  <a:ext cx="258480" cy="739080"/>
                  <a:chOff x="6162840" y="5578920"/>
                  <a:chExt cx="258480" cy="739080"/>
                </a:xfrm>
              </p:grpSpPr>
              <p:sp>
                <p:nvSpPr>
                  <p:cNvPr id="2093" name=""/>
                  <p:cNvSpPr/>
                  <p:nvPr/>
                </p:nvSpPr>
                <p:spPr>
                  <a:xfrm>
                    <a:off x="620676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6162840" y="5578920"/>
                    <a:ext cx="25848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5" name=""/>
              <p:cNvGrpSpPr/>
              <p:nvPr/>
            </p:nvGrpSpPr>
            <p:grpSpPr>
              <a:xfrm>
                <a:off x="6421320" y="5578920"/>
                <a:ext cx="258480" cy="739440"/>
                <a:chOff x="6421320" y="5578920"/>
                <a:chExt cx="258480" cy="73944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6421320" y="5578920"/>
                  <a:ext cx="25848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7" name=""/>
                <p:cNvGrpSpPr/>
                <p:nvPr/>
              </p:nvGrpSpPr>
              <p:grpSpPr>
                <a:xfrm>
                  <a:off x="6421320" y="5578920"/>
                  <a:ext cx="258480" cy="739080"/>
                  <a:chOff x="6421320" y="5578920"/>
                  <a:chExt cx="258480" cy="739080"/>
                </a:xfrm>
              </p:grpSpPr>
              <p:sp>
                <p:nvSpPr>
                  <p:cNvPr id="2098" name=""/>
                  <p:cNvSpPr/>
                  <p:nvPr/>
                </p:nvSpPr>
                <p:spPr>
                  <a:xfrm>
                    <a:off x="646488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6421320" y="5578920"/>
                    <a:ext cx="25848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0" name=""/>
              <p:cNvGrpSpPr/>
              <p:nvPr/>
            </p:nvGrpSpPr>
            <p:grpSpPr>
              <a:xfrm>
                <a:off x="6680160" y="5578920"/>
                <a:ext cx="258120" cy="739440"/>
                <a:chOff x="6680160" y="5578920"/>
                <a:chExt cx="258120" cy="739440"/>
              </a:xfrm>
            </p:grpSpPr>
            <p:sp>
              <p:nvSpPr>
                <p:cNvPr id="2101" name=""/>
                <p:cNvSpPr/>
                <p:nvPr/>
              </p:nvSpPr>
              <p:spPr>
                <a:xfrm>
                  <a:off x="6680160" y="5578920"/>
                  <a:ext cx="25812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2" name=""/>
                <p:cNvGrpSpPr/>
                <p:nvPr/>
              </p:nvGrpSpPr>
              <p:grpSpPr>
                <a:xfrm>
                  <a:off x="6680160" y="5578920"/>
                  <a:ext cx="258120" cy="739080"/>
                  <a:chOff x="6680160" y="5578920"/>
                  <a:chExt cx="258120" cy="73908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672372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6680160" y="5578920"/>
                    <a:ext cx="25812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5" name=""/>
              <p:cNvGrpSpPr/>
              <p:nvPr/>
            </p:nvGrpSpPr>
            <p:grpSpPr>
              <a:xfrm>
                <a:off x="6938280" y="5578920"/>
                <a:ext cx="258480" cy="739440"/>
                <a:chOff x="6938280" y="5578920"/>
                <a:chExt cx="258480" cy="73944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6938280" y="5578920"/>
                  <a:ext cx="25848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7" name=""/>
                <p:cNvGrpSpPr/>
                <p:nvPr/>
              </p:nvGrpSpPr>
              <p:grpSpPr>
                <a:xfrm>
                  <a:off x="6938280" y="5578920"/>
                  <a:ext cx="258480" cy="739080"/>
                  <a:chOff x="6938280" y="5578920"/>
                  <a:chExt cx="258480" cy="73908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>
                    <a:off x="6982200" y="5578920"/>
                    <a:ext cx="17028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6938280" y="5578920"/>
                    <a:ext cx="25848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0" name=""/>
              <p:cNvGrpSpPr/>
              <p:nvPr/>
            </p:nvGrpSpPr>
            <p:grpSpPr>
              <a:xfrm>
                <a:off x="7196760" y="5578920"/>
                <a:ext cx="258120" cy="739440"/>
                <a:chOff x="7196760" y="5578920"/>
                <a:chExt cx="258120" cy="73944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7196760" y="5578920"/>
                  <a:ext cx="25812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2" name=""/>
                <p:cNvGrpSpPr/>
                <p:nvPr/>
              </p:nvGrpSpPr>
              <p:grpSpPr>
                <a:xfrm>
                  <a:off x="7196760" y="5578920"/>
                  <a:ext cx="258120" cy="739080"/>
                  <a:chOff x="7196760" y="5578920"/>
                  <a:chExt cx="258120" cy="73908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724032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7196760" y="5578920"/>
                    <a:ext cx="25812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5" name=""/>
              <p:cNvGrpSpPr/>
              <p:nvPr/>
            </p:nvGrpSpPr>
            <p:grpSpPr>
              <a:xfrm>
                <a:off x="7454880" y="5578920"/>
                <a:ext cx="258480" cy="739440"/>
                <a:chOff x="7454880" y="5578920"/>
                <a:chExt cx="258480" cy="73944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7454880" y="5578920"/>
                  <a:ext cx="25848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7" name=""/>
                <p:cNvGrpSpPr/>
                <p:nvPr/>
              </p:nvGrpSpPr>
              <p:grpSpPr>
                <a:xfrm>
                  <a:off x="7454880" y="5578920"/>
                  <a:ext cx="258480" cy="739080"/>
                  <a:chOff x="7454880" y="5578920"/>
                  <a:chExt cx="258480" cy="73908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7498800" y="5578920"/>
                    <a:ext cx="17064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7454880" y="5578920"/>
                    <a:ext cx="25848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0" name=""/>
              <p:cNvGrpSpPr/>
              <p:nvPr/>
            </p:nvGrpSpPr>
            <p:grpSpPr>
              <a:xfrm>
                <a:off x="7713720" y="5578920"/>
                <a:ext cx="322200" cy="739440"/>
                <a:chOff x="7713720" y="5578920"/>
                <a:chExt cx="322200" cy="739440"/>
              </a:xfrm>
            </p:grpSpPr>
            <p:sp>
              <p:nvSpPr>
                <p:cNvPr id="2121" name=""/>
                <p:cNvSpPr/>
                <p:nvPr/>
              </p:nvSpPr>
              <p:spPr>
                <a:xfrm>
                  <a:off x="7713720" y="5578920"/>
                  <a:ext cx="32220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2" name=""/>
                <p:cNvGrpSpPr/>
                <p:nvPr/>
              </p:nvGrpSpPr>
              <p:grpSpPr>
                <a:xfrm>
                  <a:off x="7713720" y="5578920"/>
                  <a:ext cx="322200" cy="739080"/>
                  <a:chOff x="7713720" y="5578920"/>
                  <a:chExt cx="322200" cy="739080"/>
                </a:xfrm>
              </p:grpSpPr>
              <p:sp>
                <p:nvSpPr>
                  <p:cNvPr id="2123" name=""/>
                  <p:cNvSpPr/>
                  <p:nvPr/>
                </p:nvSpPr>
                <p:spPr>
                  <a:xfrm>
                    <a:off x="7757280" y="5578920"/>
                    <a:ext cx="23472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7713720" y="5578920"/>
                    <a:ext cx="32220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5" name=""/>
              <p:cNvGrpSpPr/>
              <p:nvPr/>
            </p:nvGrpSpPr>
            <p:grpSpPr>
              <a:xfrm>
                <a:off x="8036280" y="5578920"/>
                <a:ext cx="322560" cy="739440"/>
                <a:chOff x="8036280" y="5578920"/>
                <a:chExt cx="322560" cy="73944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8036280" y="5578920"/>
                  <a:ext cx="32256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7" name=""/>
                <p:cNvGrpSpPr/>
                <p:nvPr/>
              </p:nvGrpSpPr>
              <p:grpSpPr>
                <a:xfrm>
                  <a:off x="8036280" y="5578920"/>
                  <a:ext cx="322560" cy="739080"/>
                  <a:chOff x="8036280" y="5578920"/>
                  <a:chExt cx="322560" cy="73908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>
                    <a:off x="8080200" y="5578920"/>
                    <a:ext cx="23436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8036280" y="5578920"/>
                    <a:ext cx="32256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0" name=""/>
              <p:cNvGrpSpPr/>
              <p:nvPr/>
            </p:nvGrpSpPr>
            <p:grpSpPr>
              <a:xfrm>
                <a:off x="8359200" y="5578920"/>
                <a:ext cx="322200" cy="739440"/>
                <a:chOff x="8359200" y="5578920"/>
                <a:chExt cx="322200" cy="73944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8359200" y="5578920"/>
                  <a:ext cx="322200" cy="7394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2" name=""/>
                <p:cNvGrpSpPr/>
                <p:nvPr/>
              </p:nvGrpSpPr>
              <p:grpSpPr>
                <a:xfrm>
                  <a:off x="8359200" y="5578920"/>
                  <a:ext cx="322200" cy="739080"/>
                  <a:chOff x="8359200" y="5578920"/>
                  <a:chExt cx="322200" cy="739080"/>
                </a:xfrm>
              </p:grpSpPr>
              <p:sp>
                <p:nvSpPr>
                  <p:cNvPr id="2133" name=""/>
                  <p:cNvSpPr/>
                  <p:nvPr/>
                </p:nvSpPr>
                <p:spPr>
                  <a:xfrm>
                    <a:off x="8402760" y="5578920"/>
                    <a:ext cx="234720" cy="7390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8359200" y="5578920"/>
                    <a:ext cx="322200" cy="739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135" name=""/>
            <p:cNvSpPr/>
            <p:nvPr/>
          </p:nvSpPr>
          <p:spPr>
            <a:xfrm>
              <a:off x="457200" y="914400"/>
              <a:ext cx="8229600" cy="5409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380880" y="228600"/>
            <a:ext cx="8305560" cy="711000"/>
            <a:chOff x="380880" y="228600"/>
            <a:chExt cx="8305560" cy="711000"/>
          </a:xfrm>
        </p:grpSpPr>
        <p:grpSp>
          <p:nvGrpSpPr>
            <p:cNvPr id="2137" name=""/>
            <p:cNvGrpSpPr/>
            <p:nvPr/>
          </p:nvGrpSpPr>
          <p:grpSpPr>
            <a:xfrm>
              <a:off x="386280" y="233280"/>
              <a:ext cx="8293680" cy="701640"/>
              <a:chOff x="386280" y="233280"/>
              <a:chExt cx="8293680" cy="701640"/>
            </a:xfrm>
          </p:grpSpPr>
          <p:grpSp>
            <p:nvGrpSpPr>
              <p:cNvPr id="2138" name=""/>
              <p:cNvGrpSpPr/>
              <p:nvPr/>
            </p:nvGrpSpPr>
            <p:grpSpPr>
              <a:xfrm>
                <a:off x="386280" y="233280"/>
                <a:ext cx="1415520" cy="701640"/>
                <a:chOff x="386280" y="233280"/>
                <a:chExt cx="1415520" cy="701640"/>
              </a:xfrm>
            </p:grpSpPr>
            <p:sp>
              <p:nvSpPr>
                <p:cNvPr id="2139" name=""/>
                <p:cNvSpPr/>
                <p:nvPr/>
              </p:nvSpPr>
              <p:spPr>
                <a:xfrm>
                  <a:off x="386280" y="233280"/>
                  <a:ext cx="141552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0" name=""/>
                <p:cNvGrpSpPr/>
                <p:nvPr/>
              </p:nvGrpSpPr>
              <p:grpSpPr>
                <a:xfrm>
                  <a:off x="386280" y="233280"/>
                  <a:ext cx="1415160" cy="701640"/>
                  <a:chOff x="386280" y="233280"/>
                  <a:chExt cx="1415160" cy="701640"/>
                </a:xfrm>
              </p:grpSpPr>
              <p:sp>
                <p:nvSpPr>
                  <p:cNvPr id="2141" name=""/>
                  <p:cNvSpPr/>
                  <p:nvPr/>
                </p:nvSpPr>
                <p:spPr>
                  <a:xfrm>
                    <a:off x="439200" y="233280"/>
                    <a:ext cx="130824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Ispezione della cu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386280" y="233280"/>
                    <a:ext cx="141516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3" name=""/>
              <p:cNvGrpSpPr/>
              <p:nvPr/>
            </p:nvGrpSpPr>
            <p:grpSpPr>
              <a:xfrm>
                <a:off x="1802160" y="233280"/>
                <a:ext cx="285840" cy="701640"/>
                <a:chOff x="1802160" y="233280"/>
                <a:chExt cx="285840" cy="701640"/>
              </a:xfrm>
            </p:grpSpPr>
            <p:sp>
              <p:nvSpPr>
                <p:cNvPr id="2144" name=""/>
                <p:cNvSpPr/>
                <p:nvPr/>
              </p:nvSpPr>
              <p:spPr>
                <a:xfrm>
                  <a:off x="180216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5" name=""/>
                <p:cNvGrpSpPr/>
                <p:nvPr/>
              </p:nvGrpSpPr>
              <p:grpSpPr>
                <a:xfrm>
                  <a:off x="1802160" y="233280"/>
                  <a:ext cx="285480" cy="701640"/>
                  <a:chOff x="1802160" y="233280"/>
                  <a:chExt cx="285480" cy="701640"/>
                </a:xfrm>
              </p:grpSpPr>
              <p:sp>
                <p:nvSpPr>
                  <p:cNvPr id="2146" name=""/>
                  <p:cNvSpPr/>
                  <p:nvPr/>
                </p:nvSpPr>
                <p:spPr>
                  <a:xfrm>
                    <a:off x="185508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7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180216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8" name=""/>
              <p:cNvGrpSpPr/>
              <p:nvPr/>
            </p:nvGrpSpPr>
            <p:grpSpPr>
              <a:xfrm>
                <a:off x="2088360" y="233280"/>
                <a:ext cx="286200" cy="701640"/>
                <a:chOff x="2088360" y="233280"/>
                <a:chExt cx="286200" cy="70164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208836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0" name=""/>
                <p:cNvGrpSpPr/>
                <p:nvPr/>
              </p:nvGrpSpPr>
              <p:grpSpPr>
                <a:xfrm>
                  <a:off x="2088360" y="233280"/>
                  <a:ext cx="285840" cy="701640"/>
                  <a:chOff x="2088360" y="233280"/>
                  <a:chExt cx="285840" cy="701640"/>
                </a:xfrm>
              </p:grpSpPr>
              <p:sp>
                <p:nvSpPr>
                  <p:cNvPr id="2151" name=""/>
                  <p:cNvSpPr/>
                  <p:nvPr/>
                </p:nvSpPr>
                <p:spPr>
                  <a:xfrm>
                    <a:off x="214164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208836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3" name=""/>
              <p:cNvGrpSpPr/>
              <p:nvPr/>
            </p:nvGrpSpPr>
            <p:grpSpPr>
              <a:xfrm>
                <a:off x="2375280" y="233280"/>
                <a:ext cx="285840" cy="701640"/>
                <a:chOff x="2375280" y="233280"/>
                <a:chExt cx="285840" cy="701640"/>
              </a:xfrm>
            </p:grpSpPr>
            <p:sp>
              <p:nvSpPr>
                <p:cNvPr id="2154" name=""/>
                <p:cNvSpPr/>
                <p:nvPr/>
              </p:nvSpPr>
              <p:spPr>
                <a:xfrm>
                  <a:off x="237528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5" name=""/>
                <p:cNvGrpSpPr/>
                <p:nvPr/>
              </p:nvGrpSpPr>
              <p:grpSpPr>
                <a:xfrm>
                  <a:off x="2375280" y="233280"/>
                  <a:ext cx="285480" cy="701640"/>
                  <a:chOff x="2375280" y="233280"/>
                  <a:chExt cx="285480" cy="701640"/>
                </a:xfrm>
              </p:grpSpPr>
              <p:sp>
                <p:nvSpPr>
                  <p:cNvPr id="2156" name=""/>
                  <p:cNvSpPr/>
                  <p:nvPr/>
                </p:nvSpPr>
                <p:spPr>
                  <a:xfrm>
                    <a:off x="242820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237528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8" name=""/>
              <p:cNvGrpSpPr/>
              <p:nvPr/>
            </p:nvGrpSpPr>
            <p:grpSpPr>
              <a:xfrm>
                <a:off x="2661840" y="233280"/>
                <a:ext cx="285840" cy="701640"/>
                <a:chOff x="2661840" y="233280"/>
                <a:chExt cx="285840" cy="701640"/>
              </a:xfrm>
            </p:grpSpPr>
            <p:sp>
              <p:nvSpPr>
                <p:cNvPr id="2159" name=""/>
                <p:cNvSpPr/>
                <p:nvPr/>
              </p:nvSpPr>
              <p:spPr>
                <a:xfrm>
                  <a:off x="266184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0" name=""/>
                <p:cNvGrpSpPr/>
                <p:nvPr/>
              </p:nvGrpSpPr>
              <p:grpSpPr>
                <a:xfrm>
                  <a:off x="2661840" y="233280"/>
                  <a:ext cx="285480" cy="701640"/>
                  <a:chOff x="2661840" y="233280"/>
                  <a:chExt cx="285480" cy="701640"/>
                </a:xfrm>
              </p:grpSpPr>
              <p:sp>
                <p:nvSpPr>
                  <p:cNvPr id="2161" name=""/>
                  <p:cNvSpPr/>
                  <p:nvPr/>
                </p:nvSpPr>
                <p:spPr>
                  <a:xfrm>
                    <a:off x="271476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0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266184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3" name=""/>
              <p:cNvGrpSpPr/>
              <p:nvPr/>
            </p:nvGrpSpPr>
            <p:grpSpPr>
              <a:xfrm>
                <a:off x="2948040" y="233280"/>
                <a:ext cx="286200" cy="701640"/>
                <a:chOff x="2948040" y="233280"/>
                <a:chExt cx="286200" cy="70164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294804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5" name=""/>
                <p:cNvGrpSpPr/>
                <p:nvPr/>
              </p:nvGrpSpPr>
              <p:grpSpPr>
                <a:xfrm>
                  <a:off x="2948040" y="233280"/>
                  <a:ext cx="285840" cy="701640"/>
                  <a:chOff x="2948040" y="233280"/>
                  <a:chExt cx="285840" cy="70164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300132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294804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8" name=""/>
              <p:cNvGrpSpPr/>
              <p:nvPr/>
            </p:nvGrpSpPr>
            <p:grpSpPr>
              <a:xfrm>
                <a:off x="3234960" y="233280"/>
                <a:ext cx="285840" cy="701640"/>
                <a:chOff x="3234960" y="233280"/>
                <a:chExt cx="285840" cy="70164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323496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0" name=""/>
                <p:cNvGrpSpPr/>
                <p:nvPr/>
              </p:nvGrpSpPr>
              <p:grpSpPr>
                <a:xfrm>
                  <a:off x="3234960" y="233280"/>
                  <a:ext cx="285480" cy="701640"/>
                  <a:chOff x="3234960" y="233280"/>
                  <a:chExt cx="285480" cy="701640"/>
                </a:xfrm>
              </p:grpSpPr>
              <p:sp>
                <p:nvSpPr>
                  <p:cNvPr id="2171" name=""/>
                  <p:cNvSpPr/>
                  <p:nvPr/>
                </p:nvSpPr>
                <p:spPr>
                  <a:xfrm>
                    <a:off x="328788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323496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3" name=""/>
              <p:cNvGrpSpPr/>
              <p:nvPr/>
            </p:nvGrpSpPr>
            <p:grpSpPr>
              <a:xfrm>
                <a:off x="3521160" y="233280"/>
                <a:ext cx="286200" cy="701640"/>
                <a:chOff x="3521160" y="233280"/>
                <a:chExt cx="286200" cy="70164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352116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5" name=""/>
                <p:cNvGrpSpPr/>
                <p:nvPr/>
              </p:nvGrpSpPr>
              <p:grpSpPr>
                <a:xfrm>
                  <a:off x="3521160" y="233280"/>
                  <a:ext cx="285840" cy="701640"/>
                  <a:chOff x="3521160" y="233280"/>
                  <a:chExt cx="285840" cy="701640"/>
                </a:xfrm>
              </p:grpSpPr>
              <p:sp>
                <p:nvSpPr>
                  <p:cNvPr id="2176" name=""/>
                  <p:cNvSpPr/>
                  <p:nvPr/>
                </p:nvSpPr>
                <p:spPr>
                  <a:xfrm>
                    <a:off x="357444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352116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8" name=""/>
              <p:cNvGrpSpPr/>
              <p:nvPr/>
            </p:nvGrpSpPr>
            <p:grpSpPr>
              <a:xfrm>
                <a:off x="3808080" y="233280"/>
                <a:ext cx="285840" cy="701640"/>
                <a:chOff x="3808080" y="233280"/>
                <a:chExt cx="285840" cy="70164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380808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0" name=""/>
                <p:cNvGrpSpPr/>
                <p:nvPr/>
              </p:nvGrpSpPr>
              <p:grpSpPr>
                <a:xfrm>
                  <a:off x="3808080" y="233280"/>
                  <a:ext cx="285480" cy="701640"/>
                  <a:chOff x="3808080" y="233280"/>
                  <a:chExt cx="285480" cy="701640"/>
                </a:xfrm>
              </p:grpSpPr>
              <p:sp>
                <p:nvSpPr>
                  <p:cNvPr id="2181" name=""/>
                  <p:cNvSpPr/>
                  <p:nvPr/>
                </p:nvSpPr>
                <p:spPr>
                  <a:xfrm>
                    <a:off x="386100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380808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3" name=""/>
              <p:cNvGrpSpPr/>
              <p:nvPr/>
            </p:nvGrpSpPr>
            <p:grpSpPr>
              <a:xfrm>
                <a:off x="4094640" y="233280"/>
                <a:ext cx="286200" cy="701640"/>
                <a:chOff x="4094640" y="233280"/>
                <a:chExt cx="286200" cy="7016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409464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5" name=""/>
                <p:cNvGrpSpPr/>
                <p:nvPr/>
              </p:nvGrpSpPr>
              <p:grpSpPr>
                <a:xfrm>
                  <a:off x="4094640" y="233280"/>
                  <a:ext cx="285840" cy="701640"/>
                  <a:chOff x="4094640" y="233280"/>
                  <a:chExt cx="285840" cy="701640"/>
                </a:xfrm>
              </p:grpSpPr>
              <p:sp>
                <p:nvSpPr>
                  <p:cNvPr id="2186" name=""/>
                  <p:cNvSpPr/>
                  <p:nvPr/>
                </p:nvSpPr>
                <p:spPr>
                  <a:xfrm>
                    <a:off x="414792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5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409464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8" name=""/>
              <p:cNvGrpSpPr/>
              <p:nvPr/>
            </p:nvGrpSpPr>
            <p:grpSpPr>
              <a:xfrm>
                <a:off x="4381560" y="233280"/>
                <a:ext cx="285840" cy="701640"/>
                <a:chOff x="4381560" y="233280"/>
                <a:chExt cx="285840" cy="701640"/>
              </a:xfrm>
            </p:grpSpPr>
            <p:sp>
              <p:nvSpPr>
                <p:cNvPr id="2189" name=""/>
                <p:cNvSpPr/>
                <p:nvPr/>
              </p:nvSpPr>
              <p:spPr>
                <a:xfrm>
                  <a:off x="438156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0" name=""/>
                <p:cNvGrpSpPr/>
                <p:nvPr/>
              </p:nvGrpSpPr>
              <p:grpSpPr>
                <a:xfrm>
                  <a:off x="4381560" y="233280"/>
                  <a:ext cx="285480" cy="701640"/>
                  <a:chOff x="4381560" y="233280"/>
                  <a:chExt cx="285480" cy="70164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>
                    <a:off x="443448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6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438156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3" name=""/>
              <p:cNvGrpSpPr/>
              <p:nvPr/>
            </p:nvGrpSpPr>
            <p:grpSpPr>
              <a:xfrm>
                <a:off x="4667760" y="233280"/>
                <a:ext cx="286200" cy="701640"/>
                <a:chOff x="4667760" y="233280"/>
                <a:chExt cx="286200" cy="70164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466776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5" name=""/>
                <p:cNvGrpSpPr/>
                <p:nvPr/>
              </p:nvGrpSpPr>
              <p:grpSpPr>
                <a:xfrm>
                  <a:off x="4667760" y="233280"/>
                  <a:ext cx="285840" cy="701640"/>
                  <a:chOff x="4667760" y="233280"/>
                  <a:chExt cx="285840" cy="70164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>
                    <a:off x="472104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7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466776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8" name=""/>
              <p:cNvGrpSpPr/>
              <p:nvPr/>
            </p:nvGrpSpPr>
            <p:grpSpPr>
              <a:xfrm>
                <a:off x="4954680" y="233280"/>
                <a:ext cx="285840" cy="701640"/>
                <a:chOff x="4954680" y="233280"/>
                <a:chExt cx="285840" cy="70164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495468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0" name=""/>
                <p:cNvGrpSpPr/>
                <p:nvPr/>
              </p:nvGrpSpPr>
              <p:grpSpPr>
                <a:xfrm>
                  <a:off x="4954680" y="233280"/>
                  <a:ext cx="285480" cy="701640"/>
                  <a:chOff x="4954680" y="233280"/>
                  <a:chExt cx="285480" cy="701640"/>
                </a:xfrm>
              </p:grpSpPr>
              <p:sp>
                <p:nvSpPr>
                  <p:cNvPr id="2201" name=""/>
                  <p:cNvSpPr/>
                  <p:nvPr/>
                </p:nvSpPr>
                <p:spPr>
                  <a:xfrm>
                    <a:off x="500760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495468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3" name=""/>
              <p:cNvGrpSpPr/>
              <p:nvPr/>
            </p:nvGrpSpPr>
            <p:grpSpPr>
              <a:xfrm>
                <a:off x="5240880" y="233280"/>
                <a:ext cx="286200" cy="701640"/>
                <a:chOff x="5240880" y="233280"/>
                <a:chExt cx="286200" cy="701640"/>
              </a:xfrm>
            </p:grpSpPr>
            <p:sp>
              <p:nvSpPr>
                <p:cNvPr id="2204" name=""/>
                <p:cNvSpPr/>
                <p:nvPr/>
              </p:nvSpPr>
              <p:spPr>
                <a:xfrm>
                  <a:off x="524088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5" name=""/>
                <p:cNvGrpSpPr/>
                <p:nvPr/>
              </p:nvGrpSpPr>
              <p:grpSpPr>
                <a:xfrm>
                  <a:off x="5240880" y="233280"/>
                  <a:ext cx="285840" cy="701640"/>
                  <a:chOff x="5240880" y="233280"/>
                  <a:chExt cx="285840" cy="701640"/>
                </a:xfrm>
              </p:grpSpPr>
              <p:sp>
                <p:nvSpPr>
                  <p:cNvPr id="2206" name=""/>
                  <p:cNvSpPr/>
                  <p:nvPr/>
                </p:nvSpPr>
                <p:spPr>
                  <a:xfrm>
                    <a:off x="529416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524088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8" name=""/>
              <p:cNvGrpSpPr/>
              <p:nvPr/>
            </p:nvGrpSpPr>
            <p:grpSpPr>
              <a:xfrm>
                <a:off x="5527800" y="233280"/>
                <a:ext cx="285840" cy="701640"/>
                <a:chOff x="5527800" y="233280"/>
                <a:chExt cx="285840" cy="70164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552780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0" name=""/>
                <p:cNvGrpSpPr/>
                <p:nvPr/>
              </p:nvGrpSpPr>
              <p:grpSpPr>
                <a:xfrm>
                  <a:off x="5527800" y="233280"/>
                  <a:ext cx="285480" cy="701640"/>
                  <a:chOff x="5527800" y="233280"/>
                  <a:chExt cx="285480" cy="701640"/>
                </a:xfrm>
              </p:grpSpPr>
              <p:sp>
                <p:nvSpPr>
                  <p:cNvPr id="2211" name=""/>
                  <p:cNvSpPr/>
                  <p:nvPr/>
                </p:nvSpPr>
                <p:spPr>
                  <a:xfrm>
                    <a:off x="558072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0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552780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3" name=""/>
              <p:cNvGrpSpPr/>
              <p:nvPr/>
            </p:nvGrpSpPr>
            <p:grpSpPr>
              <a:xfrm>
                <a:off x="5814360" y="233280"/>
                <a:ext cx="285840" cy="701640"/>
                <a:chOff x="5814360" y="233280"/>
                <a:chExt cx="285840" cy="70164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581436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5" name=""/>
                <p:cNvGrpSpPr/>
                <p:nvPr/>
              </p:nvGrpSpPr>
              <p:grpSpPr>
                <a:xfrm>
                  <a:off x="5814360" y="233280"/>
                  <a:ext cx="285480" cy="701640"/>
                  <a:chOff x="5814360" y="233280"/>
                  <a:chExt cx="285480" cy="701640"/>
                </a:xfrm>
              </p:grpSpPr>
              <p:sp>
                <p:nvSpPr>
                  <p:cNvPr id="2216" name=""/>
                  <p:cNvSpPr/>
                  <p:nvPr/>
                </p:nvSpPr>
                <p:spPr>
                  <a:xfrm>
                    <a:off x="586728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581436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8" name=""/>
              <p:cNvGrpSpPr/>
              <p:nvPr/>
            </p:nvGrpSpPr>
            <p:grpSpPr>
              <a:xfrm>
                <a:off x="6100560" y="233280"/>
                <a:ext cx="286200" cy="701640"/>
                <a:chOff x="6100560" y="233280"/>
                <a:chExt cx="286200" cy="70164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610056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0" name=""/>
                <p:cNvGrpSpPr/>
                <p:nvPr/>
              </p:nvGrpSpPr>
              <p:grpSpPr>
                <a:xfrm>
                  <a:off x="6100560" y="233280"/>
                  <a:ext cx="285840" cy="701640"/>
                  <a:chOff x="6100560" y="233280"/>
                  <a:chExt cx="285840" cy="701640"/>
                </a:xfrm>
              </p:grpSpPr>
              <p:sp>
                <p:nvSpPr>
                  <p:cNvPr id="2221" name=""/>
                  <p:cNvSpPr/>
                  <p:nvPr/>
                </p:nvSpPr>
                <p:spPr>
                  <a:xfrm>
                    <a:off x="615384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610056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3" name=""/>
              <p:cNvGrpSpPr/>
              <p:nvPr/>
            </p:nvGrpSpPr>
            <p:grpSpPr>
              <a:xfrm>
                <a:off x="6387480" y="233280"/>
                <a:ext cx="285840" cy="701640"/>
                <a:chOff x="6387480" y="233280"/>
                <a:chExt cx="285840" cy="701640"/>
              </a:xfrm>
            </p:grpSpPr>
            <p:sp>
              <p:nvSpPr>
                <p:cNvPr id="2224" name=""/>
                <p:cNvSpPr/>
                <p:nvPr/>
              </p:nvSpPr>
              <p:spPr>
                <a:xfrm>
                  <a:off x="638748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5" name=""/>
                <p:cNvGrpSpPr/>
                <p:nvPr/>
              </p:nvGrpSpPr>
              <p:grpSpPr>
                <a:xfrm>
                  <a:off x="6387480" y="233280"/>
                  <a:ext cx="285480" cy="701640"/>
                  <a:chOff x="6387480" y="233280"/>
                  <a:chExt cx="285480" cy="70164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644040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638748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8" name=""/>
              <p:cNvGrpSpPr/>
              <p:nvPr/>
            </p:nvGrpSpPr>
            <p:grpSpPr>
              <a:xfrm>
                <a:off x="6674040" y="233280"/>
                <a:ext cx="286200" cy="701640"/>
                <a:chOff x="6674040" y="233280"/>
                <a:chExt cx="286200" cy="701640"/>
              </a:xfrm>
            </p:grpSpPr>
            <p:sp>
              <p:nvSpPr>
                <p:cNvPr id="2229" name=""/>
                <p:cNvSpPr/>
                <p:nvPr/>
              </p:nvSpPr>
              <p:spPr>
                <a:xfrm>
                  <a:off x="667404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0" name=""/>
                <p:cNvGrpSpPr/>
                <p:nvPr/>
              </p:nvGrpSpPr>
              <p:grpSpPr>
                <a:xfrm>
                  <a:off x="6674040" y="233280"/>
                  <a:ext cx="285840" cy="701640"/>
                  <a:chOff x="6674040" y="233280"/>
                  <a:chExt cx="285840" cy="70164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672732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667404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33" name=""/>
              <p:cNvGrpSpPr/>
              <p:nvPr/>
            </p:nvGrpSpPr>
            <p:grpSpPr>
              <a:xfrm>
                <a:off x="6960600" y="233280"/>
                <a:ext cx="285840" cy="701640"/>
                <a:chOff x="6960600" y="233280"/>
                <a:chExt cx="285840" cy="701640"/>
              </a:xfrm>
            </p:grpSpPr>
            <p:sp>
              <p:nvSpPr>
                <p:cNvPr id="2234" name=""/>
                <p:cNvSpPr/>
                <p:nvPr/>
              </p:nvSpPr>
              <p:spPr>
                <a:xfrm>
                  <a:off x="696060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5" name=""/>
                <p:cNvGrpSpPr/>
                <p:nvPr/>
              </p:nvGrpSpPr>
              <p:grpSpPr>
                <a:xfrm>
                  <a:off x="6960600" y="233280"/>
                  <a:ext cx="285480" cy="701640"/>
                  <a:chOff x="6960600" y="233280"/>
                  <a:chExt cx="285480" cy="701640"/>
                </a:xfrm>
              </p:grpSpPr>
              <p:sp>
                <p:nvSpPr>
                  <p:cNvPr id="2236" name=""/>
                  <p:cNvSpPr/>
                  <p:nvPr/>
                </p:nvSpPr>
                <p:spPr>
                  <a:xfrm>
                    <a:off x="701352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1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696060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38" name=""/>
              <p:cNvGrpSpPr/>
              <p:nvPr/>
            </p:nvGrpSpPr>
            <p:grpSpPr>
              <a:xfrm>
                <a:off x="7247160" y="233280"/>
                <a:ext cx="286200" cy="701640"/>
                <a:chOff x="7247160" y="233280"/>
                <a:chExt cx="286200" cy="70164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724716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0" name=""/>
                <p:cNvGrpSpPr/>
                <p:nvPr/>
              </p:nvGrpSpPr>
              <p:grpSpPr>
                <a:xfrm>
                  <a:off x="7247160" y="233280"/>
                  <a:ext cx="285840" cy="701640"/>
                  <a:chOff x="7247160" y="233280"/>
                  <a:chExt cx="285840" cy="701640"/>
                </a:xfrm>
              </p:grpSpPr>
              <p:sp>
                <p:nvSpPr>
                  <p:cNvPr id="2241" name=""/>
                  <p:cNvSpPr/>
                  <p:nvPr/>
                </p:nvSpPr>
                <p:spPr>
                  <a:xfrm>
                    <a:off x="730044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2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724716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3" name=""/>
              <p:cNvGrpSpPr/>
              <p:nvPr/>
            </p:nvGrpSpPr>
            <p:grpSpPr>
              <a:xfrm>
                <a:off x="7534080" y="233280"/>
                <a:ext cx="285840" cy="701640"/>
                <a:chOff x="7534080" y="233280"/>
                <a:chExt cx="285840" cy="701640"/>
              </a:xfrm>
            </p:grpSpPr>
            <p:sp>
              <p:nvSpPr>
                <p:cNvPr id="2244" name=""/>
                <p:cNvSpPr/>
                <p:nvPr/>
              </p:nvSpPr>
              <p:spPr>
                <a:xfrm>
                  <a:off x="753408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5" name=""/>
                <p:cNvGrpSpPr/>
                <p:nvPr/>
              </p:nvGrpSpPr>
              <p:grpSpPr>
                <a:xfrm>
                  <a:off x="7534080" y="233280"/>
                  <a:ext cx="285480" cy="701640"/>
                  <a:chOff x="7534080" y="233280"/>
                  <a:chExt cx="285480" cy="701640"/>
                </a:xfrm>
              </p:grpSpPr>
              <p:sp>
                <p:nvSpPr>
                  <p:cNvPr id="2246" name=""/>
                  <p:cNvSpPr/>
                  <p:nvPr/>
                </p:nvSpPr>
                <p:spPr>
                  <a:xfrm>
                    <a:off x="758700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3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753408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8" name=""/>
              <p:cNvGrpSpPr/>
              <p:nvPr/>
            </p:nvGrpSpPr>
            <p:grpSpPr>
              <a:xfrm>
                <a:off x="7820280" y="233280"/>
                <a:ext cx="286200" cy="701640"/>
                <a:chOff x="7820280" y="233280"/>
                <a:chExt cx="286200" cy="70164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782028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0" name=""/>
                <p:cNvGrpSpPr/>
                <p:nvPr/>
              </p:nvGrpSpPr>
              <p:grpSpPr>
                <a:xfrm>
                  <a:off x="7820280" y="233280"/>
                  <a:ext cx="285840" cy="701640"/>
                  <a:chOff x="7820280" y="233280"/>
                  <a:chExt cx="285840" cy="701640"/>
                </a:xfrm>
              </p:grpSpPr>
              <p:sp>
                <p:nvSpPr>
                  <p:cNvPr id="2251" name=""/>
                  <p:cNvSpPr/>
                  <p:nvPr/>
                </p:nvSpPr>
                <p:spPr>
                  <a:xfrm>
                    <a:off x="787356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4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782028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3" name=""/>
              <p:cNvGrpSpPr/>
              <p:nvPr/>
            </p:nvGrpSpPr>
            <p:grpSpPr>
              <a:xfrm>
                <a:off x="8107200" y="233280"/>
                <a:ext cx="285840" cy="701640"/>
                <a:chOff x="8107200" y="233280"/>
                <a:chExt cx="285840" cy="70164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8107200" y="233280"/>
                  <a:ext cx="28584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5" name=""/>
                <p:cNvGrpSpPr/>
                <p:nvPr/>
              </p:nvGrpSpPr>
              <p:grpSpPr>
                <a:xfrm>
                  <a:off x="8107200" y="233280"/>
                  <a:ext cx="285480" cy="701640"/>
                  <a:chOff x="8107200" y="233280"/>
                  <a:chExt cx="285480" cy="70164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>
                    <a:off x="8160120" y="233280"/>
                    <a:ext cx="17928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5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8107200" y="233280"/>
                    <a:ext cx="28548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8" name=""/>
              <p:cNvGrpSpPr/>
              <p:nvPr/>
            </p:nvGrpSpPr>
            <p:grpSpPr>
              <a:xfrm>
                <a:off x="8393760" y="233280"/>
                <a:ext cx="286200" cy="701640"/>
                <a:chOff x="8393760" y="233280"/>
                <a:chExt cx="286200" cy="70164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8393760" y="233280"/>
                  <a:ext cx="286200" cy="7016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0" name=""/>
                <p:cNvGrpSpPr/>
                <p:nvPr/>
              </p:nvGrpSpPr>
              <p:grpSpPr>
                <a:xfrm>
                  <a:off x="8393760" y="233280"/>
                  <a:ext cx="285840" cy="701640"/>
                  <a:chOff x="8393760" y="233280"/>
                  <a:chExt cx="285840" cy="701640"/>
                </a:xfrm>
              </p:grpSpPr>
              <p:sp>
                <p:nvSpPr>
                  <p:cNvPr id="2261" name=""/>
                  <p:cNvSpPr/>
                  <p:nvPr/>
                </p:nvSpPr>
                <p:spPr>
                  <a:xfrm>
                    <a:off x="8447040" y="233280"/>
                    <a:ext cx="178920" cy="7016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6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8393760" y="233280"/>
                    <a:ext cx="2858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63" name=""/>
            <p:cNvSpPr/>
            <p:nvPr/>
          </p:nvSpPr>
          <p:spPr>
            <a:xfrm>
              <a:off x="380880" y="228600"/>
              <a:ext cx="8305560" cy="711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892-C80F-4931-87F6-9540F5AEB80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97F1C9-2158-4DA6-B590-91F441AAD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1219320" cy="1054080"/>
          </a:xfrm>
          <a:prstGeom prst="rect">
            <a:avLst/>
          </a:prstGeom>
          <a:ln w="0">
            <a:noFill/>
          </a:ln>
        </p:spPr>
      </p:pic>
      <p:grpSp>
        <p:nvGrpSpPr>
          <p:cNvPr id="2265" name=""/>
          <p:cNvGrpSpPr/>
          <p:nvPr/>
        </p:nvGrpSpPr>
        <p:grpSpPr>
          <a:xfrm>
            <a:off x="685800" y="533520"/>
            <a:ext cx="8076960" cy="2430360"/>
            <a:chOff x="685800" y="533520"/>
            <a:chExt cx="8076960" cy="2430360"/>
          </a:xfrm>
        </p:grpSpPr>
        <p:grpSp>
          <p:nvGrpSpPr>
            <p:cNvPr id="2266" name=""/>
            <p:cNvGrpSpPr/>
            <p:nvPr/>
          </p:nvGrpSpPr>
          <p:grpSpPr>
            <a:xfrm>
              <a:off x="690840" y="538200"/>
              <a:ext cx="8065800" cy="2421000"/>
              <a:chOff x="690840" y="538200"/>
              <a:chExt cx="8065800" cy="2421000"/>
            </a:xfrm>
          </p:grpSpPr>
          <p:grpSp>
            <p:nvGrpSpPr>
              <p:cNvPr id="2267" name=""/>
              <p:cNvGrpSpPr/>
              <p:nvPr/>
            </p:nvGrpSpPr>
            <p:grpSpPr>
              <a:xfrm>
                <a:off x="690840" y="538200"/>
                <a:ext cx="1494000" cy="2421000"/>
                <a:chOff x="690840" y="538200"/>
                <a:chExt cx="1494000" cy="2421000"/>
              </a:xfrm>
            </p:grpSpPr>
            <p:sp>
              <p:nvSpPr>
                <p:cNvPr id="2268" name=""/>
                <p:cNvSpPr/>
                <p:nvPr/>
              </p:nvSpPr>
              <p:spPr>
                <a:xfrm>
                  <a:off x="739800" y="538200"/>
                  <a:ext cx="1395720" cy="24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690840" y="538200"/>
                  <a:ext cx="1494000" cy="24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0" name=""/>
              <p:cNvGrpSpPr/>
              <p:nvPr/>
            </p:nvGrpSpPr>
            <p:grpSpPr>
              <a:xfrm>
                <a:off x="2185200" y="538200"/>
                <a:ext cx="6571440" cy="2421000"/>
                <a:chOff x="2185200" y="538200"/>
                <a:chExt cx="6571440" cy="2421000"/>
              </a:xfrm>
            </p:grpSpPr>
            <p:grpSp>
              <p:nvGrpSpPr>
                <p:cNvPr id="2271" name=""/>
                <p:cNvGrpSpPr/>
                <p:nvPr/>
              </p:nvGrpSpPr>
              <p:grpSpPr>
                <a:xfrm>
                  <a:off x="2234520" y="538200"/>
                  <a:ext cx="6472080" cy="2117160"/>
                  <a:chOff x="2234520" y="538200"/>
                  <a:chExt cx="6472080" cy="2117160"/>
                </a:xfrm>
              </p:grpSpPr>
              <p:sp>
                <p:nvSpPr>
                  <p:cNvPr id="2272" name=""/>
                  <p:cNvSpPr/>
                  <p:nvPr/>
                </p:nvSpPr>
                <p:spPr>
                  <a:xfrm>
                    <a:off x="2234520" y="538200"/>
                    <a:ext cx="6472080" cy="35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2234520" y="1101600"/>
                    <a:ext cx="6472080" cy="686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rebuchet MS"/>
                        <a:ea typeface="Times New Roman"/>
                      </a:rPr>
                      <a:t>Azienda Ospedaliera “G.Salvini” di Garbagnate M.s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2234520" y="1877760"/>
                    <a:ext cx="6472080" cy="77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rebuchet MS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Verdana"/>
                        <a:ea typeface="Arial Unicode MS"/>
                      </a:rPr>
                      <a:t>P.O…………………………………….. U.O………………………………………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r" pos="449280"/>
                        <a:tab algn="ctr" pos="3060720"/>
                        <a:tab algn="r" pos="611964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5" name=""/>
                <p:cNvSpPr/>
                <p:nvPr/>
              </p:nvSpPr>
              <p:spPr>
                <a:xfrm>
                  <a:off x="2185200" y="538200"/>
                  <a:ext cx="6571440" cy="24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6" name=""/>
            <p:cNvSpPr/>
            <p:nvPr/>
          </p:nvSpPr>
          <p:spPr>
            <a:xfrm>
              <a:off x="685800" y="533520"/>
              <a:ext cx="8076960" cy="2430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1066680" y="3429000"/>
            <a:ext cx="7696440" cy="520200"/>
          </a:xfrm>
          <a:prstGeom prst="rect">
            <a:avLst/>
          </a:prstGeom>
          <a:solidFill>
            <a:srgbClr val="f2e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PROTOCOLLO: Trattamento e cura delle lesioni.  </a:t>
            </a:r>
            <a:r>
              <a:rPr b="1" lang="de-DE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–SCHEDA N°3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143000" y="4343400"/>
            <a:ext cx="7543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E’ preferibile consultare l’Infermiere Esperto attraverso il Referente dell’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NB</a:t>
            </a:r>
            <a:r>
              <a:rPr b="0" lang="en-US" sz="1400" spc="-1" strike="noStrike">
                <a:solidFill>
                  <a:srgbClr val="000080"/>
                </a:solidFill>
                <a:latin typeface="Verdana"/>
                <a:ea typeface="Arial Unicode MS"/>
              </a:rPr>
              <a:t>. Per i pazienti affetti da incontinenza fecale o con scariche frequenti, proteggere la medicazione con Tegaderm tranne che per le lesioni essuda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6CD2-0776-463C-92F0-0B18009AE96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FC5597B-A142-4D1C-84F3-F5DAE2865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533520" y="533520"/>
            <a:ext cx="8251200" cy="5028840"/>
            <a:chOff x="533520" y="533520"/>
            <a:chExt cx="8251200" cy="5028840"/>
          </a:xfrm>
        </p:grpSpPr>
        <p:grpSp>
          <p:nvGrpSpPr>
            <p:cNvPr id="2280" name=""/>
            <p:cNvGrpSpPr/>
            <p:nvPr/>
          </p:nvGrpSpPr>
          <p:grpSpPr>
            <a:xfrm>
              <a:off x="538200" y="540000"/>
              <a:ext cx="8240760" cy="5014080"/>
              <a:chOff x="538200" y="540000"/>
              <a:chExt cx="8240760" cy="5014080"/>
            </a:xfrm>
          </p:grpSpPr>
          <p:grpSp>
            <p:nvGrpSpPr>
              <p:cNvPr id="2281" name=""/>
              <p:cNvGrpSpPr/>
              <p:nvPr/>
            </p:nvGrpSpPr>
            <p:grpSpPr>
              <a:xfrm>
                <a:off x="538200" y="540000"/>
                <a:ext cx="583200" cy="1002240"/>
                <a:chOff x="538200" y="540000"/>
                <a:chExt cx="583200" cy="1002240"/>
              </a:xfrm>
            </p:grpSpPr>
            <p:sp>
              <p:nvSpPr>
                <p:cNvPr id="2282" name=""/>
                <p:cNvSpPr/>
                <p:nvPr/>
              </p:nvSpPr>
              <p:spPr>
                <a:xfrm>
                  <a:off x="538200" y="540000"/>
                  <a:ext cx="583200" cy="1002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3" name=""/>
                <p:cNvGrpSpPr/>
                <p:nvPr/>
              </p:nvGrpSpPr>
              <p:grpSpPr>
                <a:xfrm>
                  <a:off x="538200" y="540000"/>
                  <a:ext cx="582840" cy="1001880"/>
                  <a:chOff x="538200" y="540000"/>
                  <a:chExt cx="582840" cy="1001880"/>
                </a:xfrm>
              </p:grpSpPr>
              <p:sp>
                <p:nvSpPr>
                  <p:cNvPr id="2284" name=""/>
                  <p:cNvSpPr/>
                  <p:nvPr/>
                </p:nvSpPr>
                <p:spPr>
                  <a:xfrm>
                    <a:off x="585360" y="540000"/>
                    <a:ext cx="488160" cy="100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de-DE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Stadi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538200" y="540000"/>
                    <a:ext cx="582840" cy="100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86" name=""/>
              <p:cNvGrpSpPr/>
              <p:nvPr/>
            </p:nvGrpSpPr>
            <p:grpSpPr>
              <a:xfrm>
                <a:off x="1121760" y="540000"/>
                <a:ext cx="1194120" cy="1002240"/>
                <a:chOff x="1121760" y="540000"/>
                <a:chExt cx="1194120" cy="100224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1121760" y="540000"/>
                  <a:ext cx="1194120" cy="1002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8" name=""/>
                <p:cNvGrpSpPr/>
                <p:nvPr/>
              </p:nvGrpSpPr>
              <p:grpSpPr>
                <a:xfrm>
                  <a:off x="1121760" y="540000"/>
                  <a:ext cx="1193760" cy="1001880"/>
                  <a:chOff x="1121760" y="540000"/>
                  <a:chExt cx="1193760" cy="1001880"/>
                </a:xfrm>
              </p:grpSpPr>
              <p:sp>
                <p:nvSpPr>
                  <p:cNvPr id="2289" name=""/>
                  <p:cNvSpPr/>
                  <p:nvPr/>
                </p:nvSpPr>
                <p:spPr>
                  <a:xfrm>
                    <a:off x="1168920" y="540000"/>
                    <a:ext cx="1099440" cy="100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Varian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1121760" y="540000"/>
                    <a:ext cx="1193760" cy="100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1" name=""/>
              <p:cNvGrpSpPr/>
              <p:nvPr/>
            </p:nvGrpSpPr>
            <p:grpSpPr>
              <a:xfrm>
                <a:off x="2316600" y="540000"/>
                <a:ext cx="705600" cy="1002240"/>
                <a:chOff x="2316600" y="540000"/>
                <a:chExt cx="705600" cy="100224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2316600" y="540000"/>
                  <a:ext cx="705600" cy="1002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3" name=""/>
                <p:cNvGrpSpPr/>
                <p:nvPr/>
              </p:nvGrpSpPr>
              <p:grpSpPr>
                <a:xfrm>
                  <a:off x="2316600" y="540000"/>
                  <a:ext cx="705240" cy="1001880"/>
                  <a:chOff x="2316600" y="540000"/>
                  <a:chExt cx="705240" cy="1001880"/>
                </a:xfrm>
              </p:grpSpPr>
              <p:sp>
                <p:nvSpPr>
                  <p:cNvPr id="2294" name=""/>
                  <p:cNvSpPr/>
                  <p:nvPr/>
                </p:nvSpPr>
                <p:spPr>
                  <a:xfrm>
                    <a:off x="2364120" y="540000"/>
                    <a:ext cx="610200" cy="100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Modell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2316600" y="540000"/>
                    <a:ext cx="705240" cy="100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6" name=""/>
              <p:cNvGrpSpPr/>
              <p:nvPr/>
            </p:nvGrpSpPr>
            <p:grpSpPr>
              <a:xfrm>
                <a:off x="3022560" y="540000"/>
                <a:ext cx="1072080" cy="1002240"/>
                <a:chOff x="3022560" y="540000"/>
                <a:chExt cx="1072080" cy="1002240"/>
              </a:xfrm>
            </p:grpSpPr>
            <p:sp>
              <p:nvSpPr>
                <p:cNvPr id="2297" name=""/>
                <p:cNvSpPr/>
                <p:nvPr/>
              </p:nvSpPr>
              <p:spPr>
                <a:xfrm>
                  <a:off x="3022560" y="540000"/>
                  <a:ext cx="1072080" cy="1002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8" name=""/>
                <p:cNvGrpSpPr/>
                <p:nvPr/>
              </p:nvGrpSpPr>
              <p:grpSpPr>
                <a:xfrm>
                  <a:off x="3022560" y="540000"/>
                  <a:ext cx="1071720" cy="1001880"/>
                  <a:chOff x="3022560" y="540000"/>
                  <a:chExt cx="1071720" cy="1001880"/>
                </a:xfrm>
              </p:grpSpPr>
              <p:sp>
                <p:nvSpPr>
                  <p:cNvPr id="2299" name=""/>
                  <p:cNvSpPr/>
                  <p:nvPr/>
                </p:nvSpPr>
                <p:spPr>
                  <a:xfrm>
                    <a:off x="3069720" y="540000"/>
                    <a:ext cx="977040" cy="100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Detersio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3022560" y="540000"/>
                    <a:ext cx="1071720" cy="100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1" name=""/>
              <p:cNvGrpSpPr/>
              <p:nvPr/>
            </p:nvGrpSpPr>
            <p:grpSpPr>
              <a:xfrm>
                <a:off x="4095360" y="540000"/>
                <a:ext cx="2660400" cy="1002240"/>
                <a:chOff x="4095360" y="540000"/>
                <a:chExt cx="2660400" cy="1002240"/>
              </a:xfrm>
            </p:grpSpPr>
            <p:sp>
              <p:nvSpPr>
                <p:cNvPr id="2302" name=""/>
                <p:cNvSpPr/>
                <p:nvPr/>
              </p:nvSpPr>
              <p:spPr>
                <a:xfrm>
                  <a:off x="4095360" y="540000"/>
                  <a:ext cx="2660400" cy="1002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3" name=""/>
                <p:cNvGrpSpPr/>
                <p:nvPr/>
              </p:nvGrpSpPr>
              <p:grpSpPr>
                <a:xfrm>
                  <a:off x="4095360" y="540000"/>
                  <a:ext cx="2660040" cy="1001880"/>
                  <a:chOff x="4095360" y="540000"/>
                  <a:chExt cx="2660040" cy="1001880"/>
                </a:xfrm>
              </p:grpSpPr>
              <p:sp>
                <p:nvSpPr>
                  <p:cNvPr id="2304" name=""/>
                  <p:cNvSpPr/>
                  <p:nvPr/>
                </p:nvSpPr>
                <p:spPr>
                  <a:xfrm>
                    <a:off x="4142520" y="540000"/>
                    <a:ext cx="2565360" cy="100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Medicazio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4095360" y="540000"/>
                    <a:ext cx="2660040" cy="100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6" name=""/>
              <p:cNvGrpSpPr/>
              <p:nvPr/>
            </p:nvGrpSpPr>
            <p:grpSpPr>
              <a:xfrm>
                <a:off x="6756120" y="540000"/>
                <a:ext cx="751320" cy="1002240"/>
                <a:chOff x="6756120" y="540000"/>
                <a:chExt cx="751320" cy="100224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6756120" y="540000"/>
                  <a:ext cx="751320" cy="1002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8" name=""/>
                <p:cNvGrpSpPr/>
                <p:nvPr/>
              </p:nvGrpSpPr>
              <p:grpSpPr>
                <a:xfrm>
                  <a:off x="6756120" y="540000"/>
                  <a:ext cx="750960" cy="1001880"/>
                  <a:chOff x="6756120" y="540000"/>
                  <a:chExt cx="750960" cy="1001880"/>
                </a:xfrm>
              </p:grpSpPr>
              <p:sp>
                <p:nvSpPr>
                  <p:cNvPr id="2309" name=""/>
                  <p:cNvSpPr/>
                  <p:nvPr/>
                </p:nvSpPr>
                <p:spPr>
                  <a:xfrm>
                    <a:off x="6803640" y="540000"/>
                    <a:ext cx="655920" cy="100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Cadenz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6756120" y="540000"/>
                    <a:ext cx="750960" cy="100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1" name=""/>
              <p:cNvGrpSpPr/>
              <p:nvPr/>
            </p:nvGrpSpPr>
            <p:grpSpPr>
              <a:xfrm>
                <a:off x="7508160" y="540000"/>
                <a:ext cx="1270800" cy="1002240"/>
                <a:chOff x="7508160" y="540000"/>
                <a:chExt cx="1270800" cy="1002240"/>
              </a:xfrm>
            </p:grpSpPr>
            <p:sp>
              <p:nvSpPr>
                <p:cNvPr id="2312" name=""/>
                <p:cNvSpPr/>
                <p:nvPr/>
              </p:nvSpPr>
              <p:spPr>
                <a:xfrm>
                  <a:off x="7508160" y="540000"/>
                  <a:ext cx="1270800" cy="1002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3" name=""/>
                <p:cNvGrpSpPr/>
                <p:nvPr/>
              </p:nvGrpSpPr>
              <p:grpSpPr>
                <a:xfrm>
                  <a:off x="7508160" y="540000"/>
                  <a:ext cx="1270440" cy="1001880"/>
                  <a:chOff x="7508160" y="540000"/>
                  <a:chExt cx="1270440" cy="1001880"/>
                </a:xfrm>
              </p:grpSpPr>
              <p:sp>
                <p:nvSpPr>
                  <p:cNvPr id="2314" name=""/>
                  <p:cNvSpPr/>
                  <p:nvPr/>
                </p:nvSpPr>
                <p:spPr>
                  <a:xfrm>
                    <a:off x="7555320" y="540000"/>
                    <a:ext cx="1175400" cy="10018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80"/>
                        </a:solidFill>
                        <a:latin typeface="Verdana"/>
                        <a:ea typeface="Arial Unicode MS"/>
                      </a:rPr>
                      <a:t>Cute perilesiona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7508160" y="540000"/>
                    <a:ext cx="1270440" cy="100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6" name=""/>
              <p:cNvGrpSpPr/>
              <p:nvPr/>
            </p:nvGrpSpPr>
            <p:grpSpPr>
              <a:xfrm>
                <a:off x="538200" y="1542600"/>
                <a:ext cx="583200" cy="828000"/>
                <a:chOff x="538200" y="1542600"/>
                <a:chExt cx="583200" cy="82800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585360" y="1542600"/>
                  <a:ext cx="48852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38200" y="1542600"/>
                  <a:ext cx="583200" cy="82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1121760" y="1542600"/>
                <a:ext cx="1194120" cy="828000"/>
                <a:chOff x="1121760" y="1542600"/>
                <a:chExt cx="1194120" cy="82800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1168920" y="1542600"/>
                  <a:ext cx="109944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_________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1121760" y="1542600"/>
                  <a:ext cx="1194120" cy="82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"/>
              <p:cNvGrpSpPr/>
              <p:nvPr/>
            </p:nvGrpSpPr>
            <p:grpSpPr>
              <a:xfrm>
                <a:off x="2316600" y="1542600"/>
                <a:ext cx="705600" cy="828000"/>
                <a:chOff x="2316600" y="1542600"/>
                <a:chExt cx="705600" cy="828000"/>
              </a:xfrm>
            </p:grpSpPr>
            <p:sp>
              <p:nvSpPr>
                <p:cNvPr id="2323" name=""/>
                <p:cNvSpPr/>
                <p:nvPr/>
              </p:nvSpPr>
              <p:spPr>
                <a:xfrm>
                  <a:off x="2364120" y="1542600"/>
                  <a:ext cx="61020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316600" y="1542600"/>
                  <a:ext cx="705600" cy="82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"/>
              <p:cNvGrpSpPr/>
              <p:nvPr/>
            </p:nvGrpSpPr>
            <p:grpSpPr>
              <a:xfrm>
                <a:off x="3022560" y="1542600"/>
                <a:ext cx="1072080" cy="828000"/>
                <a:chOff x="3022560" y="1542600"/>
                <a:chExt cx="1072080" cy="82800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3069720" y="1542600"/>
                  <a:ext cx="97704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022560" y="1542600"/>
                  <a:ext cx="1072080" cy="82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"/>
              <p:cNvGrpSpPr/>
              <p:nvPr/>
            </p:nvGrpSpPr>
            <p:grpSpPr>
              <a:xfrm>
                <a:off x="4095360" y="1542600"/>
                <a:ext cx="2660400" cy="828000"/>
                <a:chOff x="4095360" y="1542600"/>
                <a:chExt cx="2660400" cy="82800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4142520" y="1542600"/>
                  <a:ext cx="256572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Nude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095360" y="1542600"/>
                  <a:ext cx="2660400" cy="82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1" name=""/>
              <p:cNvGrpSpPr/>
              <p:nvPr/>
            </p:nvGrpSpPr>
            <p:grpSpPr>
              <a:xfrm>
                <a:off x="6756120" y="1542600"/>
                <a:ext cx="751320" cy="828000"/>
                <a:chOff x="6756120" y="1542600"/>
                <a:chExt cx="751320" cy="828000"/>
              </a:xfrm>
            </p:grpSpPr>
            <p:sp>
              <p:nvSpPr>
                <p:cNvPr id="2332" name=""/>
                <p:cNvSpPr/>
                <p:nvPr/>
              </p:nvSpPr>
              <p:spPr>
                <a:xfrm>
                  <a:off x="6803640" y="1542600"/>
                  <a:ext cx="65592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7g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6756120" y="1542600"/>
                  <a:ext cx="751320" cy="82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4" name=""/>
              <p:cNvGrpSpPr/>
              <p:nvPr/>
            </p:nvGrpSpPr>
            <p:grpSpPr>
              <a:xfrm>
                <a:off x="7508160" y="1542600"/>
                <a:ext cx="1270800" cy="828000"/>
                <a:chOff x="7508160" y="1542600"/>
                <a:chExt cx="1270800" cy="828000"/>
              </a:xfrm>
            </p:grpSpPr>
            <p:sp>
              <p:nvSpPr>
                <p:cNvPr id="2335" name=""/>
                <p:cNvSpPr/>
                <p:nvPr/>
              </p:nvSpPr>
              <p:spPr>
                <a:xfrm>
                  <a:off x="7555320" y="1542600"/>
                  <a:ext cx="1175760" cy="82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Ossido di zin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7508160" y="1542600"/>
                  <a:ext cx="1270800" cy="82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7" name=""/>
              <p:cNvGrpSpPr/>
              <p:nvPr/>
            </p:nvGrpSpPr>
            <p:grpSpPr>
              <a:xfrm>
                <a:off x="538200" y="2371320"/>
                <a:ext cx="583200" cy="3182760"/>
                <a:chOff x="538200" y="2371320"/>
                <a:chExt cx="583200" cy="3182760"/>
              </a:xfrm>
            </p:grpSpPr>
            <p:sp>
              <p:nvSpPr>
                <p:cNvPr id="2338" name=""/>
                <p:cNvSpPr/>
                <p:nvPr/>
              </p:nvSpPr>
              <p:spPr>
                <a:xfrm>
                  <a:off x="585360" y="2371320"/>
                  <a:ext cx="488520" cy="318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II</a:t>
                  </a:r>
                  <a:r>
                    <a:rPr b="1" lang="en-US" sz="8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38200" y="2371320"/>
                  <a:ext cx="583200" cy="318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1121760" y="2371320"/>
                <a:ext cx="1194120" cy="1002240"/>
                <a:chOff x="1121760" y="2371320"/>
                <a:chExt cx="1194120" cy="100224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1168920" y="2371320"/>
                  <a:ext cx="109944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 essuda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1121760" y="2371320"/>
                  <a:ext cx="119412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3" name=""/>
              <p:cNvGrpSpPr/>
              <p:nvPr/>
            </p:nvGrpSpPr>
            <p:grpSpPr>
              <a:xfrm>
                <a:off x="2316600" y="2371320"/>
                <a:ext cx="705600" cy="1002240"/>
                <a:chOff x="2316600" y="2371320"/>
                <a:chExt cx="705600" cy="100224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2364120" y="2371320"/>
                  <a:ext cx="61020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2316600" y="2371320"/>
                  <a:ext cx="70560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6" name=""/>
              <p:cNvGrpSpPr/>
              <p:nvPr/>
            </p:nvGrpSpPr>
            <p:grpSpPr>
              <a:xfrm>
                <a:off x="3022560" y="2371320"/>
                <a:ext cx="1072080" cy="1002240"/>
                <a:chOff x="3022560" y="2371320"/>
                <a:chExt cx="1072080" cy="1002240"/>
              </a:xfrm>
            </p:grpSpPr>
            <p:sp>
              <p:nvSpPr>
                <p:cNvPr id="2347" name=""/>
                <p:cNvSpPr/>
                <p:nvPr/>
              </p:nvSpPr>
              <p:spPr>
                <a:xfrm>
                  <a:off x="3069720" y="2371320"/>
                  <a:ext cx="97704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 </a:t>
                  </a: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022560" y="2371320"/>
                  <a:ext cx="107208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4095360" y="2371320"/>
                <a:ext cx="2660400" cy="1002240"/>
                <a:chOff x="4095360" y="2371320"/>
                <a:chExt cx="2660400" cy="100224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4142520" y="2371320"/>
                  <a:ext cx="256572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epilex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095360" y="2371320"/>
                  <a:ext cx="266040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6756120" y="2371320"/>
                <a:ext cx="751320" cy="1002240"/>
                <a:chOff x="6756120" y="2371320"/>
                <a:chExt cx="751320" cy="100224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6803640" y="2371320"/>
                  <a:ext cx="65592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7g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6756120" y="2371320"/>
                  <a:ext cx="75132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7508160" y="2371320"/>
                <a:ext cx="1270800" cy="1002240"/>
                <a:chOff x="7508160" y="2371320"/>
                <a:chExt cx="1270800" cy="100224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7555320" y="2371320"/>
                  <a:ext cx="117576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Ossido di zin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7508160" y="2371320"/>
                  <a:ext cx="127080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1121760" y="3374280"/>
                <a:ext cx="1194120" cy="1002240"/>
                <a:chOff x="1121760" y="3374280"/>
                <a:chExt cx="1194120" cy="100224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1168920" y="3374280"/>
                  <a:ext cx="109944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enza essuda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1121760" y="3374280"/>
                  <a:ext cx="119412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"/>
              <p:cNvGrpSpPr/>
              <p:nvPr/>
            </p:nvGrpSpPr>
            <p:grpSpPr>
              <a:xfrm>
                <a:off x="2316600" y="3374280"/>
                <a:ext cx="705600" cy="1002240"/>
                <a:chOff x="2316600" y="3374280"/>
                <a:chExt cx="705600" cy="100224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2364120" y="3374280"/>
                  <a:ext cx="61020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2316600" y="3374280"/>
                  <a:ext cx="70560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3022560" y="3374280"/>
                <a:ext cx="1072080" cy="1002240"/>
                <a:chOff x="3022560" y="3374280"/>
                <a:chExt cx="1072080" cy="100224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3069720" y="3374280"/>
                  <a:ext cx="97704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 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022560" y="3374280"/>
                  <a:ext cx="107208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4095360" y="3374280"/>
                <a:ext cx="2660400" cy="1002240"/>
                <a:chOff x="4095360" y="3374280"/>
                <a:chExt cx="2660400" cy="100224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4142520" y="3374280"/>
                  <a:ext cx="256572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Atrauman + Hydrofi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095360" y="3374280"/>
                  <a:ext cx="266040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6756120" y="3374280"/>
                <a:ext cx="751320" cy="1002240"/>
                <a:chOff x="6756120" y="3374280"/>
                <a:chExt cx="751320" cy="100224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6803640" y="3374280"/>
                  <a:ext cx="65592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7g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6756120" y="3374280"/>
                  <a:ext cx="75132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7508160" y="3374280"/>
                <a:ext cx="1270800" cy="1002240"/>
                <a:chOff x="7508160" y="3374280"/>
                <a:chExt cx="1270800" cy="100224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7555320" y="3374280"/>
                  <a:ext cx="1175760" cy="10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7508160" y="3374280"/>
                  <a:ext cx="1270800" cy="100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121760" y="4377240"/>
                <a:ext cx="1194120" cy="1176840"/>
                <a:chOff x="1121760" y="4377240"/>
                <a:chExt cx="1194120" cy="117684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1168920" y="4377240"/>
                  <a:ext cx="1099440" cy="11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Flitt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121760" y="4377240"/>
                  <a:ext cx="1194120" cy="117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9" name=""/>
              <p:cNvGrpSpPr/>
              <p:nvPr/>
            </p:nvGrpSpPr>
            <p:grpSpPr>
              <a:xfrm>
                <a:off x="2316600" y="4377240"/>
                <a:ext cx="705600" cy="1176840"/>
                <a:chOff x="2316600" y="4377240"/>
                <a:chExt cx="705600" cy="117684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2364120" y="4377240"/>
                  <a:ext cx="610200" cy="11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316600" y="4377240"/>
                  <a:ext cx="705600" cy="117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3022560" y="4377240"/>
                <a:ext cx="1072080" cy="1176840"/>
                <a:chOff x="3022560" y="4377240"/>
                <a:chExt cx="1072080" cy="117684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3069720" y="4377240"/>
                  <a:ext cx="977040" cy="11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Sol. Fisiol. 37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3022560" y="4377240"/>
                  <a:ext cx="1072080" cy="117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5" name=""/>
              <p:cNvGrpSpPr/>
              <p:nvPr/>
            </p:nvGrpSpPr>
            <p:grpSpPr>
              <a:xfrm>
                <a:off x="4095360" y="4377240"/>
                <a:ext cx="2660400" cy="1176840"/>
                <a:chOff x="4095360" y="4377240"/>
                <a:chExt cx="2660400" cy="1176840"/>
              </a:xfrm>
            </p:grpSpPr>
            <p:sp>
              <p:nvSpPr>
                <p:cNvPr id="2386" name=""/>
                <p:cNvSpPr/>
                <p:nvPr/>
              </p:nvSpPr>
              <p:spPr>
                <a:xfrm>
                  <a:off x="4142520" y="4377240"/>
                  <a:ext cx="2565720" cy="11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Forare con tecnica asettica senza rimozione del tett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Medicare con Aquace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4095360" y="4377240"/>
                  <a:ext cx="2660400" cy="117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6756120" y="4377240"/>
                <a:ext cx="751320" cy="1176840"/>
                <a:chOff x="6756120" y="4377240"/>
                <a:chExt cx="751320" cy="117684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6803640" y="4377240"/>
                  <a:ext cx="655920" cy="11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7g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756120" y="4377240"/>
                  <a:ext cx="751320" cy="117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7508160" y="4377240"/>
                <a:ext cx="1270800" cy="1176840"/>
                <a:chOff x="7508160" y="4377240"/>
                <a:chExt cx="1270800" cy="117684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7555320" y="4377240"/>
                  <a:ext cx="1175760" cy="11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Verdana"/>
                      <a:ea typeface="Arial Unicode MS"/>
                    </a:rPr>
                    <a:t>Connettivina c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508160" y="4377240"/>
                  <a:ext cx="1270800" cy="117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4" name=""/>
            <p:cNvSpPr/>
            <p:nvPr/>
          </p:nvSpPr>
          <p:spPr>
            <a:xfrm>
              <a:off x="533520" y="533520"/>
              <a:ext cx="825120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DC86-C699-4E9C-852A-AAD69D23B84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A97332B-0D8C-488D-BC5F-7DB0A4ED08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adice</cp:lastModifiedBy>
  <dcterms:modified xsi:type="dcterms:W3CDTF">2010-04-19T13:52:55Z</dcterms:modified>
  <cp:revision>43</cp:revision>
  <dc:subject/>
  <dc:title>Presentazione di PowerPoint</dc:title>
</cp:coreProperties>
</file>